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media/image22.wmf" ContentType="image/x-wmf"/>
  <Override PartName="/ppt/media/image19.png" ContentType="image/png"/>
  <Override PartName="/ppt/media/image26.jpeg" ContentType="image/jpeg"/>
  <Override PartName="/ppt/media/image20.wmf" ContentType="image/x-wmf"/>
  <Override PartName="/ppt/media/image32.jpeg" ContentType="image/jpeg"/>
  <Override PartName="/ppt/media/image2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28.png" ContentType="image/png"/>
  <Override PartName="/ppt/media/image38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jpeg" ContentType="image/jpeg"/>
  <Override PartName="/ppt/media/image33.png" ContentType="image/png"/>
  <Override PartName="/ppt/media/image36.jpeg" ContentType="image/jpeg"/>
  <Override PartName="/ppt/media/image37.jpeg" ContentType="image/jpeg"/>
  <Override PartName="/ppt/media/image8.wmf" ContentType="image/x-wmf"/>
  <Override PartName="/ppt/media/image39.jpeg" ContentType="image/jpeg"/>
  <Override PartName="/ppt/media/image4.wmf" ContentType="image/x-wmf"/>
  <Override PartName="/ppt/media/image35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12.wmf" ContentType="image/x-wmf"/>
  <Override PartName="/ppt/media/image34.jpeg" ContentType="image/jpeg"/>
  <Override PartName="/ppt/media/image7.png" ContentType="image/png"/>
  <Override PartName="/ppt/media/image41.jpeg" ContentType="image/jpeg"/>
  <Override PartName="/ppt/media/image15.wmf" ContentType="image/x-wmf"/>
  <Override PartName="/ppt/media/image31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606240" y="744120"/>
            <a:ext cx="55846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70E-E8D2-4E62-8CE7-5D903B0B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7E2-22F0-47F6-9DA1-E110EA4A8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627120" y="762120"/>
            <a:ext cx="5600520" cy="373356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23400" y="4723920"/>
            <a:ext cx="5002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4823-0997-42E0-BB72-01CFDA029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6D7D-EDAF-4861-820B-C3485990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5504040" y="623736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501 – Measurement of Hazardous Substanc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5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asurement of Hazardous Subst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including Risk Assessm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660680" y="5000760"/>
            <a:ext cx="664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le of Air or Grab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0600" y="1173240"/>
            <a:ext cx="9648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ly-evacuated prior to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ly-by using a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cuated contai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 bott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ri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w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tion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asure pea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peri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le of Air or Grab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er prepa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ation eg Suma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s ide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veries dependent on humidity, chemical reactivity &amp; inertness of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 to ppb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fill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le of Air or Grab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bags e.g. Tedlar or other poly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ed in seconds or trickle fi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pm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143680" y="5373720"/>
            <a:ext cx="38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6" descr=""/>
          <p:cNvPicPr/>
          <p:nvPr/>
        </p:nvPicPr>
        <p:blipFill>
          <a:blip r:embed="rId1"/>
          <a:stretch/>
        </p:blipFill>
        <p:spPr>
          <a:xfrm>
            <a:off x="2970360" y="2786040"/>
            <a:ext cx="64515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le of Air or Grab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loss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sorption onto ba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g prepa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g fi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le of Air or Grab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052280"/>
            <a:ext cx="97520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bags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use – cheap enough, but 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re use purge x 3 at le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bl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overfill bag will take 3 times stated vol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90600" y="119700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sorption – sorbent tubes e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co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ica g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ous polymers – Tenax, Poropaks e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ed phase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3" descr=""/>
          <p:cNvPicPr/>
          <p:nvPr/>
        </p:nvPicPr>
        <p:blipFill>
          <a:blip r:embed="rId1"/>
          <a:stretch/>
        </p:blipFill>
        <p:spPr>
          <a:xfrm>
            <a:off x="966960" y="1133640"/>
            <a:ext cx="3914640" cy="2867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2"/>
          <a:stretch/>
        </p:blipFill>
        <p:spPr>
          <a:xfrm>
            <a:off x="6151680" y="1484280"/>
            <a:ext cx="1663560" cy="17272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Fig%208"/>
          <p:cNvPicPr/>
          <p:nvPr/>
        </p:nvPicPr>
        <p:blipFill>
          <a:blip r:embed="rId3"/>
          <a:stretch/>
        </p:blipFill>
        <p:spPr>
          <a:xfrm>
            <a:off x="5396040" y="3213000"/>
            <a:ext cx="4140000" cy="288288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6"/>
          <p:cNvSpPr/>
          <p:nvPr/>
        </p:nvSpPr>
        <p:spPr>
          <a:xfrm>
            <a:off x="318960" y="4292640"/>
            <a:ext cx="47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volume pump –50 – 200 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1214280" y="396864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Airmet Scientific-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6000840" y="600084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Airmet Scientific-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8215200" y="2428920"/>
            <a:ext cx="18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3M Australia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Sampling (cont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" descr="GV4"/>
          <p:cNvPicPr/>
          <p:nvPr/>
        </p:nvPicPr>
        <p:blipFill>
          <a:blip r:embed="rId1"/>
          <a:stretch/>
        </p:blipFill>
        <p:spPr>
          <a:xfrm>
            <a:off x="4280040" y="1341360"/>
            <a:ext cx="2879640" cy="45720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4"/>
          <p:cNvSpPr/>
          <p:nvPr/>
        </p:nvSpPr>
        <p:spPr>
          <a:xfrm>
            <a:off x="750960" y="198900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e H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715160" y="5929200"/>
            <a:ext cx="21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ST for ani"/>
          <p:cNvPicPr/>
          <p:nvPr/>
        </p:nvPicPr>
        <p:blipFill>
          <a:blip r:embed="rId1"/>
          <a:stretch/>
        </p:blipFill>
        <p:spPr>
          <a:xfrm>
            <a:off x="1457280" y="2819520"/>
            <a:ext cx="255600" cy="1917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27040" y="115560"/>
            <a:ext cx="82612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62680" y="1197000"/>
            <a:ext cx="462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5" descr="ST train 2"/>
          <p:cNvPicPr/>
          <p:nvPr/>
        </p:nvPicPr>
        <p:blipFill>
          <a:blip r:embed="rId2"/>
          <a:stretch/>
        </p:blipFill>
        <p:spPr>
          <a:xfrm>
            <a:off x="365040" y="1901880"/>
            <a:ext cx="4195800" cy="419112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6"/>
          <p:cNvSpPr/>
          <p:nvPr/>
        </p:nvSpPr>
        <p:spPr>
          <a:xfrm>
            <a:off x="5467320" y="1844640"/>
            <a:ext cx="462924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 off both ends of a sorbent tube (2mm dia, or ½ dia of 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ube in low flow adapter/tube h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sure tube is in correct way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1886040" y="3200400"/>
            <a:ext cx="171360" cy="1828800"/>
          </a:xfrm>
          <a:prstGeom prst="upDownArrow">
            <a:avLst>
              <a:gd name="adj1" fmla="val 50000"/>
              <a:gd name="adj2" fmla="val 2124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679320" y="112536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/Vapour Sampling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830240" y="6143760"/>
            <a:ext cx="45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21880" y="333000"/>
            <a:ext cx="929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king the Sample</a:t>
            </a:r>
            <a:br>
              <a:rPr sz="3200"/>
            </a:b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171960" y="1904760"/>
            <a:ext cx="6943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ample train on pers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4" descr="Cycman"/>
          <p:cNvPicPr/>
          <p:nvPr/>
        </p:nvPicPr>
        <p:blipFill>
          <a:blip r:embed="rId1"/>
          <a:stretch/>
        </p:blipFill>
        <p:spPr>
          <a:xfrm>
            <a:off x="1012680" y="1341360"/>
            <a:ext cx="4991400" cy="46483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5486400" y="2514600"/>
            <a:ext cx="454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Humanst521 BT"/>
              </a:rPr>
              <a:t>Start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Humanst521 BT"/>
              </a:rPr>
              <a:t>Note sta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Humanst521 BT"/>
              </a:rPr>
              <a:t>At end of s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Humanst521 BT"/>
              </a:rPr>
              <a:t>Note sto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072200" y="5437080"/>
            <a:ext cx="2500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St sample train"/>
          <p:cNvPicPr/>
          <p:nvPr/>
        </p:nvPicPr>
        <p:blipFill>
          <a:blip r:embed="rId2"/>
          <a:stretch/>
        </p:blipFill>
        <p:spPr>
          <a:xfrm>
            <a:off x="2071800" y="2714760"/>
            <a:ext cx="89208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Learning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18600" y="1409760"/>
            <a:ext cx="972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overnight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the types of sampling techniques used for gas &amp; vapour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principles of workplace monitoring for gases &amp; vapours including calibration of equipment and calculation of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direct reading instrumentation &amp; discuss limi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Multi tubes2"/>
          <p:cNvPicPr/>
          <p:nvPr/>
        </p:nvPicPr>
        <p:blipFill>
          <a:blip r:embed="rId1"/>
          <a:stretch/>
        </p:blipFill>
        <p:spPr>
          <a:xfrm>
            <a:off x="1571760" y="1360440"/>
            <a:ext cx="1350720" cy="3711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Multi tubes3"/>
          <p:cNvPicPr/>
          <p:nvPr/>
        </p:nvPicPr>
        <p:blipFill>
          <a:blip r:embed="rId2"/>
          <a:stretch/>
        </p:blipFill>
        <p:spPr>
          <a:xfrm>
            <a:off x="2479680" y="2324160"/>
            <a:ext cx="1347840" cy="2668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Multi tubes1"/>
          <p:cNvPicPr/>
          <p:nvPr/>
        </p:nvPicPr>
        <p:blipFill>
          <a:blip r:embed="rId3"/>
          <a:stretch/>
        </p:blipFill>
        <p:spPr>
          <a:xfrm>
            <a:off x="822240" y="2438280"/>
            <a:ext cx="1130400" cy="24415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Multi tube holder"/>
          <p:cNvPicPr/>
          <p:nvPr/>
        </p:nvPicPr>
        <p:blipFill>
          <a:blip r:embed="rId4"/>
          <a:stretch/>
        </p:blipFill>
        <p:spPr>
          <a:xfrm>
            <a:off x="1411200" y="4581360"/>
            <a:ext cx="1716120" cy="190512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7"/>
          <p:cNvSpPr/>
          <p:nvPr/>
        </p:nvSpPr>
        <p:spPr>
          <a:xfrm>
            <a:off x="4824360" y="277344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type pumps al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 to 4 tubes at the same time – either running at different flow rates or with differen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4711680" y="1341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 Tub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3271680" y="595008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ample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3487680" y="486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way adaptor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072200" y="5437080"/>
            <a:ext cx="2500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orp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750960" y="1484280"/>
            <a:ext cx="8353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606600" y="1268280"/>
            <a:ext cx="93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ption – gas or vapour collected by passing it through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qu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ere it is collected by dissolution in the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1614600" y="5013360"/>
            <a:ext cx="216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1471680" y="504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i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11" descr="New Fig 9.4.JPG"/>
          <p:cNvPicPr/>
          <p:nvPr/>
        </p:nvPicPr>
        <p:blipFill>
          <a:blip r:embed="rId1"/>
          <a:stretch/>
        </p:blipFill>
        <p:spPr>
          <a:xfrm>
            <a:off x="3286080" y="2357280"/>
            <a:ext cx="3784680" cy="37594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12"/>
          <p:cNvSpPr/>
          <p:nvPr/>
        </p:nvSpPr>
        <p:spPr>
          <a:xfrm>
            <a:off x="7715160" y="5072040"/>
            <a:ext cx="24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orption - Impinger Sampling T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2048040" y="1268280"/>
            <a:ext cx="6553080" cy="415296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7"/>
          <p:cNvSpPr/>
          <p:nvPr/>
        </p:nvSpPr>
        <p:spPr>
          <a:xfrm>
            <a:off x="7072200" y="5437080"/>
            <a:ext cx="2500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orp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0600" y="1125360"/>
            <a:ext cx="964872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effici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and number of bub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of liqu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ing rate – typically up to 1 L/m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carry over or liquid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in se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keep samplers upr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sampling awkward &amp; difficu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orp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ption derivatisation often used f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 collected in water or bisulph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ides of nitrogen – sulphanilic 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zone – potassium iod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uene diisocyanate – 1-(2- methoxy phenyl) piperazine in tolu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sorp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or vapour is collected by passing it o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etained on the surface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orbent me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Gasintro"/>
          <p:cNvPicPr/>
          <p:nvPr/>
        </p:nvPicPr>
        <p:blipFill>
          <a:blip r:embed="rId1"/>
          <a:stretch/>
        </p:blipFill>
        <p:spPr>
          <a:xfrm>
            <a:off x="2911320" y="3535200"/>
            <a:ext cx="4361040" cy="263052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5"/>
          <p:cNvSpPr/>
          <p:nvPr/>
        </p:nvSpPr>
        <p:spPr>
          <a:xfrm>
            <a:off x="6222960" y="497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orbent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1111320" y="4221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up sorbent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2622600" y="4654440"/>
            <a:ext cx="1225440" cy="43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 flipH="1" flipV="1">
            <a:off x="5430960" y="5013000"/>
            <a:ext cx="72072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H="1">
            <a:off x="7303680" y="2997360"/>
            <a:ext cx="93492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6512040" y="263700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 of sampl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7072200" y="5437080"/>
            <a:ext cx="2500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sorp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Brakthro"/>
          <p:cNvPicPr/>
          <p:nvPr/>
        </p:nvPicPr>
        <p:blipFill>
          <a:blip r:embed="rId1"/>
          <a:stretch/>
        </p:blipFill>
        <p:spPr>
          <a:xfrm>
            <a:off x="2550960" y="1790640"/>
            <a:ext cx="5899320" cy="33368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drops1Brakthro"/>
          <p:cNvPicPr/>
          <p:nvPr/>
        </p:nvPicPr>
        <p:blipFill>
          <a:blip r:embed="rId2"/>
          <a:stretch/>
        </p:blipFill>
        <p:spPr>
          <a:xfrm>
            <a:off x="3949560" y="3213000"/>
            <a:ext cx="473040" cy="785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drops1Brakthro"/>
          <p:cNvPicPr/>
          <p:nvPr/>
        </p:nvPicPr>
        <p:blipFill>
          <a:blip r:embed="rId3"/>
          <a:stretch/>
        </p:blipFill>
        <p:spPr>
          <a:xfrm>
            <a:off x="7262640" y="3284640"/>
            <a:ext cx="473400" cy="7858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drops2Brakthro"/>
          <p:cNvPicPr/>
          <p:nvPr/>
        </p:nvPicPr>
        <p:blipFill>
          <a:blip r:embed="rId4"/>
          <a:stretch/>
        </p:blipFill>
        <p:spPr>
          <a:xfrm>
            <a:off x="7151760" y="5300640"/>
            <a:ext cx="584280" cy="2826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534960" y="1268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7072200" y="5734080"/>
            <a:ext cx="2500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sorp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sampl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remove tu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ap the tu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tore, submit 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 of s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forget to send a blank with samples to labora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730080" y="1479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5" descr="Tube in"/>
          <p:cNvPicPr/>
          <p:nvPr/>
        </p:nvPicPr>
        <p:blipFill>
          <a:blip r:embed="rId1"/>
          <a:stretch/>
        </p:blipFill>
        <p:spPr>
          <a:xfrm>
            <a:off x="539640" y="3284640"/>
            <a:ext cx="4741920" cy="8395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Tube cap rt"/>
          <p:cNvPicPr/>
          <p:nvPr/>
        </p:nvPicPr>
        <p:blipFill>
          <a:blip r:embed="rId2"/>
          <a:stretch/>
        </p:blipFill>
        <p:spPr>
          <a:xfrm>
            <a:off x="4881600" y="3300480"/>
            <a:ext cx="1054080" cy="7048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Tube cap rt"/>
          <p:cNvPicPr/>
          <p:nvPr/>
        </p:nvPicPr>
        <p:blipFill>
          <a:blip r:embed="rId3"/>
          <a:stretch/>
        </p:blipFill>
        <p:spPr>
          <a:xfrm>
            <a:off x="471600" y="3357720"/>
            <a:ext cx="1143000" cy="76500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7"/>
          <p:cNvSpPr/>
          <p:nvPr/>
        </p:nvSpPr>
        <p:spPr>
          <a:xfrm>
            <a:off x="6572160" y="6019920"/>
            <a:ext cx="2500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ated Charco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90600" y="981000"/>
            <a:ext cx="96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ve network of internal pores with very large surface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non polar and preferentially absorb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c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her than polar comp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 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desor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ated Charcoal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recovery for reactive compounds, polar compounds such as amines &amp; phenols, aldehydes, low molecular weight alcohols &amp; low boiling point compounds such as ammonia, ethylene and methylene chlor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1357200" y="2571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for Gases and Vap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lica G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0600" y="836640"/>
            <a:ext cx="96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for polar substances such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raldehy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rganics which are hard to desorb from charco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inity for w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or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solvent such as water and methan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us Polymers &amp; Other Adsorb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90600" y="1125360"/>
            <a:ext cx="9648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gas &amp; vapour not collected effectively 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coal or poor recove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ax – low level pestic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AD 2 – for pestic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mosorb – pestic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apaks – polar character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lecular sie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risil for PC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urethane foam for pesticides, PN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mal Desor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0600" y="1052280"/>
            <a:ext cx="9648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seding 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sorption especially in Euro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orption e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tical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7591320" y="4941720"/>
            <a:ext cx="1584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mal Desorp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4" descr="Fig%209"/>
          <p:cNvPicPr/>
          <p:nvPr/>
        </p:nvPicPr>
        <p:blipFill>
          <a:blip r:embed="rId1"/>
          <a:stretch/>
        </p:blipFill>
        <p:spPr>
          <a:xfrm>
            <a:off x="5635800" y="2060640"/>
            <a:ext cx="4403520" cy="316548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5"/>
          <p:cNvSpPr/>
          <p:nvPr/>
        </p:nvSpPr>
        <p:spPr>
          <a:xfrm>
            <a:off x="318960" y="1298520"/>
            <a:ext cx="5143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mal desorption tub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¼ inch OD x 3 ½  long stainless 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 packed with sorbent of ch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ageLok storage c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usion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ing of tubes prior /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6000840" y="571500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Markes International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mal Desorption Unit with GC/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3" descr="Fig%209"/>
          <p:cNvPicPr/>
          <p:nvPr/>
        </p:nvPicPr>
        <p:blipFill>
          <a:blip r:embed="rId1"/>
          <a:stretch/>
        </p:blipFill>
        <p:spPr>
          <a:xfrm>
            <a:off x="1974960" y="1341360"/>
            <a:ext cx="5689440" cy="37940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6"/>
          <p:cNvSpPr/>
          <p:nvPr/>
        </p:nvSpPr>
        <p:spPr>
          <a:xfrm>
            <a:off x="6000840" y="571500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Markes International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6000" y="184320"/>
            <a:ext cx="98964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on Efficiencies of Adsorption Tub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90600" y="836640"/>
            <a:ext cx="96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sorption reduced at higher temper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ompounds can migrate through b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 cool box, frid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free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coal has great affinity for water vap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on Efficiencie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ing flow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oo high insufficient residenc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n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correctly pack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concentrations / sampling times too long or other contaminants inc water vapour  are pre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xed Phase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id, liquid, aerosol and gas and vapour pha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zene Soluble Fraction of t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Particulate Mat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“Coke Oven Emission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ingers used for samp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pack isocyanate p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minium industry – fluorides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hydrofluoric aci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s g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ed Fil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0600" y="764640"/>
            <a:ext cx="964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impregnation including use for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cu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cyanat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or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az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90600" y="1356840"/>
            <a:ext cx="96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ck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–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ass of adsorbate collected in 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ampling time in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ross sectional area of the diffusion path in square 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iffusion coefficient for the adsorbate in air in square cm per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cond – available from manufacturer of the sampler for a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given chemi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ength of the diffusion path in cm (from porous membrane to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ampl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concentration of contaminant in ambient air in gram per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ubic 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AU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ncentration of contaminant just above the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dsorbent surface in gram per cubic 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- substance which is “air like’ but neither a solid or liquid at room temper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pour-the gaseous form of a substance which is a solid or liquid at room temper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1614600" y="1628640"/>
            <a:ext cx="6337080" cy="445788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4"/>
          <p:cNvSpPr/>
          <p:nvPr/>
        </p:nvSpPr>
        <p:spPr>
          <a:xfrm>
            <a:off x="6647040" y="6000840"/>
            <a:ext cx="29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HSE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4" descr="Fig%209"/>
          <p:cNvPicPr/>
          <p:nvPr/>
        </p:nvPicPr>
        <p:blipFill>
          <a:blip r:embed="rId1"/>
          <a:stretch/>
        </p:blipFill>
        <p:spPr>
          <a:xfrm>
            <a:off x="3000240" y="1428840"/>
            <a:ext cx="3175200" cy="31748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0"/>
          <p:cNvSpPr/>
          <p:nvPr/>
        </p:nvSpPr>
        <p:spPr>
          <a:xfrm>
            <a:off x="1182600" y="50846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contaminant on every brand of monitor has it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, fixed sampling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0"/>
          <p:cNvSpPr/>
          <p:nvPr/>
        </p:nvSpPr>
        <p:spPr>
          <a:xfrm>
            <a:off x="6715080" y="4572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3M Australia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90600" y="1125000"/>
            <a:ext cx="964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ump, batteries or tubing &amp; no calib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 we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exp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A &amp; ST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25% @ 95% conf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ed air movement 25 ft/min or 0.13m/s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be us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vapour pressure organics eg glutaraldehy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 compounds such as phenols &amp; am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ing rate” needs to be supplied by manufactur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Mon3"/>
          <p:cNvPicPr/>
          <p:nvPr/>
        </p:nvPicPr>
        <p:blipFill>
          <a:blip r:embed="rId1"/>
          <a:stretch/>
        </p:blipFill>
        <p:spPr>
          <a:xfrm>
            <a:off x="2766960" y="4149720"/>
            <a:ext cx="1444680" cy="17463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Mon6"/>
          <p:cNvPicPr/>
          <p:nvPr/>
        </p:nvPicPr>
        <p:blipFill>
          <a:blip r:embed="rId2"/>
          <a:stretch/>
        </p:blipFill>
        <p:spPr>
          <a:xfrm>
            <a:off x="5072040" y="4071960"/>
            <a:ext cx="1447920" cy="172404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7"/>
          <p:cNvSpPr/>
          <p:nvPr/>
        </p:nvSpPr>
        <p:spPr>
          <a:xfrm>
            <a:off x="679320" y="1125360"/>
            <a:ext cx="9144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sampling diffusion badges or tubes must be sealed and stored correctly prior to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ample with the 3M Organic Vapour Mon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charcoal layer: Fig 1- remove white film &amp; retaining ring. Fig 2 - Snap elution cap with plugs closed onto main body &amp; store prior to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4064040" y="1733400"/>
            <a:ext cx="597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3056040" y="5950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5572080" y="59500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048040" y="623736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2766960" y="6249960"/>
            <a:ext cx="13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6858000" y="578628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3M Australia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90600" y="119700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with the additional back up charcoal layer remove white film &amp; snap on elution cap as above (Fig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top &amp; bottom sections &amp; snap bottom cup into base of primary section (Fig 4) and snap the second elution cap with plugs closed onto the back up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4" descr="Mon5"/>
          <p:cNvPicPr/>
          <p:nvPr/>
        </p:nvPicPr>
        <p:blipFill>
          <a:blip r:embed="rId1"/>
          <a:stretch/>
        </p:blipFill>
        <p:spPr>
          <a:xfrm>
            <a:off x="3000240" y="4214880"/>
            <a:ext cx="1438560" cy="17334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5" descr="Mon6"/>
          <p:cNvPicPr/>
          <p:nvPr/>
        </p:nvPicPr>
        <p:blipFill>
          <a:blip r:embed="rId2"/>
          <a:stretch/>
        </p:blipFill>
        <p:spPr>
          <a:xfrm>
            <a:off x="4857840" y="4214880"/>
            <a:ext cx="1447560" cy="172404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6"/>
          <p:cNvSpPr/>
          <p:nvPr/>
        </p:nvSpPr>
        <p:spPr>
          <a:xfrm>
            <a:off x="3501000" y="6072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5358600" y="6072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7"/>
          <p:cNvSpPr/>
          <p:nvPr/>
        </p:nvSpPr>
        <p:spPr>
          <a:xfrm>
            <a:off x="6715080" y="561168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3M Australia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r Passive Sampling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0600" y="980640"/>
            <a:ext cx="964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an be typically sampled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ve range of organ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s with back up sections also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ly impregnated sorbents al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ylene ox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g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rganic merc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of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0600" y="764640"/>
            <a:ext cx="964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 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+ m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– m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100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x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mass analyte in front section in 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mass analyte in rear or back up section in 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mass of analyte in blank in 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is the desorption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is the volume in lit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of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4600" y="836280"/>
            <a:ext cx="9896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ion sampl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 (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µg) x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x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 = contaminant weight (µ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alculation constant  = 1000 / Sampling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 = recovery coeffic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= sampling time in min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 (ppm)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µg) x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x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W = contaminant weight (µ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 = calculation constant  = 1000 x 24.45 / Sampling rate x mol w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 = recovery coeffic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= sampling time in min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 Reading Instr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3214800" y="1268280"/>
            <a:ext cx="3441600" cy="4875480"/>
          </a:xfrm>
          <a:prstGeom prst="rect">
            <a:avLst/>
          </a:prstGeom>
          <a:ln w="0">
            <a:noFill/>
          </a:ln>
        </p:spPr>
      </p:pic>
      <p:sp>
        <p:nvSpPr>
          <p:cNvPr id="800" name="TextBox 3"/>
          <p:cNvSpPr/>
          <p:nvPr/>
        </p:nvSpPr>
        <p:spPr>
          <a:xfrm>
            <a:off x="7143840" y="596916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P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Object 3"/>
          <p:cNvGraphicFramePr/>
          <p:nvPr/>
        </p:nvGraphicFramePr>
        <p:xfrm>
          <a:off x="1471680" y="1844640"/>
          <a:ext cx="705636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1844640"/>
                    <a:ext cx="7056360" cy="4321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9" name="Text Box 5"/>
          <p:cNvSpPr/>
          <p:nvPr/>
        </p:nvSpPr>
        <p:spPr>
          <a:xfrm>
            <a:off x="463680" y="1125360"/>
            <a:ext cx="60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b or Instantaneous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8643960" y="5500800"/>
            <a:ext cx="16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; BP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 Reading Instru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0600" y="981000"/>
            <a:ext cx="96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different instr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different operating principles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chem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ion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e ion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luminesc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imet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of combu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 chromat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different gases &amp; vap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relatively simple to comp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s of Direct Reading Instru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96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mmediate data i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exposure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develop comprehensive evaluation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effectiveness of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ned sp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s of Direct Reading Instrumen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96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ifficult to sample chemic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 sens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 ala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ary instal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 testing of respi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90240" y="1125360"/>
            <a:ext cx="950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 ala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 sens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A, STEL &amp; Pea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63680" y="907560"/>
            <a:ext cx="9648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costly to purc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frequent and regular calib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specif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of inter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 sensi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intrinsically safe instruments in many pl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ite life, poisoning, lack of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 Sensitivity of Sens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18600" y="1268280"/>
            <a:ext cx="964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ross Sensitivity  (CO Sens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 3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 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 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-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-30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 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CN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9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500800" y="378612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ypical results from a challenge concentration of 100 ppm of each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Filters for Contaminant G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18960" y="1773000"/>
            <a:ext cx="85838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 315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 50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 30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-55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-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~ -30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 40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CN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40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90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&lt; 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3703680" y="119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fil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5573880" y="1197000"/>
            <a:ext cx="38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tered  (typ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Limi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90600" y="1196640"/>
            <a:ext cx="964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alytic combustion det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with other flammable g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soned b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sphate es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orocarb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gle Gas Moni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90600" y="116208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changeable sensors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,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,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C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L, TWA, p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"/>
          <p:cNvSpPr/>
          <p:nvPr/>
        </p:nvSpPr>
        <p:spPr>
          <a:xfrm>
            <a:off x="6215040" y="5929200"/>
            <a:ext cx="371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dustrial Scientific In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5" descr="Single Gas Monitor.jpg"/>
          <p:cNvPicPr/>
          <p:nvPr/>
        </p:nvPicPr>
        <p:blipFill>
          <a:blip r:embed="rId1"/>
          <a:stretch/>
        </p:blipFill>
        <p:spPr>
          <a:xfrm>
            <a:off x="6929280" y="264312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gas Moni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18600" y="1052640"/>
            <a:ext cx="964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– 6 g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changeable senso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L,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,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,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, 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Cl, P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L, TWA, p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" descr="itx_1.jpg"/>
          <p:cNvPicPr/>
          <p:nvPr/>
        </p:nvPicPr>
        <p:blipFill>
          <a:blip r:embed="rId1"/>
          <a:stretch/>
        </p:blipFill>
        <p:spPr>
          <a:xfrm>
            <a:off x="6286680" y="278604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1398600" y="1916280"/>
          <a:ext cx="7129440" cy="42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8600" y="1916280"/>
                    <a:ext cx="7129440" cy="4249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4" name="Text Box 4"/>
          <p:cNvSpPr/>
          <p:nvPr/>
        </p:nvSpPr>
        <p:spPr>
          <a:xfrm>
            <a:off x="463680" y="1197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Term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8643960" y="5500800"/>
            <a:ext cx="16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; BP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 Ba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18600" y="981000"/>
            <a:ext cx="964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year maintenance free sing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mon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s include CO,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,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them on &amp; let them run 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data logging 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5" descr="GB_Pro.jpg"/>
          <p:cNvPicPr/>
          <p:nvPr/>
        </p:nvPicPr>
        <p:blipFill>
          <a:blip r:embed="rId1"/>
          <a:stretch/>
        </p:blipFill>
        <p:spPr>
          <a:xfrm>
            <a:off x="7143840" y="30718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6"/>
          <p:cNvSpPr/>
          <p:nvPr/>
        </p:nvSpPr>
        <p:spPr>
          <a:xfrm>
            <a:off x="6215040" y="5715000"/>
            <a:ext cx="371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dustrial Scientific In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 Ionisation Detectors (PI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0600" y="1125360"/>
            <a:ext cx="964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t on lamp ionisation potent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 non specific VO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total hydrocarb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pecific eg benzene,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for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th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ed by humidity, dust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3" descr="2020.jpg"/>
          <p:cNvPicPr/>
          <p:nvPr/>
        </p:nvPicPr>
        <p:blipFill>
          <a:blip r:embed="rId1"/>
          <a:stretch/>
        </p:blipFill>
        <p:spPr>
          <a:xfrm>
            <a:off x="8001000" y="1427040"/>
            <a:ext cx="1500120" cy="3687840"/>
          </a:xfrm>
          <a:prstGeom prst="rect">
            <a:avLst/>
          </a:prstGeom>
          <a:ln w="0">
            <a:noFill/>
          </a:ln>
        </p:spPr>
      </p:pic>
      <p:sp>
        <p:nvSpPr>
          <p:cNvPr id="834" name="TextBox 4"/>
          <p:cNvSpPr/>
          <p:nvPr/>
        </p:nvSpPr>
        <p:spPr>
          <a:xfrm>
            <a:off x="6643800" y="542916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irmet Scientific-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e Ionisation Moni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0600" y="98100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, PID but fl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specific, broad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sensitive to humidity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contamin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response to some g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hydrogen (hazar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" descr="MicroFID.jpg"/>
          <p:cNvPicPr/>
          <p:nvPr/>
        </p:nvPicPr>
        <p:blipFill>
          <a:blip r:embed="rId1"/>
          <a:stretch/>
        </p:blipFill>
        <p:spPr>
          <a:xfrm>
            <a:off x="7358040" y="1143000"/>
            <a:ext cx="1833480" cy="450216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"/>
          <p:cNvSpPr/>
          <p:nvPr/>
        </p:nvSpPr>
        <p:spPr>
          <a:xfrm>
            <a:off x="6643800" y="582624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irmet Scientific-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ble Gas Chromato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0600" y="980640"/>
            <a:ext cx="964872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sel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depends on type of detector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instrument requi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ve operator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continuous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3" descr="PetroPro.jpg"/>
          <p:cNvPicPr/>
          <p:nvPr/>
        </p:nvPicPr>
        <p:blipFill>
          <a:blip r:embed="rId1"/>
          <a:stretch/>
        </p:blipFill>
        <p:spPr>
          <a:xfrm>
            <a:off x="6143760" y="3071880"/>
            <a:ext cx="3632040" cy="24256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4"/>
          <p:cNvSpPr/>
          <p:nvPr/>
        </p:nvSpPr>
        <p:spPr>
          <a:xfrm>
            <a:off x="6643800" y="568332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irmet Scientific-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-red Analy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vap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90600" y="11232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rcury Vapour Detector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90600" y="101772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ere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organic sol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d Fil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d film needs regular clea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enance &amp; Calib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Content Placeholder 4" descr="DS2_cluster_hi_nb_h.jpg"/>
          <p:cNvPicPr/>
          <p:nvPr/>
        </p:nvPicPr>
        <p:blipFill>
          <a:blip r:embed="rId1"/>
          <a:stretch/>
        </p:blipFill>
        <p:spPr>
          <a:xfrm>
            <a:off x="1785960" y="140976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5"/>
          <p:cNvSpPr/>
          <p:nvPr/>
        </p:nvSpPr>
        <p:spPr>
          <a:xfrm>
            <a:off x="6215040" y="5929200"/>
            <a:ext cx="371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dustrial Scientific In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8964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uidelines for Using Gas Detection Equip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90600" y="980640"/>
            <a:ext cx="9648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mp or challenge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ily before use, known concentration of test gas to ensure sensors working corr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instrument calibration, certified concentration of gas(es), regularly to ensure accuracy &amp; docu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services provides reassurance instruments repaired professionally &amp; calibrated  &amp; docu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ical Basic Instrument Che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90600" y="1052280"/>
            <a:ext cx="96487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appea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instrument is within calibration peri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instrument on and check battery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the instr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mp test (functionality test) instr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 the pea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Gas Atmosphe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0600" y="765000"/>
            <a:ext cx="964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Gas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prepared from high purity 5.0 Gases (99.99999%) or 6.0 gases (99.999999%) by weighing them into a gas cylinder of known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Gas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prepared volumetrically from these using gas mixing pumps or mass flow controll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Calgasbottles"/>
          <p:cNvPicPr/>
          <p:nvPr/>
        </p:nvPicPr>
        <p:blipFill>
          <a:blip r:embed="rId1"/>
          <a:stretch/>
        </p:blipFill>
        <p:spPr>
          <a:xfrm>
            <a:off x="1542960" y="4365720"/>
            <a:ext cx="1646280" cy="19429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5" descr="Gas Mixing Pump"/>
          <p:cNvPicPr/>
          <p:nvPr/>
        </p:nvPicPr>
        <p:blipFill>
          <a:blip r:embed="rId2"/>
          <a:stretch/>
        </p:blipFill>
        <p:spPr>
          <a:xfrm>
            <a:off x="5929200" y="4071960"/>
            <a:ext cx="3097440" cy="1994040"/>
          </a:xfrm>
          <a:prstGeom prst="rect">
            <a:avLst/>
          </a:prstGeom>
          <a:ln w="0">
            <a:noFill/>
          </a:ln>
        </p:spPr>
      </p:pic>
      <p:sp>
        <p:nvSpPr>
          <p:cNvPr id="858" name="TextBox 5"/>
          <p:cNvSpPr/>
          <p:nvPr/>
        </p:nvSpPr>
        <p:spPr>
          <a:xfrm>
            <a:off x="3571920" y="6143760"/>
            <a:ext cx="23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3"/>
          <p:cNvGraphicFramePr/>
          <p:nvPr/>
        </p:nvGraphicFramePr>
        <p:xfrm>
          <a:off x="1758960" y="1771560"/>
          <a:ext cx="662472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1771560"/>
                    <a:ext cx="6624720" cy="453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9" name="Text Box 4"/>
          <p:cNvSpPr/>
          <p:nvPr/>
        </p:nvSpPr>
        <p:spPr>
          <a:xfrm>
            <a:off x="390600" y="1125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8572680" y="5500800"/>
            <a:ext cx="16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; BP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Safet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90600" y="1123560"/>
            <a:ext cx="964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CEx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for use in explosive or Ex areas e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ound coal m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rol s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processing pl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 pipe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in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werage treatment pl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Safet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390600" y="2151000"/>
          <a:ext cx="9648720" cy="2575080"/>
        </p:xfrm>
        <a:graphic>
          <a:graphicData uri="http://schemas.openxmlformats.org/drawingml/2006/table">
            <a:tbl>
              <a:tblPr/>
              <a:tblGrid>
                <a:gridCol w="2665440"/>
                <a:gridCol w="2303280"/>
                <a:gridCol w="4680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es, vapours, m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sive atmosphere is 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dom or short 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3" name="Text Box 25"/>
          <p:cNvSpPr/>
          <p:nvPr/>
        </p:nvSpPr>
        <p:spPr>
          <a:xfrm>
            <a:off x="390600" y="13381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 of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4"/>
          <p:cNvSpPr/>
          <p:nvPr/>
        </p:nvSpPr>
        <p:spPr>
          <a:xfrm>
            <a:off x="6572160" y="5357880"/>
            <a:ext cx="30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TestSafe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Safet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90600" y="1846440"/>
            <a:ext cx="964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used under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ane &amp; coal d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used in other (ab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nd) hazardous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A - least readily ignited gases e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ane &amp; benze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B – more readily ignited gases e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ylene &amp; diethyl e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C – most readily ignited gases e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and acetyle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0600" y="1197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 or Explosiv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Safet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90600" y="98100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eratur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s exposed to dust less than 1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led against dust ingress less than 450°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2190600" y="2997360"/>
          <a:ext cx="6858000" cy="3078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permissible surface temp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TextBox 4"/>
          <p:cNvSpPr/>
          <p:nvPr/>
        </p:nvSpPr>
        <p:spPr>
          <a:xfrm>
            <a:off x="6357960" y="6072120"/>
            <a:ext cx="30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TestSafe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Safet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390600" y="2387520"/>
          <a:ext cx="9648720" cy="2481480"/>
        </p:xfrm>
        <a:graphic>
          <a:graphicData uri="http://schemas.openxmlformats.org/drawingml/2006/table">
            <a:tbl>
              <a:tblPr/>
              <a:tblGrid>
                <a:gridCol w="3313080"/>
                <a:gridCol w="63356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prote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for use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0, 20 (safe with up to 2 faul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1, 21 (safe with up to 1 faul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2, 22 ( safe under normal ope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4" name="Rectangle 20"/>
          <p:cNvSpPr/>
          <p:nvPr/>
        </p:nvSpPr>
        <p:spPr>
          <a:xfrm>
            <a:off x="396720" y="112536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s of Protection &amp;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4"/>
          <p:cNvSpPr/>
          <p:nvPr/>
        </p:nvSpPr>
        <p:spPr>
          <a:xfrm>
            <a:off x="6572160" y="5357880"/>
            <a:ext cx="30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TestSafe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insic Safety Mark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0600" y="907560"/>
            <a:ext cx="9648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mith Electron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odel T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x ia IIC T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ert 098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rial No. 876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ipment suitable for zone 0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IC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ipment is suitable for Gas Groups IIA,IIB,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4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ipment is suitable for gases with aut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gnition temp greater than 13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or Tubes - Colorimetric Tub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4"/>
          <p:cNvSpPr/>
          <p:nvPr/>
        </p:nvSpPr>
        <p:spPr>
          <a:xfrm>
            <a:off x="463680" y="1125360"/>
            <a:ext cx="93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in colour of a specific reactant when in contact with a particular gas or vap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6" descr="New Fig 9.11.JPG"/>
          <p:cNvPicPr/>
          <p:nvPr/>
        </p:nvPicPr>
        <p:blipFill>
          <a:blip r:embed="rId1"/>
          <a:stretch/>
        </p:blipFill>
        <p:spPr>
          <a:xfrm>
            <a:off x="1714680" y="2116080"/>
            <a:ext cx="3643200" cy="37180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7" descr=""/>
          <p:cNvPicPr/>
          <p:nvPr/>
        </p:nvPicPr>
        <p:blipFill>
          <a:blip r:embed="rId2"/>
          <a:stretch/>
        </p:blipFill>
        <p:spPr>
          <a:xfrm>
            <a:off x="6215040" y="2357280"/>
            <a:ext cx="1285920" cy="33577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8"/>
          <p:cNvSpPr/>
          <p:nvPr/>
        </p:nvSpPr>
        <p:spPr>
          <a:xfrm>
            <a:off x="6858000" y="5857920"/>
            <a:ext cx="32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Dräger Safety – </a:t>
            </a: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96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ly inexpensive &amp; 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 range of gases and vapours – approx 3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ediat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xpensive laboratory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used for spot che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eed for calib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eed for power or char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90600" y="119700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erences from other contamin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select correct tube &amp; correct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hould NOT be compared to TW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 stor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shelf l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ur Tubes / Badges Available F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18600" y="1125360"/>
            <a:ext cx="964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taneous short term measu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 measurements –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 measurements –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P syst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colour reaction, but with digital readout of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0600" y="11556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amp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Object 3"/>
          <p:cNvGraphicFramePr/>
          <p:nvPr/>
        </p:nvGraphicFramePr>
        <p:xfrm>
          <a:off x="1714680" y="1630440"/>
          <a:ext cx="6597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630440"/>
                    <a:ext cx="6597360" cy="4584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4" name="Text Box 4"/>
          <p:cNvSpPr/>
          <p:nvPr/>
        </p:nvSpPr>
        <p:spPr>
          <a:xfrm>
            <a:off x="463680" y="1125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4"/>
          <p:cNvSpPr/>
          <p:nvPr/>
        </p:nvSpPr>
        <p:spPr>
          <a:xfrm>
            <a:off x="8501040" y="5500800"/>
            <a:ext cx="16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; BP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 &amp; Vapour Practic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 and Vapour Practical -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18600" y="1052640"/>
            <a:ext cx="97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etho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quipmen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terpretation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our (4) exerc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alculation of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terpretation of data and report prep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rbent Tu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ppropriate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e sampling train with electronic flow 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/ generate organic vapo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“test” atmosp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ibrate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1280" y="188640"/>
            <a:ext cx="101109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 Reading Instr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ppropriate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limitations of instr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calibration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“test” atmosp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imetric Tub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ppropriate tube(s) and sampling pump measurement of organic vap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operation of sampling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“test” atmosp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concentration rea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usion OVM Bad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ppropriate diffusion badge for organic vap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badge for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“test” atmosp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de sampling and store collection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&amp; Interpretation of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workplace exposures from data provi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level of risk within the work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a short report. Discuss aspects such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strateg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issues with data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 of assessment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recommend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ther relevant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Today’s Learning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18600" y="1409760"/>
            <a:ext cx="972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overnight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the types of sampling techniques used for gas &amp; vapour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principles of workplace monitoring for gases &amp; vapours including calibration of equipment and calculation of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direct reading instrumentation &amp; discuss limi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of Gases and Vapou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ole of Air or Grab Sampling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ctive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dsor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ffusion or passive samp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rect reading instr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etector t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3:34:55Z</dcterms:created>
  <dc:creator>Brian Davies</dc:creator>
  <dc:description/>
  <dc:language>en-US</dc:language>
  <cp:lastModifiedBy>Roz Phillips</cp:lastModifiedBy>
  <dcterms:modified xsi:type="dcterms:W3CDTF">2024-02-15T13:24:42Z</dcterms:modified>
  <cp:revision>1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016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