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Text Box 83"/>
          <p:cNvSpPr/>
          <p:nvPr/>
        </p:nvSpPr>
        <p:spPr>
          <a:xfrm>
            <a:off x="735120" y="62578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58c"/>
                </a:solidFill>
                <a:latin typeface="Times New Roman"/>
              </a:rPr>
              <a:t>M507 – Regulatory Consideration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851280" y="0"/>
            <a:ext cx="403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Group work – data shee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6640" y="1523520"/>
            <a:ext cx="7469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 your allocated groups examine the data sheets for the following substa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2-methoxyethan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thyl ethyl ket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itanium dioxi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For each identify the follow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ealth effects / hazar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outes of entry of concer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commended contro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posure limi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Group work – data shee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4800" y="1676520"/>
            <a:ext cx="73929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dentify any differences between the data shee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re they easy to use / clear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f not - how they could be more useful to you as a user of the hazardous substanc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port back to the whole clas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Other information sourc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76520"/>
            <a:ext cx="7918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Important that the hygienist can access accurate and unbiased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Risk assessment, risk management and hazard communication all require objective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It is becoming an increasingly important part of the hygienist’s role to interpret and communicate hazard and risk information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Other information sourc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4120" y="1484280"/>
            <a:ext cx="837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imes New Roman"/>
              </a:rPr>
              <a:t>Peer-reviewed scientific literatu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Potentially the most credible source of information, where findings have been reviewed by other exper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Published in professional journal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e.g. Annals of Occupational Hygie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Articles tend to be very technical and often it is sufficient to use the article summ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Other information sourc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3600" y="1676520"/>
            <a:ext cx="715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Governmental and other recognised organis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58c"/>
                </a:solidFill>
                <a:latin typeface="Times New Roman"/>
              </a:rPr>
              <a:t>Credible sources of information include government publications, approved codes of practice and guidance no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Other widely respected non-government organis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58c"/>
                </a:solidFill>
                <a:latin typeface="Times New Roman"/>
              </a:rPr>
              <a:t>e.g. WHO, ILO, IAR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Occupational Health and Safety Databa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58c"/>
                </a:solidFill>
                <a:latin typeface="Times New Roman"/>
              </a:rPr>
              <a:t>Some are free, some require subscrip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Professional Associ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BOHS, AIOH, AIHA, IOHA, SAIO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Other information sourc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2280" y="1484280"/>
            <a:ext cx="829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Many other potential sources of information published on the interne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Care needs to be taken to ensure that the information is valid – particularly from sources that are self published as they may represent personal or organisational views that may or may not be supported by scientific evid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Similarly articles may be published in newspapers that have not been peer review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Workers and members of the public also have access to a wide range of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Laser printers’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851280" y="0"/>
            <a:ext cx="403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Laser printers – health concern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ased on an actual series of e-mails regarding health concerns related to particle emissions from laser print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itial concerns raised by article in a National newspap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view e-mails 1 and 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itial thoughts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ow would you would deal with the enquiry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Laser printers – health concern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85720" y="1752480"/>
            <a:ext cx="61722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view e-mails 3 and 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s the approach of John appropriat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uld he have done anything els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view e-mails 5 and 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s the approach of Tim appropriat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uld he have done anything els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Laser printers – health concern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28520" y="137124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ad the press release from xxx Univers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ad the abstract of the stud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o you think the study findings support the health concerns raised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o you think the press release supports the health concerns raised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view e-mails 7 and 8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e the replies of John and Tim appropriat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-mail 9 – here we go again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Risk and safety phras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948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Users need information on the hazards of substances to undertake risk assessments and to apply suitable control meas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terial safety data shee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tandard and accuracy of data sheets may va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ecoming more consistent in format and standa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abels attached to the produ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lobally harmonised system (GHS) being developed and implemented in many countr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Laser printers – health concern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essons learned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ed to respond to concerns promptly as the concerns can rapidly escalate through an organis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ed for objective analysis of fa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ed to get back to original source of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ed to critically evaluate validity of stud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ed to critically evaluate interpretation of results of stud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Strategic Approach to International Chemicals Management (SAICM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7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hemicals are traded internationally and as chemical safety is a global concern this has led to a number of international initiativ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AICM was launched in 2006, involving more than 140 count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AICM aims to ensure that chemicals are used and produced in ways that minimise significant adverse effects on human health and the environ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80280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gistration, Evaluation, Authorisation and Restriction of Chemicals Regulations (REACH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ACH is intended to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elp the European Union achieve the objectives of SAIC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treamline the previous legislative framewor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ACH applies to all European countries and many other countries are likely to adopt the same (or similar) approac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7280" y="333000"/>
            <a:ext cx="8029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gistration, Evaluation, Authorisation and Restriction of Chemicals Regulations (REACH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9040" y="1628640"/>
            <a:ext cx="776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ACH makes industry (producers and importers) responsible fo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sessing and managing risks posed by chemic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viding safety information to us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quires registration of substances produced / imported in quantities greater than 1 t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quires comprehensive information to be gathered on the properties of the subst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ubmission of technical dossier containing information on the chemical and how to effectively manage the ris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4200" y="404640"/>
            <a:ext cx="80280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gistration, Evaluation, Authorisation and Restriction of Chemicals Regulations (REACH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8600" y="1628640"/>
            <a:ext cx="814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Specific authorisations may be required for substances of very high concer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arcinogenic, mutagenic and toxic to reproductive system (CM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ubstances with persistent, bio-accumulative or toxic properties (PBT, vPvB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uthorisations may only be granted if no safer alternative exists and the socioeconomic benefits of the use outweigh the risk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28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gistration, Evaluation, Authorisation and Restriction of Chemicals Regulations (REACH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760" y="1523880"/>
            <a:ext cx="861048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ll substances produced in quantities of 10 tons or more per year require manufacturers to prepa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emical Safety Assessment (CS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emical Safety Report (CS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f the Chemical Safety Assessment shows the substance to be dangerous or of very high concern manufacturers are required to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enerate Exposure Scenarios (ES) or risk assessments for all identified uses of the subst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se should consider the potential adverse effects and take into account recommended risk management measu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8600" y="404640"/>
            <a:ext cx="80280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gistration, Evaluation, Authorisation and Restriction of Chemicals Regulations (REACH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8600" y="1628640"/>
            <a:ext cx="814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ownstream users have a duty to:-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e the substance according to the risk management measu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form the manufacturer how they use the substance if different to the documented exposure scenarios with the aim to make it an identified u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ere is a phased introduction for REAC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Overall management of REACH is responsibility of the European Chemicals Agency (ECHA) in Helsinki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Globally harmonised system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4560" y="1676520"/>
            <a:ext cx="7994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ternationally comprehensible system for hazard communic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duce need for testing and evaluation of chemica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Facilitate international trade in chemicals by ensuring hazards have been properly assessed and identified to international standar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ictograms are a key hazard communication to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ictograms (GHS)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39146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ictograms (GHS)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6400" y="1600200"/>
            <a:ext cx="80712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Give immediate indication of type of hazar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Pictograms supplemented by signal word ‘Danger’ or ‘Warning’ depending on severity of hazard clas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Pictograms supported by standardised hazard statements and precautionary state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Material safety data sheets (MSDS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4560" y="1600200"/>
            <a:ext cx="79948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azard information on a substance or preparation should be provided by the manufacturer or suppli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Used as starting point for risk assessm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hould conform to a standardised structure with different sections for specific information typ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owever, the quality and quantity of information on a MSDS varies widely between different suppli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Material safety data sheets (MSDS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0440" y="1523880"/>
            <a:ext cx="8223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1 – Identification of substance / compan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Chemical name including trade nam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Name, address and contact numbers (including e-mail contact) of compan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2 – Hazards identific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Hazard description, including risk and safety phrases and co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3 – Composition of mixt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Chemical identification numbers (CAS, EU etc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Information on each component of mixtu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4 – First aid meas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Material safety data sheets (MSDS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880" y="1676520"/>
            <a:ext cx="78422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5 – Fire fighting meas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6 – Accidental release meas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7 – Handling and storag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8 – Exposure controls / personal prote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Any regulatory exposure standar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Information on suitable types of personal protective equip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9 – Physical and chemical propert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10 – Stability and reactiv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Material safety data sheets (MSDS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5000" y="1600200"/>
            <a:ext cx="76140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11 – Toxicological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Results of toxicological tes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Health effects associated with the subst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Any evidence of carcinogenic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12 – Ecological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13 – Disposal considera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14 – Transport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15 – Regulatory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58c"/>
                </a:solidFill>
                <a:latin typeface="Times New Roman"/>
              </a:rPr>
              <a:t>Lists the hazard codes, risk phrases and safety phra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imes New Roman"/>
              </a:rPr>
              <a:t>Section 16 – Other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11T14:29:17Z</dcterms:modified>
  <cp:revision>174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712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