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3846A2-2483-41D3-B703-CE9ADB5668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8717B1-4D24-4586-BB17-04E3C99E4F1F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70D31E-5AD5-4935-87A7-79FA74CE325E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6A9409-0DA7-482C-9E14-C71ECE93201C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127751-63F2-437A-8432-79864728B2F2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6267CC-BAC4-48DD-A46B-153FD8532C49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EAA8EB-0F8D-462E-8F08-686F981CD30D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DC9F1E-E825-4780-9F73-C98BB76DFB30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A6A819-98FA-4D3C-9000-308E55EB96D8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E28DE2-E222-426C-B429-FC427413B916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3679D3-1046-4EEF-BF09-B7403BECD5DA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727A38-758A-47BC-A249-4FD0B6F9C208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DC3106-6A04-4828-8A35-A2199C0C231B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FB0079-997C-4A5C-B4C7-19CF0665C3D7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B6CE91-E6E0-457D-9C78-68FDB769B03B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E89AA2-5147-4FC0-A9E6-174EF9B7623D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4D0F6E-54E9-42D4-AFCF-84B120555A5F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8416D6-F91D-418C-B983-DDC0E1C81AAA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A115E2-35FA-4323-8EA9-E4EEE7A7590D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286498-E3D1-4815-84EF-91E71201819F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2599BD-BBA8-406E-8819-0DD122D94099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118DA9-31B3-447E-BE8B-DF463C69080B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05345B-EE0B-451A-BD0B-73EF11596C00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98EFD6-D836-4508-AEFB-205015D8E59C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C6D10D-C647-4495-88E6-A6E70C2740CE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E76E82-1441-4AF1-8698-D98BECC7C24B}" type="slidenum"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Text Box 83"/>
          <p:cNvSpPr/>
          <p:nvPr/>
        </p:nvSpPr>
        <p:spPr>
          <a:xfrm>
            <a:off x="735120" y="62578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2133360"/>
            <a:ext cx="813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58c"/>
                </a:solidFill>
                <a:latin typeface="Times New Roman"/>
              </a:rPr>
              <a:t>M507 – Specific industry profil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851280" y="0"/>
            <a:ext cx="403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" name="Picture 4" descr="goldpour"/>
          <p:cNvPicPr/>
          <p:nvPr/>
        </p:nvPicPr>
        <p:blipFill>
          <a:blip r:embed="rId1"/>
          <a:stretch/>
        </p:blipFill>
        <p:spPr>
          <a:xfrm>
            <a:off x="0" y="0"/>
            <a:ext cx="7812000" cy="5838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858960" y="5802480"/>
            <a:ext cx="80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Pouring molten gold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Brian Davies – 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Other hazards of smelting and refining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ermal stress issues common in metal smelting and refining industry from high levels of infra-red radiation from furnaces and hot met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fra-red radiation can also cause eye damage including catara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igh noise leve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3" name="Picture 4" descr="Rolling Mill 2"/>
          <p:cNvPicPr/>
          <p:nvPr/>
        </p:nvPicPr>
        <p:blipFill>
          <a:blip r:embed="rId1"/>
          <a:stretch/>
        </p:blipFill>
        <p:spPr>
          <a:xfrm>
            <a:off x="0" y="0"/>
            <a:ext cx="7451640" cy="5961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85960" y="5950080"/>
            <a:ext cx="59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Steel works rolling mill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Foundr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wo main categories foundri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errous (iron and steel) foundr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n-ferrous foundries (e.g. aluminium, brass, bronz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in process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ouring molten metal into a heat-resistant mou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ange of different types of mould but the most common iron foundry processes use sand mould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oling of metal casting and removal from mou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nishing and cleaning of cas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8" name="Picture 4" descr="foundry furnace HSE3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689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077120" y="5659560"/>
            <a:ext cx="74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Foundry furnace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HSE (UK) – 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Ferrous foundry - melt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ron or scrap melted in furna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ypes include cupola, electric arc, electric induction and crucible furna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alth hazard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ron and other metal oxide fume / dus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bon monoxide (particularly from cupola furnaces and crucible furnace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mpurities in scrap - lead, zinc et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lso noise, heat, hot met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Ferrous foundries - mould preparat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uld prepared to form the desired shape of the cas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clude cores if required to form hollow internal areas of the cas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ron foundries usually use traditional sand moul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ain crystalline silica - quart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so contain clay and other binders e.g. isocyanates, phenol-formaldehyde or urea-formaldehyde resi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nd used damp - hazard arises when sand becomes d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Ferrous foundries – melting and pouring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5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in hazards - heat and fum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etal oxide fumes, carbon monox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Decomposition products from binders e.g. isocyanates, formaldehyde and ami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ntrol is usually by local exhaust ventilation or hood at the pouring station with direct air supply at the operator posi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fractory linings of cupola furnaces have to be periodically renew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otential heat stress as furnace cannot be allowed to cool completely and involves working inside furn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lso high dust levels – crystalline silic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foundry HSE4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82360" y="5516640"/>
            <a:ext cx="71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Foundry work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HSE (UK) – 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Ferrous foundr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hake-out, casting extraction and core knocko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fter cooling, rough casting removed from mould by impact onto a vibrating grid to dislodge the sa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nd drops through grid for cleaning and recycl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gh potential dust levels as the sand is very dry and still ho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alth hazards includ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irborne dust from sand (quartz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mal stre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Smelting and refining of iron and steel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764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Smelting and refining industries process metal ores and scrap metal to produce pure metals and metal alloys (mixtures of different metals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Metals and alloys then processed further to manufacture structural components, machinery, instruments and tools et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Ferrous foundries – fettling (cleaning) of casting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itial cleaning involves removal of mould sand and easily removed materi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ettling includes removal of residual sand, rough edges, surplus metal et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ols include abrasive wheels and grind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gher levels of airborne silica dust are likely where controls or housekeeping are po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ilicosis or mixed dust pneumoconiosis are common health effe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se13 beforefettling"/>
          <p:cNvPicPr/>
          <p:nvPr/>
        </p:nvPicPr>
        <p:blipFill>
          <a:blip r:embed="rId1"/>
          <a:stretch/>
        </p:blipFill>
        <p:spPr>
          <a:xfrm>
            <a:off x="0" y="0"/>
            <a:ext cx="5005440" cy="33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hse14 afterfettling"/>
          <p:cNvPicPr/>
          <p:nvPr/>
        </p:nvPicPr>
        <p:blipFill>
          <a:blip r:embed="rId2"/>
          <a:stretch/>
        </p:blipFill>
        <p:spPr>
          <a:xfrm>
            <a:off x="4140360" y="3068640"/>
            <a:ext cx="5003640" cy="334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50840" y="3643200"/>
            <a:ext cx="35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Casting before and after fettl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HSE (UK) – reproduc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Non-ferrous foundr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eel found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Very similar to ferrous foundries - processes are sa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owever higher temperatures so quartz in sand moulds more likely to be converted to cristobalite and sand residues on castings may be more difficult to remo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ght alloy found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inly aluminium and magnesiu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luoride based flux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tal moul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Non-ferrous foundr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rass and bronze foundr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azards mainly related to metal oxide dusts and fumes during melting, pouring and finish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pper and zinc metal fume fever – flu-like symptom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ead – particularly during melting and pour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admium – acute pneumonitis and chronic kidney damag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ecision foundr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Use investment or ‘lost-wax’ proces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ax patterns prepared and coated with fine refractory powder before building up rest of moul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ax melted out prior to or during cast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umes from decomposition of wax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ining and quarry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ide range of health hazar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articula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rystalline silic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esel exhau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a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methane, hydrogen sulph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ise and vibr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rmal stre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onising radi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azards will depend on type of mine or quarry, its depth, composition of ore or surrounding rock and work metho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ining and quarry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irborne particulate hazar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rystalline silica (quartz) is the most common compound in the earth’s crust and is the most common dust that workers are exposed to in mining and quarrying industr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irborne dust produced by a wide range of proce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rilling, blasting, cutting of rock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rushing, grading (sieving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nveyor transf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oading and transport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hse7 quarrying"/>
          <p:cNvPicPr/>
          <p:nvPr/>
        </p:nvPicPr>
        <p:blipFill>
          <a:blip r:embed="rId1"/>
          <a:stretch/>
        </p:blipFill>
        <p:spPr>
          <a:xfrm>
            <a:off x="324000" y="0"/>
            <a:ext cx="4273560" cy="6308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4759200" y="2922480"/>
            <a:ext cx="359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Crawler mounted drill wit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o dust contro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HSE (UK) – reproduc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se8 quarrying"/>
          <p:cNvPicPr/>
          <p:nvPr/>
        </p:nvPicPr>
        <p:blipFill>
          <a:blip r:embed="rId1"/>
          <a:stretch/>
        </p:blipFill>
        <p:spPr>
          <a:xfrm>
            <a:off x="0" y="0"/>
            <a:ext cx="7812000" cy="5183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042920" y="5516640"/>
            <a:ext cx="535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Loading lorry using mechanical ar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HSE (UK) – 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hse 10 stone crusher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21440" y="5514840"/>
            <a:ext cx="538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Mobile jaw crusher and conveyor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HSE (UK) – 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ining and quarry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irborne particulate hazar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al mining – coal mine dust is a mixture of coal, crystalline silica and other mineral dus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mposition varies with the coal seam, surrounding rock strata and mining metho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al mine dust can cause coal worker’s pneumoconiosis as well as chronic bronchitis and emphyse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ust generation can be reduced by changes in coal cutting techniques and by using adequate mechanical ventilation and water spray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Iron and steel industr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ron ore melted in blast furna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ron ore (+ scrap), limestone and coke added from t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ot air (+ oxygen) blown in from bottom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bon monoxide produced converts iron ore to iron (still contains large amount of impuriti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imestone added as flux – forms slag with other contamina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olten iron tapped from base for later use in foundries or transferred directly to a steel making pla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LongwallWaterSpray"/>
          <p:cNvPicPr/>
          <p:nvPr/>
        </p:nvPicPr>
        <p:blipFill>
          <a:blip r:embed="rId1"/>
          <a:stretch/>
        </p:blipFill>
        <p:spPr>
          <a:xfrm>
            <a:off x="0" y="0"/>
            <a:ext cx="7667640" cy="5751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187280" y="5734080"/>
            <a:ext cx="56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Longwall coal mining with water spray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NIOSH (US) – 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ining and quarry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Other health hazard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esel engine exhau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mplex mixture of gases, vapours and particula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bon monoxide, nitrogen dioxide, sulphur dioxi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Volatile organic compounds (VOC’s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unburned hydrocarbons, aldehydes and polycyclic aromatic hydrocarbons (PAH’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se may be absorbed onto the diesel particul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ARC considers diesel particulate to be a probable carcino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ining and quarry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Other health hazar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aturally occurring ga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ethane – simple asphyxiant (and combustible and may cause explosion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ydrogen sulphide – chemical asphyxia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xygen deficienc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ther specific exposure hazar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ercury vapour in gold and mercury min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rsenic in gold and lead min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adon gas in uranium and other mi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eat stress (particularly in deep min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Oil and petroleum industr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Crude oi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mplex mixture of paraffins (alkanes), naphthenes (cycloalkanes) aromatic hydrocarbons and other organic compoun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Varies greatly from one oil field to anoth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ittle use in raw state – needs to be processed to produce commercial products of val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etroleum refin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ydrocarbons in crude oil are separated by distillation into different fractions with specified boiling point rang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ight gases, gasoline, naphtha, kerosene, gas oil, fuel oil and higher boiling residu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o produce required quantities of different products, each fraction may be further processed e.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racking – using heat and catalysts to break down higher boiling point hydrocarbons into lighter produc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forming – using heat, pressure and catalysts to convert paraffins and naphthenes to iso-paraffins and aromatic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lkylation – conversion of alkanes to iso-paraff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taminants such as metals, nitrogen compounds and sulphur compounds need to be remov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etroleum refin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Fugitive emissions of hydrocarbon vapours are always of concern. Controls include:-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Floating roofs on storage tanks to prevent evapor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Vapours from tanks collected in a vapour recovery system and returned to the product strea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umps / valves / seals etc regularly checked for vapour emissions and repaired if necessary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harmaceutical industr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 particular issue in the pharmaceutical industry is that the products are designed to be physiologically active i.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y are designed to impact on human health at very low do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is may be desirable if you require the medication but clearly it is undesirable for the worker to be exposed to the medication or active ingredient in the workpl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harmaceutical industr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rimary manufact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duction of the active ingredient by chemical reaction. This is usually undertaken in closed system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econdary manufacture (or formulati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ixing the active ingredient with other materials to form a suitable produ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ften mixed with excipients (inert bulking materials such as starch or magnesium stearate) to allow very low doses of active ingredients to be administered (e.g. there may only be a few milligrams of active ingredient in a tablet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8" name="Picture 4" descr="SB sack of powder to be charged to reactor"/>
          <p:cNvPicPr/>
          <p:nvPr/>
        </p:nvPicPr>
        <p:blipFill>
          <a:blip r:embed="rId1"/>
          <a:stretch/>
        </p:blipFill>
        <p:spPr>
          <a:xfrm>
            <a:off x="0" y="0"/>
            <a:ext cx="7812000" cy="5127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102680" y="5445000"/>
            <a:ext cx="559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Addition of sack of powder to react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Steve Bailey – 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1" name="Picture 4" descr="SB tablet press with extract"/>
          <p:cNvPicPr/>
          <p:nvPr/>
        </p:nvPicPr>
        <p:blipFill>
          <a:blip r:embed="rId1"/>
          <a:stretch/>
        </p:blipFill>
        <p:spPr>
          <a:xfrm>
            <a:off x="0" y="0"/>
            <a:ext cx="8244000" cy="5359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937800" y="5514840"/>
            <a:ext cx="559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Fully enclosed tablet press with extrac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Steve Bailey – 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urnace 1"/>
          <p:cNvPicPr/>
          <p:nvPr/>
        </p:nvPicPr>
        <p:blipFill>
          <a:blip r:embed="rId1"/>
          <a:stretch/>
        </p:blipFill>
        <p:spPr>
          <a:xfrm>
            <a:off x="1187280" y="204840"/>
            <a:ext cx="64803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harmaceutical industr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s well as active ingredients being physiologically active they may have other effects such as respiratory sensitisation or be teratogeni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xposure limits for active ingredients often in microgram (or even nanogram) per cubic metre rang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trols therefore need to be stringent e.g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otal containment commonpl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egregated work ar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ocal exhaust ventilation with HEPA filt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isposable coverall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igh standards of respiratory protective equip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507 – ‘Wonderdrug’ case study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851280" y="0"/>
            <a:ext cx="403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Wonderdrug’ informa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31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rmul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pirin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53.5%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racetamol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38.3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affeine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7.6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cess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lling of hoppers from bulk contain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cking / filling of produ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ther informa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terial safety data sheets – see separate shee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ase study – general informa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Operating condi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rmal, nearly all workstations run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ho is being expos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chine operators (Female (50) some &lt; 18 year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chine fillers (Male (2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intenance personnel during changeover / clea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attern of expos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tinuous over 8 hour shif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igh levels during changeover / clea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ase study - video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dentify sources of expos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ha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kin absorp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ges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ook for evidence of expos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mment on existing controls and proced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mment on any particular health issu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6" name="Picture 4" descr="blast furnace UOW"/>
          <p:cNvPicPr/>
          <p:nvPr/>
        </p:nvPicPr>
        <p:blipFill>
          <a:blip r:embed="rId1"/>
          <a:stretch/>
        </p:blipFill>
        <p:spPr>
          <a:xfrm>
            <a:off x="0" y="-9360"/>
            <a:ext cx="7667640" cy="5768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312560" y="5734080"/>
            <a:ext cx="694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Blast furn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Source: Wolverhampton Archives – 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teel mak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ron from blast furnace contains large amounts of impurit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bon (+ others such as sulphur and phosphoru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se must be removed / reduced to produce ste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in types of steel making furna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asic oxygen convert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lectric a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pecial steel alloys contain other metals e.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romium and nickel in stainless ste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ungsten and cobalt for hardened stee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" name="Picture 4" descr="Blast Furnace Tapping"/>
          <p:cNvPicPr/>
          <p:nvPr/>
        </p:nvPicPr>
        <p:blipFill>
          <a:blip r:embed="rId1"/>
          <a:stretch/>
        </p:blipFill>
        <p:spPr>
          <a:xfrm>
            <a:off x="0" y="0"/>
            <a:ext cx="7451640" cy="6008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34560" y="5946840"/>
            <a:ext cx="60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Tapping of blast furnace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Chemical hazards of smelting and refining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tal oxide fumes from molten metal (particular metal depends on metals being worked and impuritie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ilica and metal dusts during crushing and grinding of o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ilica dust from furnace mainten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Chemical hazards of smelting and refining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ulphur dioxide produced from sulphide o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arbon monoxide produced by combustion process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pecific hazards includ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duction of nickel carbonyl in nickel refi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rsenic in copper and lead refining and smel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rcury and cyanide exposure in gold refi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11T14:26:48Z</dcterms:modified>
  <cp:revision>180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71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