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0458c"/>
                </a:solidFill>
                <a:latin typeface="Times New Roman"/>
              </a:rPr>
              <a:t>M507 – Common industrial process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B manual feeding of mixer from drum"/>
          <p:cNvPicPr/>
          <p:nvPr/>
        </p:nvPicPr>
        <p:blipFill>
          <a:blip r:embed="rId1"/>
          <a:stretch/>
        </p:blipFill>
        <p:spPr>
          <a:xfrm>
            <a:off x="0" y="0"/>
            <a:ext cx="4516560" cy="6381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489200" y="2565360"/>
            <a:ext cx="4603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Manual loading of open mixer from dr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" name="Picture 4" descr="Sieving sample"/>
          <p:cNvPicPr/>
          <p:nvPr/>
        </p:nvPicPr>
        <p:blipFill>
          <a:blip r:embed="rId1"/>
          <a:stretch/>
        </p:blipFill>
        <p:spPr>
          <a:xfrm>
            <a:off x="0" y="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460160" y="5950080"/>
            <a:ext cx="629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ieving of process samples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Bulk liquid delivery and transfe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ulk liquids may be supplied by tankers or in dru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y be transferred to storage tanks by enclosed transfer which is clean and effici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ever seals, joints and pipes need to be maintained in good condition to prevent leaks and fugitive emiss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rect feed from storage tanks to point of use may avoid need to come into contact with liqui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enerally totally enclosed, but will need vents for air displaced during filling and transf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isplaced air may contain high vapour levels which may need recovering or capturing prior to discharg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B tanker discharging methanol"/>
          <p:cNvPicPr/>
          <p:nvPr/>
        </p:nvPicPr>
        <p:blipFill>
          <a:blip r:embed="rId1"/>
          <a:stretch/>
        </p:blipFill>
        <p:spPr>
          <a:xfrm>
            <a:off x="0" y="19080"/>
            <a:ext cx="7740720" cy="5032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-3960" y="537372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Delivery of methanol from a tank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Exposure to liquids during handl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xposure can occur at many process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leaning and maintenance of pipework and vess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ystems need to be in place to ensure they are effectively purged of hazardous materia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lling containers with liquids such as solvents can displace solvent vapour laden ai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ull or partial enclosure with local exhaust ventilation may be requir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ransferring of liquids from containers has the potential for spills or splash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imple precautions such as lidded containers and closing containers can reduce exposure from evaporation of liqui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SB paint bench"/>
          <p:cNvPicPr/>
          <p:nvPr/>
        </p:nvPicPr>
        <p:blipFill>
          <a:blip r:embed="rId1"/>
          <a:stretch/>
        </p:blipFill>
        <p:spPr>
          <a:xfrm>
            <a:off x="0" y="-19080"/>
            <a:ext cx="7812000" cy="4846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20520" y="5445000"/>
            <a:ext cx="8634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Paint bench – open tins and rags soaked in thinners can be a source of expo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rinding of metal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Uses bonded abrasive (grinding wheels, discs and belts) to wear away parts of a work pie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istorically sandstone and diamonds u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incidence of silicosis from sandst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placed by artificial abrasives e.g. aluminium oxide, silicon carbide and synthetic diamon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ocal exhaust ventilation required for most grinding oper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lso high noise and vibration leve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rinding hse5"/>
          <p:cNvPicPr/>
          <p:nvPr/>
        </p:nvPicPr>
        <p:blipFill>
          <a:blip r:embed="rId1"/>
          <a:stretch/>
        </p:blipFill>
        <p:spPr>
          <a:xfrm>
            <a:off x="0" y="-27000"/>
            <a:ext cx="5500800" cy="5500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7920" y="5516640"/>
            <a:ext cx="9083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Grind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HSE: Working with us on Noise and Hand-Arm Vibration – reproduced under the term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of the Click-Use Lic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B grinding"/>
          <p:cNvPicPr/>
          <p:nvPr/>
        </p:nvPicPr>
        <p:blipFill>
          <a:blip r:embed="rId1"/>
          <a:stretch/>
        </p:blipFill>
        <p:spPr>
          <a:xfrm>
            <a:off x="0" y="-27000"/>
            <a:ext cx="6804000" cy="5630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-9360" y="5734080"/>
            <a:ext cx="566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Grinding wheels fitted with local exhaust vent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9" name="Picture 4" descr="Grinding"/>
          <p:cNvPicPr/>
          <p:nvPr/>
        </p:nvPicPr>
        <p:blipFill>
          <a:blip r:embed="rId1"/>
          <a:stretch/>
        </p:blipFill>
        <p:spPr>
          <a:xfrm>
            <a:off x="0" y="0"/>
            <a:ext cx="7380360" cy="5904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22720" y="5950080"/>
            <a:ext cx="67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Grinding of metal components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aterials handl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7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terials handling operations are common to many indust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ften the source of exposure to hazardous substanc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ood industrial hygiene practice means consideration should be given to prevention of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imination or substit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ngineering contro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cess and operational contro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ocal exhaust venti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ersonal protective equipment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12000" y="0"/>
            <a:ext cx="180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achining of metal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ny machines e.g. lathes, drills, saws produce larger particles than from grinding so airborne generation low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in health hazard is from cutting flui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ineral oils, soluble oils and synthetic flui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kin contact with cutting fluids may cause contact dermatitis, skin infections and de-fat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rolonged exposure to oil-based cutting fluids can cause folliculiti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halation of oil mists may cause range of respiratory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levels of bacterial growth may occur in some cutting flui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Welding of metal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elding – process by which metals are joined togeth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sually achieved by melting the metal and a filler material to form a pool of molten metal that solidifies on cooling to form a strong joi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urces of heat includ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as flame e.g. oxy-acetyle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ic arc between an electrode and the work pie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sistance to passage of electric curr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as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Generally uses oxygen and acetylene or air and propane fed to a hand-held welding torch to produce a flam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lts the surfaces of the metal parts to be joi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filler metal or alloy is usually add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hemical fluxes used to prevent oxid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rc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Electric current used to strike an arc between an electrode and the materials to be weld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emperature up to about 4000</a:t>
            </a:r>
            <a:r>
              <a:rPr b="0" lang="en-GB" sz="28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lts the surfaces of the metal parts to be join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 filler metal or alloy is usually added – either by melting the electrode (consumable electrode process) or by melting a separate filler rod (non-consumable electrode proces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B welding"/>
          <p:cNvPicPr/>
          <p:nvPr/>
        </p:nvPicPr>
        <p:blipFill>
          <a:blip r:embed="rId1"/>
          <a:stretch/>
        </p:blipFill>
        <p:spPr>
          <a:xfrm>
            <a:off x="31680" y="0"/>
            <a:ext cx="460548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-3960" y="580536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Arc weld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rc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o achieve a strong weld, weld area must be shielded from atmosphere to prevent oxidation and contamin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lux shielded arc welding – consumable electrode consists of a metal core surrounded by the flux as a coating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etal core acts as the filler material for the wel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lux coating also melts covering the molten metal with slag and generates a protective covering of carbon dioxid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as-shielded arc welding – blanket of inert gas (e.g. argon, helium, nitrogen) covers the weld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common types are MIG (metal inert gas) welding and TIG (tungsten inert gas) weld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B arc gouging"/>
          <p:cNvPicPr/>
          <p:nvPr/>
        </p:nvPicPr>
        <p:blipFill>
          <a:blip r:embed="rId1"/>
          <a:stretch/>
        </p:blipFill>
        <p:spPr>
          <a:xfrm>
            <a:off x="0" y="0"/>
            <a:ext cx="4387680" cy="5877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-3960" y="580536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Arc gouging or cutt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Resistance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Heat generated by resistance to flow of electric current through components to be weld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mall areas of molten metal formed at interface of components to be weld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mmonly used for ‘spot-welding’ of thin metal sheets – two electrodes clamp sheets together and pass electric current throug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w weld strength but easily automated – widely used in car manufactur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hazards of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irborne contaminants can come from a number of sour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al being welded and metal filler rod being 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romium, nickel, manganese, iron 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allic coatings on article being weld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Zinc, cadmium 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y paint, grease or dirt on article being weld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lux coatings on the filler ro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luorid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reakdown of surrounding air by heat or ultra-violet ligh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zone, oxides of nitrog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ert gas being 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hazards of weld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Additional hazards can occur when welding undertaken in a confined spac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mportant that good ventilation of area is achieved, together with permit to work syste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y require an external air supply to weld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Physical hazards include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igh noise leve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tense ultra-violet light from arc wel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mentary exposure may cause painful irritation - ‘arc-eye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fra-red radiation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andling of solids and powder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election of materials to reduce or eliminate dust gener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owder supplied as ‘dust-reduced’ for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ellets, granules or flakes instead of powd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stes or powders dispersed in liquid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above are dependent on compatibility with process require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2" name="Picture 4" descr="Welding 1"/>
          <p:cNvPicPr/>
          <p:nvPr/>
        </p:nvPicPr>
        <p:blipFill>
          <a:blip r:embed="rId1"/>
          <a:stretch/>
        </p:blipFill>
        <p:spPr>
          <a:xfrm>
            <a:off x="0" y="0"/>
            <a:ext cx="7740720" cy="5805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389600" y="5877000"/>
            <a:ext cx="57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Welding of mild steel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Welding 2"/>
          <p:cNvPicPr/>
          <p:nvPr/>
        </p:nvPicPr>
        <p:blipFill>
          <a:blip r:embed="rId1"/>
          <a:stretch/>
        </p:blipFill>
        <p:spPr>
          <a:xfrm>
            <a:off x="32338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800" y="2490840"/>
            <a:ext cx="258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Welding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7" name="Picture 4" descr="welding in face"/>
          <p:cNvPicPr/>
          <p:nvPr/>
        </p:nvPicPr>
        <p:blipFill>
          <a:blip r:embed="rId1"/>
          <a:stretch/>
        </p:blipFill>
        <p:spPr>
          <a:xfrm>
            <a:off x="0" y="0"/>
            <a:ext cx="7451640" cy="5961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661400" y="594684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Welding -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Reproduced with permiss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lectroplating and galvaniz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lectroplating applies a metallic layer (e.g. nickel, chromium) to a produc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duct wired as the cath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tal to be applied wired as a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ic current passed through electrolyte solution and metal ions migrate from anode to cathode where they deposit as a thin lay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(Product must be thoroughly cleaned prior to plating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alvanising is a similar process that applies a zinc coating to steel products for corrosion protec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B electroplating1"/>
          <p:cNvPicPr/>
          <p:nvPr/>
        </p:nvPicPr>
        <p:blipFill>
          <a:blip r:embed="rId1"/>
          <a:stretch/>
        </p:blipFill>
        <p:spPr>
          <a:xfrm>
            <a:off x="0" y="-23760"/>
            <a:ext cx="7740720" cy="5070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-3960" y="551664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Electroplating bath with detergent fo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B electroplating2"/>
          <p:cNvPicPr/>
          <p:nvPr/>
        </p:nvPicPr>
        <p:blipFill>
          <a:blip r:embed="rId1"/>
          <a:stretch/>
        </p:blipFill>
        <p:spPr>
          <a:xfrm>
            <a:off x="0" y="-6480"/>
            <a:ext cx="7740720" cy="533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-11160" y="5589720"/>
            <a:ext cx="596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Electroplating bath fitted with local exhaust vent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lectroplating and galvaniz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hemical hazard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eated acid and alkali solutions used in cleaning and treating metals are corrosiv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Burns, irritation to skin, eyes and mucous membra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yanide solutions often used in electrolytic degreasing and electropla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omium compounds usually as chromic acid (hexavalent chromium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Burns, ulceration of skin, perforation of nasal sept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ickel salts can cause allergic dermatitis and irrit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omium and nickel compounds may be carcinogen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oldering and braz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Metal items joined by melting a filler metal or alloy with a flux that flows into the join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ffers from welding in that temperatures are much lower and metals being joined do not mel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ldering temperatures below 450</a:t>
            </a:r>
            <a:r>
              <a:rPr b="0" lang="en-GB" sz="28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razing temperatures above 450</a:t>
            </a:r>
            <a:r>
              <a:rPr b="0" lang="en-GB" sz="28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azards depend on metals or alloys being melted and the type of flux u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oldering and braz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oldering using lead / tin alloy based solders widely used in electrical and electronics industry to make electrical connect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 soldering is at lower temperatures metal fumes generally of little concer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in risk from soldering is from breakdown (or pyrolysis) products of the flux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lux is commonly rosin based and breakdown products are potent respiratory sensitis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B soldering"/>
          <p:cNvPicPr/>
          <p:nvPr/>
        </p:nvPicPr>
        <p:blipFill>
          <a:blip r:embed="rId1"/>
          <a:stretch/>
        </p:blipFill>
        <p:spPr>
          <a:xfrm>
            <a:off x="0" y="-23760"/>
            <a:ext cx="7740720" cy="5070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-3960" y="551664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Solder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Bulk powder delivery and transfe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ulk powders may be supplied by tankers or in tote bi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y be transferred to silos by pneumatic transfer which is clean and effici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ever seals and flexible ducting need to be maintained in good condition as ducting may be at positive press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rect feed from storage silos to mixing vessel may avoid need to handle powd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enerally totally enclosed, but will need vents for air displaced during filling and transf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scharged air will need cleaning prior to discharg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soldering hse 6"/>
          <p:cNvPicPr/>
          <p:nvPr/>
        </p:nvPicPr>
        <p:blipFill>
          <a:blip r:embed="rId1"/>
          <a:stretch/>
        </p:blipFill>
        <p:spPr>
          <a:xfrm>
            <a:off x="-3240" y="0"/>
            <a:ext cx="5718240" cy="5734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8360" y="5805360"/>
            <a:ext cx="8689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Fumes from solder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imes New Roman"/>
              </a:rPr>
              <a:t>Source: HSE Rosin-cored solder fume assessment – reproduced under the terms of the Click-Use lic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oldering and braz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osin-based solder flux fume can lead to occupational asthma – effects are permanent and irreversi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Not possible to identify safe level of expo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xposure should be avoided or kept as low as reasonably practica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wer temperatures can significantly reduce the amount of fume produc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dequate control often requires use of local exhaust vent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razing often uses fluoride based flux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ilver soldering’ (a type of brazing) the metal alloy sometimes contains cadmium (cadmium free alternatives availabl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Many industrial components need to be cleaned to remove unwanted dirt and grease that would interfere with subsequent processes such as painting, plating, solder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wo main types of solvent degreas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ld degreasing – a range of techniques that use solvent at ambient temperat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Vapour degreasing – solvent heated to generate vapou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ld 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p clea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rticles immersed in solvent in t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fted out slowly – preferably in wire baske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ver kept on dip tanks as far as practica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metimes uses ultrasonic clean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ip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arge items cleaned with solvent using cloths - used cloths stored in lidded containers and disposed safe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rush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e needed to minimise splas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ray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n lead to high solvent concentr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Vapour 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Effective and widely used techniqu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ank partly filled with solvent with heater in ba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lvent heated – vapour rises to fill tank up to a level at which cooling coils act as condens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ank usually fitted with slot extraction at the rim of the tank to prevent escape of solvent vapour from tan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egreasing unit.jpg"/>
          <p:cNvPicPr/>
          <p:nvPr/>
        </p:nvPicPr>
        <p:blipFill>
          <a:blip r:embed="rId1"/>
          <a:stretch/>
        </p:blipFill>
        <p:spPr>
          <a:xfrm>
            <a:off x="1116000" y="1440"/>
            <a:ext cx="6384960" cy="5807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815040" y="566100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Conventional top loading vapour degreasing tan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ource: Envirowise – reproduced with permiss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Vapour 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rty’ component lowered into vapour lay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apour condenses onto the cold surface and dissolves soluble contamina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lvent (and contaminant) drains back into the base of the tan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cess continues until temperature of component reaches that of the vapou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leaned component then lifted slowly above vapour level to drain fully while still within tan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ponent then removed from tank and allowed to cool to ambient tempera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ole process may be partly or fully automa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B vapour degreasing"/>
          <p:cNvPicPr/>
          <p:nvPr/>
        </p:nvPicPr>
        <p:blipFill>
          <a:blip r:embed="rId1"/>
          <a:stretch/>
        </p:blipFill>
        <p:spPr>
          <a:xfrm>
            <a:off x="-77760" y="0"/>
            <a:ext cx="4711680" cy="5805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-21240" y="5734080"/>
            <a:ext cx="895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Large vapour degreasing tank fitted with cooling coils and slot extraction at the r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Vapour 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luble and insoluble dirt collects in sump at the bottom of the tan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eriodically this needs clearing and dispos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ank may be considered a confined space and high concentrations of solvent vapour may be pres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afe systems of work and permit to work may be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olvents commonly used include trichloroethylene and tetrachloroethyle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me applications may require specific solvents or mixtures of solv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Vapour degreas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mmon operating errors that may increase solvent emission inclu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oor stacking of components (particularly hollow component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nsufficient drying time within the freeboard above vapour lay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mponents lifted at too high a spe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xcessive movement of components in the ba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te: chlorinated solvents are readily decomposed by hot surfaces and open flam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ecomposition products include phosgene, hydrogen chloride and carbon monox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moking and hot processes such as welding should be prohibited in the vicinity of degreasing opera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Bulk powder delivery and transfe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Bulk powder transfer often undertaken by moving belt conveyor system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ust can become airborne at transfer poi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ust generation can be minimised by reducing height of drop and any cross-draugh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ransfer points may need partial enclosure and local exhaust ventilati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in health risks is usually from solv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ide range of solvents may be used e.g. aliphatic and aromatic hydrocarbons, ketones, alcohols, glycols and glycol ether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e of low solvent content paints is becoming more widespre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lvent content may vary from about 5 – 5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y also use solvent based paint thinne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ther health risks can arise from additives, and in particular, from isocyanates in polyurethane pai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hree main categori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aint applied by brush or roll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latively slow rates of appl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perator moves away from recently painted are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mainly dependent on level of general venti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urface immersed in paint and allowed to dra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pping, flow coa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ray pain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pray 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Generally higher exposure potenti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aint for spray application usually contains more solvent than paint for brus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er rates of applic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praying of liquids containing solvents can produce high levels of solvent vapours as the fine spray allows rapid evaporation of the solv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ventional air spraying is the most common method, however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arge quantities of solvent vapour may be genera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verspray of paint is comm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-5400" y="5805360"/>
            <a:ext cx="752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Spraying isocyanate based paint in paint spray boo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HSE LEV Trainer Adviser Briefing Days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0" y="-963720"/>
            <a:ext cx="6732360" cy="6768360"/>
            <a:chOff x="0" y="-963720"/>
            <a:chExt cx="6732360" cy="6768360"/>
          </a:xfrm>
        </p:grpSpPr>
        <p:sp>
          <p:nvSpPr>
            <p:cNvPr id="151" name="Text Box 5"/>
            <p:cNvSpPr/>
            <p:nvPr/>
          </p:nvSpPr>
          <p:spPr>
            <a:xfrm>
              <a:off x="88920" y="-963720"/>
              <a:ext cx="184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52" name="Picture 6" descr="0408044_41"/>
            <p:cNvPicPr/>
            <p:nvPr/>
          </p:nvPicPr>
          <p:blipFill>
            <a:blip r:embed="rId1"/>
            <a:stretch/>
          </p:blipFill>
          <p:spPr>
            <a:xfrm>
              <a:off x="0" y="9720"/>
              <a:ext cx="6732360" cy="579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pray 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pray painting may be automated or manu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ost industrial spray painting applications require local exhaust ventilation at point of application and also during drying and baking opera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ually in the form of ventilated enclosures or open-fronted booth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utomation allows greater use of ventilated enclosures and can reduce worker expos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pray 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lectrostatic spray pain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ic charge placed on paint mist particle so it is attracted to part to be pain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duces rebound and overspray so can reduce mist and solvent exposure to oper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owder coat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lectric charge placed on paint particl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wder sprayed onto electrically grounded item to be coated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tem baked to fuse the powder into a continuous coat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pray paint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articular care needed with polyurethane and epoxy paints that contain isocyanates – potent respiratory sensitis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ffective enclosures fitted with extract vent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rotective cloth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ir-fed respiratory protective equip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edical surveill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(Note: isocyanates also skin sensitiser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ermatitis from irritation and de-fatting of skin from solv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kin contact must be minimis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ther hazards include lead, cadmium and chromium based pigments and additives such as fungicides and pestici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SB paint mixing"/>
          <p:cNvPicPr/>
          <p:nvPr/>
        </p:nvPicPr>
        <p:blipFill>
          <a:blip r:embed="rId1"/>
          <a:stretch/>
        </p:blipFill>
        <p:spPr>
          <a:xfrm>
            <a:off x="20520" y="0"/>
            <a:ext cx="4403880" cy="5805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-20160" y="5805360"/>
            <a:ext cx="8425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Paint mixing – skin and airborne exposure can occur to solvents and pigmen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Confined spa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ot an industrial process as such but a common cause of potential problems e.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concentrations of heavier than air solvent vapours in tanks, pits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xygen replaced by inert gases during purging of vessels that contained flammable liqui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uild up of methane from anaerobic decay of organic material e.g. in sewers or mi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uild up of carbon dioxide from brewing proces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ontrols include permit to work, testing of atmosphere et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7 – Group work – Health Effects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851280" y="0"/>
            <a:ext cx="4032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24360" y="189000"/>
            <a:ext cx="2016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Bulk powder delivery and transfer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Bulk powders may be delivered i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aper or plastic bag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termediate bulk containers 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oven plastic sack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henever dusty materials are transferred, handled or used, spillages may occu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ood standards of housekeeping and clean up of spillages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et wiping and / or use of industrial vacuum cleaners should be used rather than dry brush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Group work – health effec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2720" y="1412640"/>
            <a:ext cx="84582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ach group will be given a scenario involving an industrial process or type of 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You are required to anticipate hazardous substances that the workers are likely to be exposed to – for each substance identif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ealth effects of the substance (acute and chronic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ikely routes of ent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ypical controls that you would expect to see in pl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centrate on occupational hygiene issues – ignore ‘pure safety issues’ such as working at height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port back to the whole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cenario (1)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Dismantling of a large factory that had previously been used for electroplating of metal produ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Structure of building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arge steel girders supporting wall and ceiling pane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anks / vessels containing residues remain on-sit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3" name="Picture 4" descr="external 3"/>
          <p:cNvPicPr/>
          <p:nvPr/>
        </p:nvPicPr>
        <p:blipFill>
          <a:blip r:embed="rId1"/>
          <a:stretch/>
        </p:blipFill>
        <p:spPr>
          <a:xfrm>
            <a:off x="341280" y="289080"/>
            <a:ext cx="846000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external 4"/>
          <p:cNvPicPr/>
          <p:nvPr/>
        </p:nvPicPr>
        <p:blipFill>
          <a:blip r:embed="rId1"/>
          <a:stretch/>
        </p:blipFill>
        <p:spPr>
          <a:xfrm>
            <a:off x="2125800" y="404640"/>
            <a:ext cx="4892400" cy="63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7" name="Picture 4" descr="external 5"/>
          <p:cNvPicPr/>
          <p:nvPr/>
        </p:nvPicPr>
        <p:blipFill>
          <a:blip r:embed="rId1"/>
          <a:stretch/>
        </p:blipFill>
        <p:spPr>
          <a:xfrm>
            <a:off x="341280" y="115920"/>
            <a:ext cx="8460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B electroplating1"/>
          <p:cNvPicPr/>
          <p:nvPr/>
        </p:nvPicPr>
        <p:blipFill>
          <a:blip r:embed="rId1"/>
          <a:stretch/>
        </p:blipFill>
        <p:spPr>
          <a:xfrm>
            <a:off x="0" y="-23760"/>
            <a:ext cx="7740720" cy="5070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-3960" y="551664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Electroplating ba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B electroplating2"/>
          <p:cNvPicPr/>
          <p:nvPr/>
        </p:nvPicPr>
        <p:blipFill>
          <a:blip r:embed="rId1"/>
          <a:stretch/>
        </p:blipFill>
        <p:spPr>
          <a:xfrm>
            <a:off x="0" y="-6480"/>
            <a:ext cx="7740720" cy="5338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-11160" y="5589720"/>
            <a:ext cx="596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Electroplating bath fitted with local exhaust ventil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SB vapour degreasing"/>
          <p:cNvPicPr/>
          <p:nvPr/>
        </p:nvPicPr>
        <p:blipFill>
          <a:blip r:embed="rId1"/>
          <a:stretch/>
        </p:blipFill>
        <p:spPr>
          <a:xfrm>
            <a:off x="-77760" y="0"/>
            <a:ext cx="4711680" cy="5805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-3960" y="573408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Large vapour degreasing tan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B torn sack"/>
          <p:cNvPicPr/>
          <p:nvPr/>
        </p:nvPicPr>
        <p:blipFill>
          <a:blip r:embed="rId1"/>
          <a:stretch/>
        </p:blipFill>
        <p:spPr>
          <a:xfrm>
            <a:off x="0" y="-6480"/>
            <a:ext cx="7740720" cy="5338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-3960" y="5516640"/>
            <a:ext cx="4891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40458c"/>
                </a:solidFill>
                <a:latin typeface="Times New Roman"/>
              </a:rPr>
              <a:t>Split bag containing sodium carbona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Source: Steve Bailey – reproduced with permiss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Dust generation at powder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handling process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Dust generation can occur at many processe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illing containers with powders can displace dust laden ai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ull or partial enclosure with local exhaust ventilation may be requi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pening, emptying and disposal of ba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utomated units are widely availabl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eighing of mix ingredi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utomated weig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f manual weighing ventilated booths or cabinets may be required for hazardous materi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Dust generation at powder </a:t>
            </a:r>
            <a:br>
              <a:rPr sz="4000"/>
            </a:b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handling process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Dust generation can occur at many processe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ixing (formulation) of powd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wders can be made airborne by the mixing 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iev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intenance task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anging filt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mptying bin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11T14:25:50Z</dcterms:modified>
  <cp:revision>174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708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