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0BA10-01CF-4A68-BCE7-8C054BB257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DFD2CD-1F66-40CF-AE50-376C0B6A5EA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C05D12-8114-482B-8CF9-432E8E836D4A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547640" y="256536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Types of health effec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Genotoxicity and carcinogenicit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enotoxicity – ability of a substance to induce damage to the genetic material in a cel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uch substances termed genotoxic or mutagen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n damage the genetic material in the cell and lead to irreversible changes called mut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f mutations occur in germ cells they can be passed on to offspring where effects may be se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f mutations occur in non-germ (somatic) cells, they may change the way that normal cell division is regulated so that it becomes uncontrolled and may lead to cance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Genotoxicity and carcinogenicit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Non-genotoxic mechan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Not all carcinogens are genotoxic (e.g. asbestos) therefore there must be another mechan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peated damage to tissues may cause increased rate of cell divis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issues are constantly being damaged and repaired - any increase in cell division may lead to a greater chance of mutations becoming permanent rather than be repa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Genotoxicity and carcinogenicit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enign tumours - e.g. warts, polyps and fibroi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y grow large enough to cause p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o not spread to other parts of the 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not life-threatening, can generally be surgically remov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lignant tumou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n spread (metastasise) throughout body with development of secondary tumou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nd to respond poorly to medical treat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life-threaten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Genotoxicity and carcinogenicit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fficulties in identifying carcinoge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y potential causes of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ften difficult to prove a causal link between exposure to a substance and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ften a long latent period between exposure and development of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re is, however, significant evidence that cancer may develop after occupational exposure to a number of different chemical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lassification of carcinoge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ternational Agency for Research on Cancer (IARC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lassifies substances into 5 groups depending on strength of evidence for causing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1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cinogenic to hum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2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bably carcinogenic to hum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2B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ssibly carcinogenic to hum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3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t classifiable as to carcinogenicity 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o hum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4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bably not carcinogenic to huma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lassification of carcinoge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merican Conference of Governmental and Industrial Hygienists (ACGIH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lassifies substances into 5 groups depending on strength of evidence for causing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A1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firmed human carcino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A2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uspected human carcino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A3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firmed animal carcinogen with 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nknown relevance to hum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A4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t classifiable as a human carcino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roup A5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t suspected as a human carcinoge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lassification of carcinoge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Globally Harmonised System (GHS) of Classification of Labelling of Chemicals (see Section 11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eginning to be implemented in many count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cludes regulatory requirements to identify carcinogens on label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ensitisation – (Allergic reaction)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2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 body’s immune system reacts as if the substance is an invading micro-organism, producing an adverse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hay fever caused by poll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ite blood cells and antibodies play important roles in the body’s defence and immune syste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One type of antibody, Immunoglobulin E (IgE) is involved in many allergic respons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n first contact with an allergen, an allergy prone person makes large amounts of specific IgE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fter first exposure these antibodies remain in the blood plasma for many years and respond rapidly to further exposure to that substance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ensitisation – (Allergic reaction)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industrial hygiene there are two main types of sensitisers - respiratory sensitisers and skin sensitis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ensitisation normally develops over a period of time following repeated expos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nce sensitised, the immune system of a person is likely to respond adversely to subsequent exposure (even at very low level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ensitisation – (Allergic reaction)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kin sensitis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mmune reaction results in release of histamine that causes inflammation of the skin (allergic contact dermatiti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ymptoms include red, itchy, scaly ras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sually occurs 6 – 48 hours after expos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y also manifest as an itchy rash – pale raised areas surrounded by red skin – similar to nettle ras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amples include chromium, nickel, latex and epoxy resi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Types of health effect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11280" y="1398600"/>
            <a:ext cx="77058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66760" indent="-182520"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sphyxi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rrit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arco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ystemic toxic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otoxicity and carcinogenic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sitisation (allergic reac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productive effects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ensitisation – (Allergic reaction)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spiratory sensitis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mmune reaction results in histamine release causing a range of effects including narrowing and inflammation of airways and difficulty in breat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ymptoms in many cases are characteristic of asth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erm ‘occupational asthma’ often used instead of respiratory sensitis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n extreme cases reaction can be particularly severe leading to heart stopping (anaphylactic shock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amples include isocyanates, grain and flour dusts, rosin-cored solder fumes, animal proteins, some wood dusts and detergent and bakery enzym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Reproductive effec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productive toxica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ubstance that may affect an individual by reducing their ferti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glycol ethers, le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evelopmental toxicants (teratogen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ubstances that may affect the developing foet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y result in abnormalities of the child or affect its development after bir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lead, methyl mercury, thalidom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roup work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your allocated groups list 5 hazardous substances that people are exposed to at your workplaces. For each identified substance identify the follow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hat are the likely health effects of the substanc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.g. irritant, asphyxiant, narcotic, carcinogenic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what physical form are the substances present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.g. gas, vapour, fume, dust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re the effects acute or chronic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re the effects local or systemic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sphyxi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phyxiants can reduce the level of oxygen in the body to dangerous leve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wo types – simple asphyxiants and chemical asphyxia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imple asphyxia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emically inert – they reduce the amount of oxygen in the air by displacing it in an enclosed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r normally contains 21% oxyg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f reduced below about 16% it can result in unconsciousnes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t lower levels can lead to dea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amples include nitrogen, argon, helium, metha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hemical asphyxi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revent normal uptake or use of oxygen in the bo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aemoglobin in red blood cells, transports oxygen around the body as oxyhaemoglobi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bon monoxide binds strongly with haemoglobin forming carboxyhaemoglobin. This reduces the amount of haemoglobin available to transport oxyge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ydrogen cyanide – fast acting asphyxiant that prevents normal uptake of oxygen into the cel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rrit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 irritant can cause inflammation on contact with the skin or mucous membra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cute effects inclu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kin – rednes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yes – itchy, red or wate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per respiratory tract – coughing, sneezing (in severe cases lungs may produce excess fluid causing breathing difficulti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amples include ammonia, chlorine, oxides of nitrogen etc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rrit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hronic exposure can also lead to other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onic exposure to respiratory irritant can cause bronchit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onic exposure to skin irritants can lead to dermatitis – symptoms include dry flaking skin, itchy, redness, inflamm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xtreme form of irritation is from contact with corrosive substances that can cause tissue damage from which the tissues generally do not recov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.g. concentrated acids, alkali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Narcosi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629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 narcotic substance depresses the normal function of the central nervous system (CN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ymptoms may inclu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atigue, headaches, light headedness and euphor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t higher exposures dizziness, nausea, unconsciousness and dea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 common group of substances found in industry that can cause narcosis are organic solv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ystemic toxicit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5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ystemic toxicity - effects caused by a substance at organs remote from the point of contac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ffects may be caused by the substance or by its metabolites (breakdown product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ue to metabolic processes liver and kidney particularly susceptible to damage by toxic substan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arcinogenicity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cinogenicity – the ability of a substance (a carcinogen) to induce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ncer is a disorder of cells characterised by abnormal cell division and grow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t begins when one or more cells fails to respond to the normal control mechanisms and divide in an uncontrolled mann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wo main mechanisms by which cancer may be cau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enotoxic mechanism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rritant (non-genotoxic mechanism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11T14:21:03Z</dcterms:modified>
  <cp:revision>168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696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