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FAAA08-1A4C-4388-912B-8937A8E22B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687275-CBEF-423C-A81B-33D02A7CB2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191DE9-2F2A-445A-95E4-3879617CB0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2D3805-EE02-4C75-84BF-A8DD986489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82466B-AF7D-4C9E-BE2B-A39B2F7834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rmaceutical plant - can say a little more about this - this is the schematic of an aerosol  filling line - it is designed to fill the small aerosol cans angina sufferers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a continuous process with lots of women doing very repetitive tasks - to relieve boredom they rotate jobs frequently - HSE called in due to complaints of heada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turned up after some improvements made - ventilation system designed to protect the product from the workers not the other way round - workers wore protective equipment for the same r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297994-89F6-4546-BE7E-58848BAB0E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rmaceutical plant - can say a little more about this - this is the schematic of an aerosol  filling line - it is designed to fill the small aerosol cans angina sufferers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a continuous process with lots of women doing very repetitive tasks - to relieve boredom they rotate jobs frequently - HSE called in due to complaints of heada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turned up after some improvements made - ventilation system designed to protect the product from the workers not the other way round - workers wore protective equipment for the same r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where the nozzles are put on - note the local exhaust and glo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n the nozzle is put on some of the contents are released - sometimes into the gloves, sometimes towards the person sitting opposit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A1DF5A-A6AE-4E00-B7B1-E548D325F8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rmaceutical plant - can say a little more about this - this is the schematic of an aerosol  filling line - it is designed to fill the small aerosol cans angina sufferers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a continuous process with lots of women doing very repetitive tasks - to relieve boredom they rotate jobs frequently - HSE called in due to complaints of heada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turned up after some improvements made - ventilation system designed to protect the product from the workers not the other way round - workers wore protective equipment for the same r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where the nozzles are put on - note the local exhaust and glo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n the nozzle is put on some of the contents are released - sometimes into the gloves, sometimes towards the person sitting opposit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0FB802-C94F-4079-A677-ABEA0BD58D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verage values from several people - because of the frequent changes of job we usually got two jobs between tea breaks and voi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NG in air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wo sources of expos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illing station which sometimes did not seal the top properly and then  blew the contents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ozzling point where NG was being squirted at the fingers of the workers - latex gloves not good for stopping 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19C115-11C3-4E29-87DD-A231DB9F3A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2240" y="6091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320" y="42134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240" y="6091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7132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100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6091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320" y="42134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76720" y="42134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42134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6091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2240" y="6091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2240" y="6091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6091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22240" y="6091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6091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7132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2240" y="6091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100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2240" y="6091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320" y="42134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2240" y="6091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imes New Roman"/>
              </a:rPr>
              <a:t>M507 – Introduction to Toxicology – Case Stud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1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Nitroglycerin use in industr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828800" y="1447920"/>
            <a:ext cx="54100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Explosives Industr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1500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Defenc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1500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Quarry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1500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Demolition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Pharmaceutical Industr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1500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able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1500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Patch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1500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Spray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1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Health Effect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209680" y="1828800"/>
            <a:ext cx="4724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Vasodilato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NG Headache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Withdrawal Symptom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Headache (short term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Heart Problems (long term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Pharmaceutical Proces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1" name="Picture 3" descr="diagram"/>
          <p:cNvPicPr/>
          <p:nvPr/>
        </p:nvPicPr>
        <p:blipFill>
          <a:blip r:embed="rId1"/>
          <a:stretch/>
        </p:blipFill>
        <p:spPr>
          <a:xfrm>
            <a:off x="2438280" y="1447920"/>
            <a:ext cx="4267440" cy="487656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52" name="Text Box 4"/>
          <p:cNvSpPr/>
          <p:nvPr/>
        </p:nvSpPr>
        <p:spPr>
          <a:xfrm>
            <a:off x="7299360" y="6553080"/>
            <a:ext cx="18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Times New Roman"/>
              </a:rPr>
              <a:t>© Crown Copyright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Putting valves 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4" name="Picture 3" descr="pic2"/>
          <p:cNvPicPr/>
          <p:nvPr/>
        </p:nvPicPr>
        <p:blipFill>
          <a:blip r:embed="rId1"/>
          <a:stretch/>
        </p:blipFill>
        <p:spPr>
          <a:xfrm>
            <a:off x="1287360" y="1143000"/>
            <a:ext cx="6567480" cy="46609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55" name="Text Box 6"/>
          <p:cNvSpPr/>
          <p:nvPr/>
        </p:nvSpPr>
        <p:spPr>
          <a:xfrm>
            <a:off x="7299360" y="6553080"/>
            <a:ext cx="18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Times New Roman"/>
              </a:rPr>
              <a:t>© Crown Copyright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4840" y="1519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Fitting Nozzl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7" name="Picture 3" descr="ng"/>
          <p:cNvPicPr/>
          <p:nvPr/>
        </p:nvPicPr>
        <p:blipFill>
          <a:blip r:embed="rId1"/>
          <a:stretch/>
        </p:blipFill>
        <p:spPr>
          <a:xfrm>
            <a:off x="1981080" y="1295280"/>
            <a:ext cx="5246640" cy="4648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8" name="Text Box 5"/>
          <p:cNvSpPr/>
          <p:nvPr/>
        </p:nvSpPr>
        <p:spPr>
          <a:xfrm>
            <a:off x="7299360" y="6553080"/>
            <a:ext cx="18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Times New Roman"/>
              </a:rPr>
              <a:t>© Crown Copyright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Exposures by Task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872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299360" y="6553080"/>
            <a:ext cx="18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Times New Roman"/>
              </a:rPr>
              <a:t>© Crown Copyright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425600" y="2467080"/>
            <a:ext cx="6291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Urine samples detected exposure but  air measurements did not, indicating skin absorptio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just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Exposure shows that glove type unsuitable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just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asks (fitting nozzles) and practices (location of work stations) causing exposure were identified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11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Skin Absorption &amp; Glov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299360" y="6553080"/>
            <a:ext cx="18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Times New Roman"/>
              </a:rPr>
              <a:t>© Crown Copyright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58:35Z</dcterms:created>
  <dc:creator/>
  <dc:description/>
  <dc:language>en-US</dc:language>
  <cp:lastModifiedBy>Cally Brook</cp:lastModifiedBy>
  <dcterms:modified xsi:type="dcterms:W3CDTF">2024-03-11T11:55:29Z</dcterms:modified>
  <cp:revision>2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694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