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2035E0-2F77-44D7-9717-A41EEA26C4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37A522-E4CC-404A-BD75-610D28998E20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7450CF-49AA-48D9-8B26-B41CA319919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246842-00E5-4B0F-9EBA-890335C0EBB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62AB10-E8B6-450B-A101-9901B781DDA3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0" y="3286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98600" y="4686480"/>
            <a:ext cx="58053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9255C2-8B25-4E40-864E-3371CD452F41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FDDDB1-30D8-418D-B98D-F4C30EBD2CDE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255043-57D1-406A-BD6F-1C08269CFFCE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47640" y="2565360"/>
            <a:ext cx="60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Introduction to toxicolog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762120" y="1676520"/>
            <a:ext cx="7618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Synergistic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mbined effect is </a:t>
            </a:r>
            <a:r>
              <a:rPr b="1" lang="en-GB" sz="2000" spc="-1" strike="noStrike" u="sng">
                <a:solidFill>
                  <a:srgbClr val="40458c"/>
                </a:solidFill>
                <a:uFillTx/>
                <a:latin typeface="Times New Roman"/>
              </a:rPr>
              <a:t>greater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than the sum of the individual effects if each substance encountered alone e.g. </a:t>
            </a:r>
            <a:r>
              <a:rPr b="1" lang="en-GB" sz="2000" spc="-1" strike="noStrike">
                <a:solidFill>
                  <a:srgbClr val="40458c"/>
                </a:solidFill>
                <a:latin typeface="Times New Roman"/>
              </a:rPr>
              <a:t>(2 + 2 = 20)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arbon tetrachloride and ethanol – both are hepatoxic – but total liver damage by combined exposure is much greater than expec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moking and Asbestos – greatly increased lung cancer ri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00"/>
                </a:solidFill>
                <a:uFillTx/>
                <a:latin typeface="Times New Roman"/>
              </a:rPr>
              <a:t>(Also potentiation and antagonism)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4340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ain types of combined effec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04280"/>
            <a:ext cx="794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Limitations of toxicity testing dat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1484280"/>
            <a:ext cx="6934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ually conducted on anima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re these relevant to humans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fficult to extrapolate from high level doses to lower level expos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quires knowledge of absorption, distribution, biotransformation and excre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fferences between animals and humans in how they react to the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hysical forms of hazardous substan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6240" y="1828800"/>
            <a:ext cx="739152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Vapou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aseous phase of substance that is normally solid or liquid at ordinary temperature and pres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erosol – 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spersion of particles in ai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u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rborne solid particles (0.1 – 100 micron diamete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u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rborne solid particles generated by condensation from gaseous state (usually less than 1 micron diamete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rborne liquid drople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28036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ntroduction to Toxicolog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11280" y="2133720"/>
            <a:ext cx="802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182520" algn="just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xicity - the ability of a substance to cause harm to a biological syste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182520" algn="just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xicology - the 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tudy of the potential of a substance to produce adverse health effects on a living organism and the likelihood that the effects might occur under specified exposure conditions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907560"/>
            <a:ext cx="75056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i="1" lang="en-GB" sz="4000" spc="-1" strike="noStrike">
                <a:solidFill>
                  <a:srgbClr val="40458c"/>
                </a:solidFill>
                <a:latin typeface="Times New Roman"/>
              </a:rPr>
              <a:t>all substances are poisons; there is none which is not a poison.  The right dose differentiates a poison and a remedy…”</a:t>
            </a:r>
            <a:br>
              <a:rPr sz="4000"/>
            </a:br>
            <a:r>
              <a:rPr b="1" i="1" lang="en-GB" sz="4000" spc="-1" strike="noStrike">
                <a:solidFill>
                  <a:srgbClr val="40458c"/>
                </a:solidFill>
                <a:latin typeface="Times New Roman"/>
              </a:rPr>
              <a:t> - Paracelsus, 1493 – 1541</a:t>
            </a:r>
            <a:r>
              <a:rPr b="1" i="1" lang="en-GB" sz="4000" spc="-1" strike="noStrike">
                <a:solidFill>
                  <a:srgbClr val="05050b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16000" y="4797360"/>
            <a:ext cx="6934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58c"/>
                </a:solidFill>
                <a:latin typeface="Times New Roman"/>
              </a:rPr>
              <a:t>Any chemical may be toxic if the dose is high enough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ny chemical may be toxic if the dose is high enough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is concept is fundamental to understanding the principles of toxic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t is also important when trying to protect worker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owever, it is often difficult to link the cause and effect of a disea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Problems linking cause and effec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197000"/>
            <a:ext cx="7619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effect may not occur at time of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y the time it occurs the person may not be working with the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eople vary in susceptibility (react differentl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ariations may be due to age, gender, health status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plications of combined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to different substan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to alcohol, tobacco or prescribed drug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etailed toxicological information is often not available for many substa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asic Toxicological Term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5174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cute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ccur immediately on exposure or soon af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from relatively high d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of short dur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reversi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hronic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ccur some time after expos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from repeated lower doses over many months / yea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irreversib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asic Toxicological Ter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8640" y="1295280"/>
            <a:ext cx="76852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cal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ccur at the point of contact e.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Xylene causes de-fatting of ski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ulphuric acid causes irritation / burns on sk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lorine causes pulmonary inflammatio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ystemic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ccur at target organ remote from point of contact e.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Xylene causes dizziness / unconsciousnes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Xylene causes damage to liver / C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admium causes damage to kidne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ead causes damage to blood forming process in b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Xenobiotic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bstance not normally found or produced in a per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asic Toxicological Ter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960" y="2057040"/>
            <a:ext cx="7316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ochastic – describes likelihood of an event taking place – synonymous with rando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malignant disease such as cancer for which the probability of an effect occurring is a function of dose without threshol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nce it occurs consequence is independent of initiating do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tochastic effects do not have a threshold do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n-stochastic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inflammatory and degenerative diseas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everity and frequency of the effect varies with the do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ave a threshold dose below which they do not occu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72723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ain types of combined effec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7920" y="1236600"/>
            <a:ext cx="858816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3300"/>
                </a:solidFill>
                <a:uFillTx/>
                <a:latin typeface="Times New Roman"/>
              </a:rPr>
              <a:t>Additive eff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mbined effect of two substances is </a:t>
            </a:r>
            <a:r>
              <a:rPr b="1" lang="en-GB" sz="2000" spc="-1" strike="noStrike" u="sng">
                <a:solidFill>
                  <a:srgbClr val="40458c"/>
                </a:solidFill>
                <a:uFillTx/>
                <a:latin typeface="Times New Roman"/>
                <a:ea typeface="Times New Roman"/>
              </a:rPr>
              <a:t>equal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to the sum of the individual effec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 + 3 = 4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79360" algn="just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luene and xylene – both are irritant and narcotic, similar chemicals, affect the same target orga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79360" algn="just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79360" algn="just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rgano-phosphorus insecticides – all organo-phosphorous pesticides inhibit cholinesterase activ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dependent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oxic effects of each substance are unaffected by simultaneous exposu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1 + 2 = 1 + 2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7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7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Lead and xyle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Cally Brook</cp:lastModifiedBy>
  <dcterms:modified xsi:type="dcterms:W3CDTF">2024-03-11T11:52:24Z</dcterms:modified>
  <cp:revision>170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69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