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F4DC1A-DB7E-49A1-8CAF-D80AD89EC1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B781A9-593B-4937-AC6A-4A25617166C9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E22CF5-C735-44C7-9B32-F8EDE66C37F2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CFCF0C-FB75-4F37-A946-5E59CCDD0F93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00F939-75DA-40EC-8161-B2A9FA9EB8D9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B82EFC-3AAE-421F-BB30-8022E329A664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03ACD3-A5CE-488B-B456-1C26F59CE139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7EF631-14C8-42BE-BE6D-8B1E42890DD5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BF180D-FBE9-4F39-8387-BA4A70159A5B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9AD397-963A-469A-AB09-1A4843A1B0AD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7E2BDB-C660-407A-B5C7-886383800C11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3CDEEE-A11D-49B4-8B5A-780B3B38AD2D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0E4E98-0640-4A17-ADF4-61AF2208E183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659A4A-AB78-4B12-A585-D5651E6F6A45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07B5BF-7C85-4168-83B2-64C1249E6881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6F2D4A-965A-402A-B281-B3367E3101C8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B1163F-BCA9-4361-876A-7B100B8DDF58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88FD56-0FC2-455C-BB81-0193EED7249C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6308C4-5989-4682-A39D-00E5E09A8017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E83CD3-3260-4885-8427-30B910921DEF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38556C-AD03-4200-90BF-99F13829C9F8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F768DA-3986-404D-86C5-5606B4F1A1D5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B22A22-BEBE-492D-B0CE-B24A4A4FC3AE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054080" y="3049560"/>
            <a:ext cx="70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58c"/>
                </a:solidFill>
                <a:latin typeface="Times New Roman"/>
              </a:rPr>
              <a:t>M507 – Basic toxicokinetics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9" descr="New Fig 2.1.JPG"/>
          <p:cNvPicPr/>
          <p:nvPr/>
        </p:nvPicPr>
        <p:blipFill>
          <a:blip r:embed="rId1"/>
          <a:stretch/>
        </p:blipFill>
        <p:spPr>
          <a:xfrm>
            <a:off x="250920" y="1052640"/>
            <a:ext cx="8461440" cy="5057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28"/>
          <p:cNvSpPr/>
          <p:nvPr/>
        </p:nvSpPr>
        <p:spPr>
          <a:xfrm>
            <a:off x="5333760" y="6113520"/>
            <a:ext cx="366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0458c"/>
                </a:solidFill>
                <a:latin typeface="Arial"/>
              </a:rPr>
              <a:t>Source: Tranter 1999 –reproduced with permission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Inges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77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Not a common problem in the occupational environme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Usually occurs due t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oor personal hygiene – eating at work station or not washing hand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elessnes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oor facilit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Very high inhalable dust levels can result in ingestion via the mucociliary escalator and normal swallowing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Injec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560" y="1981080"/>
            <a:ext cx="723888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rect route of entry occurs when a substance is absorbed through cuts, or by injury with contaminated sharp objects such as needles or broken glas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4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4440" indent="-3344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isk of such injuries should be managed by protecting cuts, correct disposal of broken glass, sharps etc., and safe working practi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Distribu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1676160"/>
            <a:ext cx="84582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ubstances are transported around body predominantly via the blood and lymphatic system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ubstances may attach to red blood cells or proteins in blood plasma and be distributed around the body and may target specific orga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f lipid soluble, of small molecular size and non-ionised it is likely to cross cell membranes and enter body tiss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ater soluble chemicals tend to remain in solution in the plasm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ighly fat soluble substances will deposit and tend to remain in the body’s fat sto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Distribu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1676520"/>
            <a:ext cx="806436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ymphatic system is a complex network that produces and transports lymph fluid from tissues to the circulatory system and has three major func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moval of excess fluids from body tiss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bsorption of fatty acids and transport of fat to the circulatory syste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duction of immune cell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Distribu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8153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e ability of a substance to cross the ‘blood-brain barrier’ or the placental barrier is an important fact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ipid soluble substances can cross the ‘blood-brain barrier’ and are likely to affect the central nervous syste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organic solvents and organo-metal compound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 placental barrier is easily breached by small or lipid soluble compounds putting developing offspring at particular ris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lead or organic solve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torag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ome substances may accumulate in specific tissues, for exampl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iver – acts as a storage org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ead in the b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olvents in fatty tiss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bon monoxide in blood as carboxyhaemoglob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etabolism (biotransformation)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993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601"/>
              </a:spcBef>
              <a:buClr>
                <a:srgbClr val="6f89f7"/>
              </a:buClr>
              <a:buSzPct val="11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 major factor influencing absorption and retention of a substance in the body is its lipid solubil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601"/>
              </a:spcBef>
              <a:buClr>
                <a:srgbClr val="40458c"/>
              </a:buClr>
              <a:buSzPct val="11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or a substance to be easily eliminated from the body it needs to be in a more water-soluble for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3000"/>
              </a:lnSpc>
              <a:spcBef>
                <a:spcPts val="601"/>
              </a:spcBef>
              <a:buClr>
                <a:srgbClr val="40458c"/>
              </a:buClr>
              <a:buSzPct val="11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is is achieved via a process of metabolism (or biotransformatio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etabolism (biotransformation)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79930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601"/>
              </a:spcBef>
              <a:buClr>
                <a:srgbClr val="6f89f7"/>
              </a:buClr>
              <a:buSzPct val="11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e main objectives of biotransformation are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etoxifying a hazardous subst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king a substance more water soluble to facilitate elimination via the kidne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ll tissues are involved to some extent, however the main site is the liv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etabolism (biotransformation)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iotransformation of a compound does not always result in detoxification, it may result in the production of toxic metaboli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n-hexane metabolised to 2,5-hexanedione which can cause peripheral neuropath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Knowledge of metabolism is also required for biological monitoring as the presence or amount of a particular metabolite may indicate exposure to the hazardous subst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increased levels of carbon dioxide are found in exhaled breath following dichloromethane expos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Toxicokinetics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ffect of a hazardous substance depends on the level or concentration of the substance that is present in the body’s systems – this will depend on rates (or kinetics) o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bsorp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stribut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tabol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limin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tudy of these processes is called toxicokinetics (sometimes referred to as pharmacokinetics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etabolism (biotransformation)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iotransformation is controlled by complex enzyme systems – metabolism of xenobiotics is generally divided into two ‘phases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hase 1 reactions tend to produce a molecule that is more water soluble and more react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se reactions often involve Cytochrome P450 enzym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ypes of reactions include oxidation, reduction, hydrolysi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hase 2 reactions tend to make the phase 1 product highly water solubl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action or conjugation with another endogenous compou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Biotransformation of benzen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jor route involv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hase 1 oxidation, catalysed by Cytochrome p450 enzyme to phen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hase 2 conjugation with a sulphate donor compound to form phenyl sulph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iotransformation of benzene also produces other intermediates and metabolites – some of which may be responsible for the carcinogenic properties of benze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is is an example where the intermediate or metabolite is more toxic than the substance itsel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124000" y="22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Epoxid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724360" y="22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Hydroxyl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1532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Biotransformation of dichloromethan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71516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nother example of a substance that undergoes multiple metabolic pathway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roduces products which are more toxic than dichlorometha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.g. formaldehy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7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Biotransformation of methanol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Methanol metabolism is regulated by the alcohol </a:t>
            </a:r>
            <a:r>
              <a:rPr b="0" i="1" lang="en-GB" sz="3200" spc="-1" strike="noStrike">
                <a:solidFill>
                  <a:srgbClr val="40458c"/>
                </a:solidFill>
                <a:latin typeface="Times New Roman"/>
              </a:rPr>
              <a:t>dehydrogenase enzyme</a:t>
            </a: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05920" cy="1676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33520" y="4483080"/>
            <a:ext cx="807696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thanoic acid accumulates in the retina causing the blurred vision and blindness that occurs with methanol poisoning, the continued metabolism to CO</a:t>
            </a:r>
            <a:r>
              <a:rPr b="0" lang="en-GB" sz="2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 is slow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8640" y="333360"/>
            <a:ext cx="75042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xcre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mpounds (metabolised or not) ultimately are eliminated from the bod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e rate at which a compound is eliminated has an impact on the toxic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 longer it is in the body the greater the potential for an adverse eff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ate of excretion can be described in terms of its half lif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 algn="just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alf lives vary greatly e.g. half life of cadmium is 10-20 years, while carbon monoxide has a half life of a few hou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0955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alf-lif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ime taken for the concentration of a chemical in the body (usually measured in blood) to fall by hal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jority of excretion (~97%) completed within 5 half-liv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046640" cy="3959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209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2971800" y="37339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5013360" y="1506600"/>
            <a:ext cx="1616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ffect of half-lif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6" name="Group 33"/>
          <p:cNvGrpSpPr/>
          <p:nvPr/>
        </p:nvGrpSpPr>
        <p:grpSpPr>
          <a:xfrm>
            <a:off x="730080" y="1447920"/>
            <a:ext cx="7683840" cy="4662360"/>
            <a:chOff x="730080" y="1447920"/>
            <a:chExt cx="7683840" cy="4662360"/>
          </a:xfrm>
        </p:grpSpPr>
        <p:pic>
          <p:nvPicPr>
            <p:cNvPr id="107" name="Picture 24" descr=""/>
            <p:cNvPicPr/>
            <p:nvPr/>
          </p:nvPicPr>
          <p:blipFill>
            <a:blip r:embed="rId1"/>
            <a:stretch/>
          </p:blipFill>
          <p:spPr>
            <a:xfrm>
              <a:off x="730080" y="1447920"/>
              <a:ext cx="7683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27"/>
            <p:cNvSpPr/>
            <p:nvPr/>
          </p:nvSpPr>
          <p:spPr>
            <a:xfrm>
              <a:off x="1690560" y="185904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</a:rPr>
                <a:t>Half-life 1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09" name="Text Box 34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0458c"/>
                </a:solidFill>
                <a:latin typeface="Arial"/>
              </a:rPr>
              <a:t>© Crown Copyright 2010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Toxicokinetic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sorp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ptake of chemical into the lymph and bloo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stribu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ransport of chemical in blood and accumulation in organs and tiss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tabo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iotransformation into other products (metabolit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imin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cretion from the organ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013360" y="1506600"/>
            <a:ext cx="1616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ffect of half-lif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2" name="Group 19"/>
          <p:cNvGrpSpPr/>
          <p:nvPr/>
        </p:nvGrpSpPr>
        <p:grpSpPr>
          <a:xfrm>
            <a:off x="730080" y="1371600"/>
            <a:ext cx="7683480" cy="4662360"/>
            <a:chOff x="730080" y="1371600"/>
            <a:chExt cx="7683480" cy="4662360"/>
          </a:xfrm>
        </p:grpSpPr>
        <p:pic>
          <p:nvPicPr>
            <p:cNvPr id="113" name="Picture 14" descr=""/>
            <p:cNvPicPr/>
            <p:nvPr/>
          </p:nvPicPr>
          <p:blipFill>
            <a:blip r:embed="rId1"/>
            <a:stretch/>
          </p:blipFill>
          <p:spPr>
            <a:xfrm>
              <a:off x="730080" y="1371600"/>
              <a:ext cx="768348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5"/>
            <p:cNvSpPr/>
            <p:nvPr/>
          </p:nvSpPr>
          <p:spPr>
            <a:xfrm>
              <a:off x="1552680" y="1920960"/>
              <a:ext cx="21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</a:rPr>
                <a:t>Half-life 20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15" name="Text Box 20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0458c"/>
                </a:solidFill>
                <a:latin typeface="Arial"/>
              </a:rPr>
              <a:t>© Crown Copyright 2010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xcre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447560"/>
            <a:ext cx="791856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e main routes of excretion ar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44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730800" indent="-278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nal (via the kidneys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ain route of excretion for small water-soluble molecul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730800" indent="-278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iliary (via the liver and gastro-intestinal tract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econd most important route of elimination for hazardous substances and for some materials, e.g. lipid soluble materials, may be the most importa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730800" indent="-278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ulmonary (exhale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ay be an important route for volatile substanc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730800" indent="-2782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ecretory (in body fluid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inor rou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ssential poin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60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Toxicokinetics describ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bsorp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tabo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nd Elimination of chemica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cognising routes of absorptio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hal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kin absorp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gestion &amp; inje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ssential poin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8440"/>
            <a:ext cx="7886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Understanding that metabolism often occurs so that the body can excrete chemicals more easil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Metabolism can either reduce or increase the toxicity of chemical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Excretion half-life can have an influence on the toxicity of chemicals and is important when considering repeated exposur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Routes of Absorp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halation – via the lung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rect contact – via the skin or ey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gestion – via the gastrointestinal tract (GIT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jection – via direct puncture of the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 all routes of exposure, except injection, the chemical must cross a biological membrane to enter the body - there are two main ways this can occu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assive diffu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ctive transpor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64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hal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ases, vapours and particles - solid and liquid (aerosol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ges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acial splashing, contaminated food, hand-to-mouth behaviou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rough or between cells, via sweat glands, sebaceous glands or hair follic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assive diffus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quires a positive concentration gradient i.e. substance tends to diffuse across biological membrane from a high concentration to a lower concentr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Other factors that influence ability to cross biological membrane includ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ipid (or fat) solubil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olecular siz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egree of ionis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Generally, lipid soluble, small molecules that are non-ionised cross biological membranes more easil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Active transpor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0600" y="16765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volves a specific ‘carrier’ protein that transfers the xenobiotic across the plasma membran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an move molecules against a concentration gradient – requires energy (ATP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chanism particularly important in elimination of substances via the kidney and liver by enabling active movement of water-soluble substances across the largely fatty nature of the plasma membrane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Inhala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-32760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Usually main route of occupational expos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16040" indent="-27252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ungs have a large surface ar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16040" indent="-27252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ood blood supp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16040" indent="-27252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in membrane barr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16040" indent="-27252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igh turnover of contents of lung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16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27600" indent="-32760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bove factors lead to high potential for absorption of airborne contamina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16040" indent="-27252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nce absorbed, distribution around body via bloodstream is rapid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16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327600" indent="-32760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 addition to absorption through lungs, insoluble particles such as silica and asbestos can deposit in lungs and may lead to lung damag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758880"/>
            <a:ext cx="7777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Direct contact (skin absorption</a:t>
            </a: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67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pidermis (outer layer) of skin is impermeable to water and water-soluble compound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3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owever, some substances can enter the bloodstream by crossing the external membrane (the skin or eyes) – these tend to be highly lipid soluble compounds such 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rganic solv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rgano-phosphorous pestici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8360" indent="-281160">
              <a:lnSpc>
                <a:spcPct val="93000"/>
              </a:lnSpc>
              <a:spcBef>
                <a:spcPts val="700"/>
              </a:spcBef>
              <a:buClr>
                <a:srgbClr val="40458c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hen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8040" indent="-3380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Underlying layers of the skin (dermis) are permeable to all substances so damage to the epidermis will decrease the defence to absorption of substances through the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Cally Brook</cp:lastModifiedBy>
  <dcterms:modified xsi:type="dcterms:W3CDTF">2024-03-11T12:03:24Z</dcterms:modified>
  <cp:revision>194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70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