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C7E364-273C-4A93-A5D8-F3612AC4C3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A89EFD-C502-4895-8EB9-9BB2B0B5C777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5A5A27-7DB9-4A76-B752-40D4BF83E4E2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892548-130D-4485-B6E8-4E8D15396217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DCFA70-F85E-401E-97EB-2A577C6EDA3C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CCA747-BE83-4F88-9112-1AF4B656BFCC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58AFAB-F8C0-4146-9783-847F7C555BE7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191944-4EED-476A-95F6-44D9A7DF9F19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445BD6-AFC6-44F9-862A-9931A44B3391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10D291-CF1F-46C5-8321-A27D0EBF0CFB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741046-119E-4161-8566-C20933BBDDE7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590A7B-61AA-41A9-8CB8-1A63A2E6FC0D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499EC4-C621-40DB-A9F1-E8F4AC2912A4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57708C-21FA-4380-BB63-C5F295900AD3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0D33EC-38CF-4DC9-8DD9-B9037C8277ED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011E27-018D-489E-82A6-A2B3890BB757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041577-FC2C-4B9D-AEFE-A953D7411084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4240" y="449928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207144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4240" y="449928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96920" y="449928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42240" y="207144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9880" y="207144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4240" y="449928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42240" y="449928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9880" y="449928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14240" y="20714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96920" y="207144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6920" y="207144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14240" y="449928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6920" y="207144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96920" y="449928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920" y="207144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4240" y="449928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20714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547640" y="2565360"/>
            <a:ext cx="60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0458c"/>
                </a:solidFill>
                <a:latin typeface="Times New Roman"/>
              </a:rPr>
              <a:t>M507 – Epidemiolog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Causation or association – smoking and lung cancer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trength of associ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Lung cancer rates far higher for smokers than non-smoker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emporalit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moking precedes onset of diseas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nsistenc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Different types of studies produce the same result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Biological plausibilit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heory that smoking causes tissue damage that over time could cause cancer is highly plausib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here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heory ‘makes sense’ given current knowledg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Causation or association – smoking and lung cancer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pecificit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Lung cancer is predicted by incidence of smok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ose-response relationshi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Data showed linear relationship between amount smoked and inciden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xperimental evide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nimal experiments using tobacco tar produced cancer in tissu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nalog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Induced smoking in animal experiments showed increased lung cancer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5038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Bia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52352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ll epidemiological studies are subject to bia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81200" indent="-209520" algn="just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election bias in study group or control grou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81200" indent="-209520" algn="just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nformation bias related to the quality and accuracy of data gathered as well as errors by the interviewer or interviewe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81200" indent="-209520" algn="just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nfounding factors influence both the exposure and the outcome and therefore may show a spurious lin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any of these factors can be controlled at the planning stage of the stud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5038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Statistical significanc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523520"/>
            <a:ext cx="82090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t is important to determine whether the apparent link between exposure and outcome is statistically significant i.e. unlikely to have occurred by cha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0" algn="just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ost studies define statistically significant as 95% or better confidence that the results were not due to chance – i.e. less than 5% (1 in 20) probability the association was by chanc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ometimes written as a probability of ‘p &lt;0.05’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Lower the probability or significance the stronger the eviden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0" algn="just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stablishing statistical significance is important but is not in itself enough to confirm causality. At this stage criteria developed by Bradford-Hill need to be examined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5038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Types of epidemiological studies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447920"/>
            <a:ext cx="82090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Longitudinal stud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Follow a group of people over period of time with repeated observations of risk factors and health effec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Vary widely in size and duration (even decad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wo common types of longitudinal study are cohort and case-control stud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ross-sectional stud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042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Longitudinal studi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0360" y="1219320"/>
            <a:ext cx="8424720" cy="54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ase-control stud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Used to identify factors that may have caused a particular effect or illne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end to be retrospectiv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tudy a group (the ‘cases’) who have the effect or illness and compare with another group who do not have the effect or illness (the ‘controls’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Gather information on past exposure to the factor or substance – often difficult to get accurate dat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Often difficult to avoid possible confounding factors when choosing the control grou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Usually not the most robust type of study but often used to identify exposure / disease relationships that can then be investigated more full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042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Longitudinal studi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360" y="1142640"/>
            <a:ext cx="842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ohort stud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end to be prospectiv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Gathers data over period of time on the incidence of the effec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0" algn="just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tudy a group of people who are exposed to a particular substa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ohort group identified before appearance of the effec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ontrol group identified either from the general population or from another similar cohort who have had little or no exposure to the substance in ques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0" algn="just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otentially the most robust type of stu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end to take a long time to complete and as such can be complex and expensiv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042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Cross-sectional studi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371600"/>
            <a:ext cx="813744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nvolves observation of a group of people at a particular moment in tim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an be considered as a ‘snap-shot’ of the prevalence of the effec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0" algn="just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Group compared with a similar matched control grou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0" algn="just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Relatively quick and inexpensiv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0" algn="just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However, study only deals with a particular moment in time and cannot give information on exposure and outcome as a time dependant relationshi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0" algn="just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Not suited to an effect that is uncomm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547640" y="2565360"/>
            <a:ext cx="60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40458c"/>
                </a:solidFill>
                <a:latin typeface="Times New Roman"/>
              </a:rPr>
              <a:t>M507 – Epidemiology case study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Epidemiology case stud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Concerns have been raised that a number of people working at a plant producing ortho-toluidine have developed bladder cancer over the last few year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What information would you initially require if you were investigating the above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5038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Epidemiolog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cientific process that attempts to link exposure to hazardous substances to specific health effect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tatistical correlations developed to indicate degree of risk associated with a particular exposure patter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Epidemiological studies tend to be complex and outside the remit of most industrial hygienis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owever, important to understand the principles of epidemiolog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Initial information required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ther chemicals us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re all workers exposed to the ortho-toluidine – or just some groups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What levels of exposure have occurred to ortho-toluidine?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Number of people working at the pla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Number of cases of bladder canc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When were the cases of bladder cancer first noted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When was ortho-toluidine first used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What problems may there be in obtaining accurate information?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Epidemiological case stud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What type of epidemiological study would you suggest for this scenario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To evaluate whether there is an increased risk of bladder cancer a reference or control group is neede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Who would you select for this reference group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Epidemiological case stud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What sources would you use to gather information about exposure levels and occurrence of bladder cancer for the case and reference group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What problems may there be in getting accurate information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Epidemiological case stud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13 cases of bladder cancer out of 1749 people who worked at plan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Expected number of cases of bladder cancer in the general population – 2.1 per 1000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What is the SMR (standardised mortality ratio)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Epidemiological case stud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Is this SMR (3.5) significant or simply a random or chance occurrence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Statistical analysis required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95% confidence limits of SMR found to be 1.8 – 6.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Does this prove a causal link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Epidemiological case stud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What possible confounding factors may need to be considered when designing the study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Other chemicals use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Smoking habi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Age distribution of case and reference group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Epidemiological case stud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424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Results of epidemiological stud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ee tables 1 to 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nimal studies show increased rates of cancer in both mice and ra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Ortho-toluidine is similar chemical structure to other aromatic amines which have shown an increased risk of bladder canc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Use Bradford-Hill criteria to assess whether there is a causal link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Epidemiological case stud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Bradford-Hill criteri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trength of associ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emporalit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nsistenc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Biological plausibilit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here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pecificit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ose-response relationshi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xperimental evide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nalog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5038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Epidemiology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Much information is derived from animal tests, in-vitro tests and comparison with similar chemical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However, to establish actual risks in a population an epidemiological study is often the only valid techniqu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im is to establish a link between exposure and development of disease or ill-health e.g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Angiosarcoma of the liver and exposure to vinyl chloride monom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Mesothelioma of the lung pleura and exposure to asbest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However, clear evidence may not be available and many studies have limitations and deficienci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Historical data may be unclear or not vali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Potential problems of bias or other confounding factors in selection or monitoring of groups under stud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5038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Epidemiological term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ncidence rat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Number of new cases of ill-health or disease that occur in a population in a period of tim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ommonly expressed in number of new cases per 1000 people in group under study per yea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revalence rat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otal number of cases of ill-health or disease that exist in the population at a particular point in tim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ffected by incidence of new cases but also the duration of the effec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Findings may be expressed in terms of morbidity (number of cases of illness) or of mortality (death) rat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5038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easures of frequenc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91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ncidence and prevalence rates need to be compared to a reference (or control) group or popul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ncidence and prevalence rates can be expressed as a ratio or ‘Standardised Mortality Ratio’ (SMR) compared to reference grou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If no difference between study and reference group the SMR would be 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If greater incidence or prevalence rate in study group compared to reference group the SMR would be greater than 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(Note: some texts quote SMR’s as percentage of expected numbers of deaths or events – i.e. if no difference SMR would be 100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5038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easures of frequenc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3588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ajor potential difficulty is identifying a suitable reference population which must be matched to the study group in all aspects except exposure to the substa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0" algn="just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otential areas of difference includ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ge distribu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eneral health leve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.g. working population tends to be more healthy than the general population as this includes people unable to work due to ill-healt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5038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Causation or associat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435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mportant to differentiate between causation and associ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tudy may show a link (association) between exposure to a substance and a health effec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his does not necessarily mean there is a direct causal lin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he association may be spurious or it may be indirect through other known or unknown variabl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 number of criteria have been developed (Bradford-Hill criteria) that can be examined to provide support for a causal lin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5038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Bradford-Hill Criteria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52160" y="1413000"/>
            <a:ext cx="4637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trength of associ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Temporal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onsistenc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Biological plausibil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ohere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pecific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Dose-response relationshi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Experimental evide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nalo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5038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Bradford-Hill Criteria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218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None of the nine criteria provide indisputable evidence for or against a cause and effect hypo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Rarely will all nine points be present – however the more that are, the stronger the associ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hey can to a greater or lesser extent support or refute the hypothes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Quality of study should also be assess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hose with appropriate statistical analysis and those published in peer-reviewed journals carry more weigh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laims of causation should not be made lightly as poorly justified claims can be very mislead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0:58:35Z</dcterms:created>
  <dc:creator>A</dc:creator>
  <dc:description/>
  <dc:language>en-US</dc:language>
  <cp:lastModifiedBy>Cally Brook</cp:lastModifiedBy>
  <dcterms:modified xsi:type="dcterms:W3CDTF">2024-03-11T12:07:39Z</dcterms:modified>
  <cp:revision>173</cp:revision>
  <dc:subject/>
  <dc:title>P402 Building Surveys And Bulk Sampling For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5704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