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Text Box 83"/>
          <p:cNvSpPr/>
          <p:nvPr/>
        </p:nvSpPr>
        <p:spPr>
          <a:xfrm>
            <a:off x="735120" y="62578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507 – Health Effects of Hazardous Substanc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39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851280" y="0"/>
            <a:ext cx="403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5724360" y="189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Format of cours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ays 1 – 4  Lectures + case studies / syndicate wor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yndicate groups chosen to separate people from same company as far as possibl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ere are evening revision questions each day. These will be discussed at the start of the following morn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ay 5 – Course review and BOHS written exa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ritten exam is ‘open-book’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40 Short-answer ques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uration 100 minutes (1 hour 40 minut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012000" y="0"/>
            <a:ext cx="180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A request from me!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lease feel free to ask ques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 want the course to be interacti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 want you to get the maximum benefit from the cou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his is the first time this course has been run, so -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lease give feedback (good or bad!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012000" y="0"/>
            <a:ext cx="180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2438280"/>
            <a:ext cx="4267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pening comm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mergency Procedu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troduc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724360" y="189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[Lecturer’s Name]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(Lecturer’s introduction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796000" y="0"/>
            <a:ext cx="2016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492120"/>
            <a:ext cx="815328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[Lecturer’s Name]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8920" y="1406160"/>
            <a:ext cx="8154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(Lecturer’s introductions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796000" y="0"/>
            <a:ext cx="201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Delegat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宋体"/>
              </a:rPr>
              <a:t>Nam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宋体"/>
              </a:rPr>
              <a:t>Employ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宋体"/>
              </a:rPr>
              <a:t>Job title / ro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宋体"/>
              </a:rPr>
              <a:t>What is your expectation of this training course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724360" y="189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796000" y="0"/>
            <a:ext cx="201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ourse Aim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Provide an introduction to the principles of toxicology, physiology and epidemi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Illustrate the main types of harmful effects from exposure to chemical hazards at wor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Understand the hazards associated with common hazardous substan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796000" y="0"/>
            <a:ext cx="201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ourse learning outcom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8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articipants will be able t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Provide definitions of commonly used toxicological term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Describe the main routes by which hazardous substances can enter the body, and the factors which influence their absorption, distribution, storage and elimin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Describe the main sources of information on hazardous substances and proces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012000" y="0"/>
            <a:ext cx="180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ourse learning outcom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0400" y="1752480"/>
            <a:ext cx="72406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articipants will be able t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Describe the main features of the principle target organs affected by hazardous substances at work, and the factors which influence the degree of har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Describe the main routes of exposure and toxic and health effects for hazardous substances commonly encountered in the workpl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Undertake basic interpretation of the results from epidemiological stu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012000" y="0"/>
            <a:ext cx="180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Topics to be discussed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14320" y="1557360"/>
            <a:ext cx="5715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troduction to toxicolog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ypes of health effe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asic human biology and target orga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asic toxicokinetic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ose response curves and toxicity tes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pidemiolog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verview of health effe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mmon industrial proces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pecific industry profi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egulatory consider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(Biological hazard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12000" y="0"/>
            <a:ext cx="180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Cally Brook</cp:lastModifiedBy>
  <dcterms:modified xsi:type="dcterms:W3CDTF">2024-03-11T16:49:09Z</dcterms:modified>
  <cp:revision>166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690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