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19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5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3832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0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0896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38320" y="940896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3B28A5-7FEC-4210-8BF4-082F4D18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ful checklists for computer workstat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ivity: Work area for review; or use video cl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vide into groups of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view chosen check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bserve work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udit workstation with check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eedback to large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for examples of each dot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line design principles and describe each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im of information, displays and controls is to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Detectability --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 intended receiver can sense the sig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Recognisability --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 intended receiver can tell what the sign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Intelligibility --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 intended receiver can tell what the signal 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Conspicuousness --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signal is attention-g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form of display as best way for human to gain simultaneous perception of a large amount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isual information displays should be clear, concise and pre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sign of auditory displays must consider the operator’s ability to detect, identify and interpret the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ention tactile displ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for difference between quantitative and qualitative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th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combination displays – this representational and quanti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fer to handout – characteristics of sign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for good and poor examples of signs &amp; lab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trols provide a method for workers to change the status and operations of a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control actuator may be operated by light touch on a button, grasping and moving a lever, turning a dial, using a foot on a pedal, or other 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ayout is an important consideration for controls – discus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ch control should be readily distinguished by its location, type, shape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size, shape, colour and location of knobs and switches and other controls must be matched to usage and their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ze should accommodate large feet (pedals) or small/large hands and account for the need to wear protective clothing like gloves or safety sho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for examples: e.g. excessive force to slightly increase volume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the recommendation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ighlight the issue of stereotyping: use the L hand drive vehicle being driven by R hand drive vehicle oper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ivity: Divide into groups of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sider the principles of controls just discu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own experience of controls in workplace – as a group provide one example of an issue with controls in each of the overhea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hape &amp;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vement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trols &amp; compati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eedback to large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ftware ergonomics refers to the interface and interaction between the human and machine in terms of the softwar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ergonomic design of software aims to enhance the user’s ability to operate applications effectively, efficiently and with satisf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sideration must be given to the user characteristics, the tasks to be performed and the environment in which the system will be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mmarise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larify any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visit principle of alternating work pos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considerations for work c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slide in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ercise: Review chai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considerations for other common seated workstation: the vehicle c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for examples from participant workplaces – how do they think the seats would ‘measure up’ to these guidelin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VDT (VDU) work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plore issues under each heading, ask for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line computer equipment requirements (NB very brief, great deal of ergonomic research in these area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664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4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664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400" y="188640"/>
            <a:ext cx="857556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629400" y="7621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60280" y="6524640"/>
            <a:ext cx="641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A7A-8000-4C1E-80CB-2259C08D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6357960" y="6329520"/>
            <a:ext cx="2309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506 – Ergonomic Essent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kplace, Job &amp; Product 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4040" y="1409760"/>
            <a:ext cx="8639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5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rgonomic Essent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ssessing Computer (VDT) Works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SE  check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http://www.hse.gov.uk/campaigns/euroweek/pdfs/vduchecklist.pd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orkSafe Victo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http://www.workcover.vic.gov.au/wps/wcm/resources/file/ebcb9c435c881f7/officewise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FORMATION, DISPLAYS &amp;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uman-machine inte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chine displays information to the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perator provides information to the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chine provides feedback to the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ontrol Room"/>
          <p:cNvPicPr/>
          <p:nvPr/>
        </p:nvPicPr>
        <p:blipFill>
          <a:blip r:embed="rId1"/>
          <a:stretch/>
        </p:blipFill>
        <p:spPr>
          <a:xfrm>
            <a:off x="2556000" y="3284640"/>
            <a:ext cx="3527280" cy="264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Text Box 6"/>
          <p:cNvSpPr/>
          <p:nvPr/>
        </p:nvSpPr>
        <p:spPr>
          <a:xfrm>
            <a:off x="6086520" y="57340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formation, Displays &amp; Controls – Design princi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itability for tas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unction allocation, grouping, operational 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lf descriptiv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formation avail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trol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dundancy, accessibility, movement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formity with user expec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patibility with learning and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rror toler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rror correction, error handl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itability for individualisation and lear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lexi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S EN 894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Visual Displ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ine of 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lose window"/>
          <p:cNvPicPr/>
          <p:nvPr/>
        </p:nvPicPr>
        <p:blipFill>
          <a:blip r:embed="rId1"/>
          <a:stretch/>
        </p:blipFill>
        <p:spPr>
          <a:xfrm>
            <a:off x="4932360" y="3573360"/>
            <a:ext cx="3838680" cy="244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6" name="Text Box 6"/>
          <p:cNvSpPr/>
          <p:nvPr/>
        </p:nvSpPr>
        <p:spPr>
          <a:xfrm>
            <a:off x="6877080" y="6021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olkswagon.com.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Pj04328890000[1]"/>
          <p:cNvPicPr/>
          <p:nvPr/>
        </p:nvPicPr>
        <p:blipFill>
          <a:blip r:embed="rId2"/>
          <a:stretch/>
        </p:blipFill>
        <p:spPr>
          <a:xfrm>
            <a:off x="3492360" y="1268280"/>
            <a:ext cx="4262400" cy="28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uditory Displ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ensity, frequency, duration, timbre, time between specific s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sed wh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perator’s vision already occup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mmediate action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mple, short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orking in dark or dull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perator moving around workplace due to task requir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Quantitative &amp; Qualitative Displ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ata can be presented in a variety of way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cision based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evel of detail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peed of response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ubmarine dive display"/>
          <p:cNvPicPr/>
          <p:nvPr/>
        </p:nvPicPr>
        <p:blipFill>
          <a:blip r:embed="rId1"/>
          <a:stretch/>
        </p:blipFill>
        <p:spPr>
          <a:xfrm>
            <a:off x="2340000" y="3573360"/>
            <a:ext cx="2879640" cy="2298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3" name="Text Box 5"/>
          <p:cNvSpPr/>
          <p:nvPr/>
        </p:nvSpPr>
        <p:spPr>
          <a:xfrm>
            <a:off x="5264280" y="5538960"/>
            <a:ext cx="345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submarine display clearly demonst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position of the vessel in it’s di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(Stevens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anger &amp; Information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7760" y="2204640"/>
            <a:ext cx="3503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uditory or Visual, or comb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SO 11429 provides preferred characteristics of sig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7524720" y="2924280"/>
            <a:ext cx="93492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4643280" y="2997360"/>
            <a:ext cx="935280" cy="86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7093080" y="4221000"/>
            <a:ext cx="934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6156360" y="1773360"/>
            <a:ext cx="93492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5580000" y="4292640"/>
            <a:ext cx="935280" cy="863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5653800" y="45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afety Signs &amp; Lab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03280" y="1557360"/>
            <a:ext cx="421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spicuous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mph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ellig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erman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Pj04392440000[1]"/>
          <p:cNvPicPr/>
          <p:nvPr/>
        </p:nvPicPr>
        <p:blipFill>
          <a:blip r:embed="rId1"/>
          <a:stretch/>
        </p:blipFill>
        <p:spPr>
          <a:xfrm>
            <a:off x="6012000" y="386064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Cj04113060000[1]"/>
          <p:cNvPicPr/>
          <p:nvPr/>
        </p:nvPicPr>
        <p:blipFill>
          <a:blip r:embed="rId2"/>
          <a:stretch/>
        </p:blipFill>
        <p:spPr>
          <a:xfrm>
            <a:off x="684360" y="1413000"/>
            <a:ext cx="2333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7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sy &amp; safe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imary &amp; secondary grou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unction grou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acklit for dark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afeguards against accidental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g-cooktop-36-inch-induction.jpg"/>
          <p:cNvPicPr/>
          <p:nvPr/>
        </p:nvPicPr>
        <p:blipFill>
          <a:blip r:embed="rId1"/>
          <a:stretch/>
        </p:blipFill>
        <p:spPr>
          <a:xfrm>
            <a:off x="250920" y="3389400"/>
            <a:ext cx="4068720" cy="242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Text Box 6"/>
          <p:cNvSpPr/>
          <p:nvPr/>
        </p:nvSpPr>
        <p:spPr>
          <a:xfrm>
            <a:off x="3205800" y="58770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l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MCj04325070000[1]"/>
          <p:cNvPicPr/>
          <p:nvPr/>
        </p:nvPicPr>
        <p:blipFill>
          <a:blip r:embed="rId2"/>
          <a:stretch/>
        </p:blipFill>
        <p:spPr>
          <a:xfrm>
            <a:off x="5796000" y="836640"/>
            <a:ext cx="2808360" cy="193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Pj04004680000[1]"/>
          <p:cNvPicPr/>
          <p:nvPr/>
        </p:nvPicPr>
        <p:blipFill>
          <a:blip r:embed="rId3"/>
          <a:stretch/>
        </p:blipFill>
        <p:spPr>
          <a:xfrm>
            <a:off x="4932360" y="3141720"/>
            <a:ext cx="3168720" cy="31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hape &amp;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asily distinguished by location, type, shape, fe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ze, shape, colour, location matched to usage and impor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ccount for anthropometric variability and wearing of P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banner_knobs"/>
          <p:cNvPicPr/>
          <p:nvPr/>
        </p:nvPicPr>
        <p:blipFill>
          <a:blip r:embed="rId1"/>
          <a:stretch/>
        </p:blipFill>
        <p:spPr>
          <a:xfrm>
            <a:off x="2268360" y="4221000"/>
            <a:ext cx="4753080" cy="166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Text Box 10"/>
          <p:cNvSpPr/>
          <p:nvPr/>
        </p:nvSpPr>
        <p:spPr>
          <a:xfrm>
            <a:off x="7022880" y="5661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fam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ORKPLACE, JOB &amp; PRODUCT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3633840" cy="272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2" name="Text Box 8"/>
          <p:cNvSpPr/>
          <p:nvPr/>
        </p:nvSpPr>
        <p:spPr>
          <a:xfrm>
            <a:off x="6353280" y="59230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s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ovement, Effort, Resistance &amp; Feed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vement should produce consistent &amp; expected ef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ereotypical directions and movements (push control forward to raise forklift tines, pull back to low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ensitivity related to 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736720" cy="239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Text Box 5"/>
          <p:cNvSpPr/>
          <p:nvPr/>
        </p:nvSpPr>
        <p:spPr>
          <a:xfrm>
            <a:off x="5079240" y="602136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s (4) - Controls &amp; Compati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133200" y="981000"/>
            <a:ext cx="4721400" cy="532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mpatible controls"/>
          <p:cNvPicPr/>
          <p:nvPr/>
        </p:nvPicPr>
        <p:blipFill>
          <a:blip r:embed="rId2"/>
          <a:stretch/>
        </p:blipFill>
        <p:spPr>
          <a:xfrm>
            <a:off x="4211640" y="2565360"/>
            <a:ext cx="4608360" cy="1854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7164360" y="4292640"/>
            <a:ext cx="14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teve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Principles of Software Ergonom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7400" y="1915920"/>
            <a:ext cx="85755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SO 134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ser-centred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derstand &amp; specify the context of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pecify the user &amp; organisational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duce designs &amp; proto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duct user-based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ork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sign of work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orkspace/workstation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quipment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formation, Displays &amp;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isual, auditory disp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ayout, shape, size, movement, effort, resistance, feedback, stereoty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inciples of software ergono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ork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sign of work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orkspace/workstation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quipment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formation, Displays &amp;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isual, auditory disp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ayout, shape, size, movement, effort, resistance, feedback, stereoty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inciples of software ergono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hairs &amp; Sea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range work to combine seated and standing pos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nsiderations for work chai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justability of chair (suit 90% workfor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sture of sp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mount of static and active muscl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pression of t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ig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hind kn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ptimum sitting po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ure 6"/>
          <p:cNvPicPr/>
          <p:nvPr/>
        </p:nvPicPr>
        <p:blipFill>
          <a:blip r:embed="rId1"/>
          <a:stretch/>
        </p:blipFill>
        <p:spPr>
          <a:xfrm>
            <a:off x="2195640" y="1484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6426360" y="534672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cPh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Vehicle cab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gress/e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perator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fort (physical, environment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jus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signed for 97%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splays &amp;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Vehicle cab design - sea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16000" y="1557360"/>
          <a:ext cx="6435720" cy="3216240"/>
        </p:xfrm>
        <a:graphic>
          <a:graphicData uri="http://schemas.openxmlformats.org/drawingml/2006/table">
            <a:tbl>
              <a:tblPr/>
              <a:tblGrid>
                <a:gridCol w="1549440"/>
                <a:gridCol w="4886280"/>
              </a:tblGrid>
              <a:tr h="639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iver/Operator Seat Dimen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at depth -- 38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0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at width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450 mm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gle -- 5-10</a:t>
                      </a:r>
                      <a:r>
                        <a:rPr b="0" lang="en-AU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backw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he seat may be slightly dished (raised sides - max 25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m transverse, 40 mm lengthw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eight adjustment in the seat (at least 130 mm, 20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m preferr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eight adjustment range above floor level- - 37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 least 150 mm of travel fore/aft adjustment of seat (A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56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ont edge and sides of the seat--- well rounded to avoid pressure on the underside of the operators' thighs (approx. 6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m radi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ckrest including Lumbar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eight above seat -- approx 200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0 mm (position of mid lumbar support above se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gle adjustment of backrest -- 95-120</a:t>
                      </a:r>
                      <a:r>
                        <a:rPr b="0" lang="en-AU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to horizo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73" descr="forklift seat"/>
          <p:cNvPicPr/>
          <p:nvPr/>
        </p:nvPicPr>
        <p:blipFill>
          <a:blip r:embed="rId1"/>
          <a:srcRect l="0" t="10335" r="10689" b="25315"/>
          <a:stretch/>
        </p:blipFill>
        <p:spPr>
          <a:xfrm>
            <a:off x="7020000" y="4508640"/>
            <a:ext cx="1871640" cy="180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Text Box 74"/>
          <p:cNvSpPr/>
          <p:nvPr/>
        </p:nvSpPr>
        <p:spPr>
          <a:xfrm>
            <a:off x="6446160" y="60930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mputer (VDT) Works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sign to consid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ge, anthropometrics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ype of computer equi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ize, shape, requirements to ope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sks to be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ighting, glare, space, document holders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-176" t="1616" r="18304" b="-1698"/>
          <a:stretch/>
        </p:blipFill>
        <p:spPr>
          <a:xfrm>
            <a:off x="2484360" y="3716280"/>
            <a:ext cx="2233800" cy="220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Text Box 6"/>
          <p:cNvSpPr/>
          <p:nvPr/>
        </p:nvSpPr>
        <p:spPr>
          <a:xfrm>
            <a:off x="4771800" y="5465880"/>
            <a:ext cx="42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ated vdu workstation, note adjus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ir, and use of footrest.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S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mputer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reen im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djust for older u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ished k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eedback from k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ppropriate sha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asily grasped by h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eight, angle and tilt adjus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ppropriate  distanc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ocument hol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To raise source document allowing neutral neck pos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8810" t="0" r="16369" b="0"/>
          <a:stretch/>
        </p:blipFill>
        <p:spPr>
          <a:xfrm>
            <a:off x="6804000" y="3141720"/>
            <a:ext cx="1943280" cy="26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3" name="Picture 5" descr="j0292982"/>
          <p:cNvPicPr/>
          <p:nvPr/>
        </p:nvPicPr>
        <p:blipFill>
          <a:blip r:embed="rId2"/>
          <a:stretch/>
        </p:blipFill>
        <p:spPr>
          <a:xfrm>
            <a:off x="4284720" y="1844640"/>
            <a:ext cx="1843200" cy="1819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7453800" y="580536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SCC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33:54Z</dcterms:created>
  <dc:creator>Brian Davies</dc:creator>
  <dc:description/>
  <dc:language>en-US</dc:language>
  <cp:lastModifiedBy>Cally Brook</cp:lastModifiedBy>
  <dcterms:modified xsi:type="dcterms:W3CDTF">2024-03-07T10:11:03Z</dcterms:modified>
  <cp:revision>19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56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