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7545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75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38320" y="0"/>
            <a:ext cx="293508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10800" y="742680"/>
            <a:ext cx="4953240" cy="371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19800" cy="4457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940896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38320" y="9408960"/>
            <a:ext cx="293508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62521D8F-8ABC-468F-9D9C-E99E9F4951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19800" cy="4457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Discuss measuring impact of ergonomics – differences between PPIs and NPI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19800" cy="4457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Outline ISO standards and how deri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Discuss the TC 159 for ergonomi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19800" cy="4457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Discuss role of training in ergonomics and general workplace train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Discuss principles of tra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Explore Participant experiences with workplace training – when it was good,  when it could be improved and wh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19800" cy="4457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Describ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Use 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19800" cy="4457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Describ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Use exampl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Discuss re training in Participant workpla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19800" cy="4457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Outline these princi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Link with Occupational Hygie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7400" y="188640"/>
            <a:ext cx="857556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7400" y="1409760"/>
            <a:ext cx="8575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7400" y="3798000"/>
            <a:ext cx="8575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7400" y="188640"/>
            <a:ext cx="857556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7400" y="1409760"/>
            <a:ext cx="418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41560" y="1409760"/>
            <a:ext cx="418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7400" y="3798000"/>
            <a:ext cx="418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41560" y="3798000"/>
            <a:ext cx="418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47400" y="188640"/>
            <a:ext cx="857556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7400" y="1409760"/>
            <a:ext cx="2761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7200" y="1409760"/>
            <a:ext cx="2761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46640" y="1409760"/>
            <a:ext cx="2761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7400" y="3798000"/>
            <a:ext cx="2761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7200" y="3798000"/>
            <a:ext cx="2761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46640" y="3798000"/>
            <a:ext cx="2761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7400" y="188640"/>
            <a:ext cx="857556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7400" y="1409760"/>
            <a:ext cx="8575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7400" y="188640"/>
            <a:ext cx="857556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400" y="1409760"/>
            <a:ext cx="857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7400" y="188640"/>
            <a:ext cx="857556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7400" y="1409760"/>
            <a:ext cx="418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1560" y="1409760"/>
            <a:ext cx="418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7400" y="188640"/>
            <a:ext cx="857556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47400" y="188640"/>
            <a:ext cx="8575560" cy="335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7400" y="188640"/>
            <a:ext cx="857556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7400" y="1409760"/>
            <a:ext cx="418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1560" y="1409760"/>
            <a:ext cx="418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7400" y="3798000"/>
            <a:ext cx="418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7400" y="188640"/>
            <a:ext cx="857556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7400" y="1409760"/>
            <a:ext cx="418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1560" y="1409760"/>
            <a:ext cx="418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41560" y="3798000"/>
            <a:ext cx="418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7400" y="188640"/>
            <a:ext cx="857556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7400" y="1409760"/>
            <a:ext cx="418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1560" y="1409760"/>
            <a:ext cx="418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7400" y="3798000"/>
            <a:ext cx="8575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7400" y="188640"/>
            <a:ext cx="857556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400" y="1409760"/>
            <a:ext cx="857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6629400" y="762120"/>
            <a:ext cx="1828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60280" y="6524640"/>
            <a:ext cx="6415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BCDF5-1C19-498E-9F41-74BB18DBA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11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7"/>
          <p:cNvSpPr/>
          <p:nvPr/>
        </p:nvSpPr>
        <p:spPr>
          <a:xfrm>
            <a:off x="6357960" y="6329520"/>
            <a:ext cx="230976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506 – Ergonomic Essent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STANDARDS &amp; SOCIAL ASPEC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1" descr="MCj03787190000[1]"/>
          <p:cNvPicPr/>
          <p:nvPr/>
        </p:nvPicPr>
        <p:blipFill>
          <a:blip r:embed="rId1"/>
          <a:stretch/>
        </p:blipFill>
        <p:spPr>
          <a:xfrm>
            <a:off x="1258920" y="3500280"/>
            <a:ext cx="1627200" cy="1833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MCj03704040000[1]"/>
          <p:cNvPicPr/>
          <p:nvPr/>
        </p:nvPicPr>
        <p:blipFill>
          <a:blip r:embed="rId2"/>
          <a:stretch/>
        </p:blipFill>
        <p:spPr>
          <a:xfrm>
            <a:off x="6300720" y="549360"/>
            <a:ext cx="182556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7400" y="188640"/>
            <a:ext cx="857556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Health Information (3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32000" y="2060640"/>
            <a:ext cx="4211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Supervision &amp; Recor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Measuring Health &amp; Illn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Health surveill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Ergonomics surveill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Injury statistic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Near miss’ repor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Hazard repor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MCj02297950000[1]"/>
          <p:cNvPicPr/>
          <p:nvPr/>
        </p:nvPicPr>
        <p:blipFill>
          <a:blip r:embed="rId1"/>
          <a:stretch/>
        </p:blipFill>
        <p:spPr>
          <a:xfrm>
            <a:off x="684360" y="1557360"/>
            <a:ext cx="1776240" cy="1630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MPj04230160000[1]"/>
          <p:cNvPicPr/>
          <p:nvPr/>
        </p:nvPicPr>
        <p:blipFill>
          <a:blip r:embed="rId2"/>
          <a:stretch/>
        </p:blipFill>
        <p:spPr>
          <a:xfrm>
            <a:off x="324000" y="3860640"/>
            <a:ext cx="2130120" cy="2160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78" name="Picture 10" descr="MPj04095520000[1]"/>
          <p:cNvPicPr/>
          <p:nvPr/>
        </p:nvPicPr>
        <p:blipFill>
          <a:blip r:embed="rId3"/>
          <a:stretch/>
        </p:blipFill>
        <p:spPr>
          <a:xfrm>
            <a:off x="2627280" y="2852640"/>
            <a:ext cx="2376360" cy="1586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79" name="Picture 14" descr="MCBD04969_0000[1]"/>
          <p:cNvPicPr/>
          <p:nvPr/>
        </p:nvPicPr>
        <p:blipFill>
          <a:blip r:embed="rId4"/>
          <a:stretch/>
        </p:blipFill>
        <p:spPr>
          <a:xfrm>
            <a:off x="4067280" y="4724280"/>
            <a:ext cx="151128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7400" y="188640"/>
            <a:ext cx="857556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Measuring the Impact of Ergonomics (1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400" y="1409760"/>
            <a:ext cx="857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PP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Commit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Purchas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Safe Working syst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Identify, report &amp; corr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Monitor, record &amp; re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Skills &amp; competency standar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7400" y="188640"/>
            <a:ext cx="857556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Measuring the Impact of Ergonomics (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47400" y="1409760"/>
            <a:ext cx="857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NP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Injury/illness ra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Programme evalu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Strategic planning/organisational goa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KP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Programme audi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Accident/incident investig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Cost-benefit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e/ee work hour/yea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alary/wages cost/hour work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e/ee turnover &amp; training cos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Productivity &amp; product/service quality los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Cost of intervention implement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MPj03995460000[1]"/>
          <p:cNvPicPr/>
          <p:nvPr/>
        </p:nvPicPr>
        <p:blipFill>
          <a:blip r:embed="rId1"/>
          <a:stretch/>
        </p:blipFill>
        <p:spPr>
          <a:xfrm>
            <a:off x="6084720" y="1844640"/>
            <a:ext cx="2505240" cy="3132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7400" y="188640"/>
            <a:ext cx="857556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7400" y="2060640"/>
            <a:ext cx="857556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ISO standar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ISO/TC 15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Health inform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Evaluating ergonomic interven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7400" y="188640"/>
            <a:ext cx="857556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400" y="2060640"/>
            <a:ext cx="857556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ISO standar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ISO/TC 15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Health inform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Evaluating ergonomic interven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7400" y="188640"/>
            <a:ext cx="857556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Developing ISO Standar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400" y="1409760"/>
            <a:ext cx="857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250 technical committe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Technical Committee No. 159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(ISO/TC 159)Ergonomics advisory committe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Advises i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General ergonomics princip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Anthropometry &amp; biomechan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Ergonomics of human-system intera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Ergonomics of the physical environ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7400" y="188640"/>
            <a:ext cx="857556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ISO/TC 159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400" y="1409760"/>
            <a:ext cx="857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Enhance health, safety &amp; well-being of users (and) …meet overall perform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Prepare standards in the field of ergonomics ..for ergonomics &amp; efficient products under the conditions of free tra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Improve usability of produ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Deliver a consistent set of ergonomics requirements as a reliable basis for world-wide machine desig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7400" y="188640"/>
            <a:ext cx="857556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Training, Experience &amp; Skill Development (1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400" y="1409760"/>
            <a:ext cx="857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Training Princip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Workplace training is ongo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Choose appropriate training method for required outc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e.g. physical skill training V knowledge train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Utilise principles of adult learning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Make training releva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Build on previous knowledge/exper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Cater for different learning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Cater for different cultural and language backgroun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7400" y="188640"/>
            <a:ext cx="857556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Training, Experience &amp; Skill Development (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47400" y="1409760"/>
            <a:ext cx="857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Conduct a training needs analysis prior to training, and addres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Organisational requir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What training, where, wh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Task/job requir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Skills/abilities required to perform task/jo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Personal requir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Determine training needs of individual traine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7400" y="188640"/>
            <a:ext cx="857556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Training, Experience &amp; Skill Development (3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8920" y="1988640"/>
            <a:ext cx="42483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Types of training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Knowledge bas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On-the-jo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Simul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Part-tas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Team-bas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Refres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Other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**why &amp; h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MPj04387700000[1]"/>
          <p:cNvPicPr/>
          <p:nvPr/>
        </p:nvPicPr>
        <p:blipFill>
          <a:blip r:embed="rId1"/>
          <a:stretch/>
        </p:blipFill>
        <p:spPr>
          <a:xfrm>
            <a:off x="3492360" y="4221000"/>
            <a:ext cx="1920960" cy="19209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5" name="Picture 9" descr="MPj04316940000[1]"/>
          <p:cNvPicPr/>
          <p:nvPr/>
        </p:nvPicPr>
        <p:blipFill>
          <a:blip r:embed="rId2"/>
          <a:stretch/>
        </p:blipFill>
        <p:spPr>
          <a:xfrm>
            <a:off x="7380360" y="907920"/>
            <a:ext cx="1420920" cy="1944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6" name="Picture 10" descr="MPj04387010000[1]"/>
          <p:cNvPicPr/>
          <p:nvPr/>
        </p:nvPicPr>
        <p:blipFill>
          <a:blip r:embed="rId3"/>
          <a:stretch/>
        </p:blipFill>
        <p:spPr>
          <a:xfrm>
            <a:off x="4500720" y="2276640"/>
            <a:ext cx="3324240" cy="2043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7400" y="188640"/>
            <a:ext cx="857556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Health Information (1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1700280"/>
            <a:ext cx="421164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Duty of C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Employers have responsibility &amp; duty of care for employ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Identify all relevant haza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Assess the ris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Develop risk control strateg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Monitor effectiven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4356000" y="2065320"/>
            <a:ext cx="4103640" cy="31687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7"/>
          <p:cNvSpPr/>
          <p:nvPr/>
        </p:nvSpPr>
        <p:spPr>
          <a:xfrm>
            <a:off x="7166880" y="52293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S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7400" y="188640"/>
            <a:ext cx="857556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Health Information (2) Risk Management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" descr=""/>
          <p:cNvPicPr/>
          <p:nvPr/>
        </p:nvPicPr>
        <p:blipFill>
          <a:blip r:embed="rId1"/>
          <a:srcRect l="21106" t="29642" r="28230" b="11554"/>
          <a:stretch/>
        </p:blipFill>
        <p:spPr>
          <a:xfrm>
            <a:off x="2700360" y="1557360"/>
            <a:ext cx="5040360" cy="43974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7218720" y="5635800"/>
            <a:ext cx="34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B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0T05:33:54Z</dcterms:created>
  <dc:creator>Brian Davies</dc:creator>
  <dc:description/>
  <dc:language>en-US</dc:language>
  <cp:lastModifiedBy>Cally Brook</cp:lastModifiedBy>
  <dcterms:modified xsi:type="dcterms:W3CDTF">2024-03-07T10:04:38Z</dcterms:modified>
  <cp:revision>18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rder">
    <vt:lpwstr>32556000.0000000</vt:lpwstr>
  </property>
  <property fmtid="{D5CDD505-2E9C-101B-9397-08002B2CF9AE}" pid="3" name="display_urn:schemas-microsoft-com:office:office#Author">
    <vt:lpwstr>Simon Festing</vt:lpwstr>
  </property>
  <property fmtid="{D5CDD505-2E9C-101B-9397-08002B2CF9AE}" pid="4" name="display_urn:schemas-microsoft-com:office:office#Editor">
    <vt:lpwstr>Simon Festing</vt:lpwstr>
  </property>
</Properties>
</file>