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5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3832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080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0896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38320" y="940896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4C4AD33-0D47-4DC8-8277-B1BC4D391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ion of body parts at risk; link back with anatomy section; discuss types of joints &amp;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sk participants for jobs/tasks from their workplaces that may involve one or more of these body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cussion of figures/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rpris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s this an accurate reflection of participants’ workplace experie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980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Break into pairs and discuss work tasks that fit into these physical risk facto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eedback to large gro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400" y="379800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156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720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6640" y="140976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40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720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6640" y="3798000"/>
            <a:ext cx="276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7400" y="188640"/>
            <a:ext cx="857556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1560" y="379800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1560" y="1409760"/>
            <a:ext cx="418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400" y="3798000"/>
            <a:ext cx="8575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629400" y="76212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60280" y="6524640"/>
            <a:ext cx="641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D11A-49A7-4546-B946-AB47AF8CA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6357960" y="6329520"/>
            <a:ext cx="23097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506 – Ergonomic Essent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sculoskeletal Disor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USCULOSKELETAL DISORDERS</a:t>
            </a:r>
            <a:br>
              <a:rPr sz="36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MS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MCHM00247_0000[1]"/>
          <p:cNvPicPr/>
          <p:nvPr/>
        </p:nvPicPr>
        <p:blipFill>
          <a:blip r:embed="rId1"/>
          <a:stretch/>
        </p:blipFill>
        <p:spPr>
          <a:xfrm>
            <a:off x="5219640" y="2997360"/>
            <a:ext cx="1817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arts of body at 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ct of MSDs on indus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ow back disor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RU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jury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ntroduction &amp; Defin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5755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Any activity requiring the use of force exerted by a person to lift, lower, push, pull, carry, or otherwise move, hold or restrain an object.’  (ISO 1128-1:2003)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Note that the object may be an item or an animal or person.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Parts of body at ris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7400" y="1988640"/>
            <a:ext cx="421164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ow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Kn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k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MPj04387420000[1]"/>
          <p:cNvPicPr/>
          <p:nvPr/>
        </p:nvPicPr>
        <p:blipFill>
          <a:blip r:embed="rId1"/>
          <a:srcRect l="0" t="0" r="42863" b="0"/>
          <a:stretch/>
        </p:blipFill>
        <p:spPr>
          <a:xfrm>
            <a:off x="3203640" y="1413000"/>
            <a:ext cx="2592360" cy="340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8" name="Picture 7" descr="Blast Furnace255"/>
          <p:cNvPicPr/>
          <p:nvPr/>
        </p:nvPicPr>
        <p:blipFill>
          <a:blip r:embed="rId2"/>
          <a:stretch/>
        </p:blipFill>
        <p:spPr>
          <a:xfrm>
            <a:off x="5435640" y="3357720"/>
            <a:ext cx="3497400" cy="233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7093080" y="5734080"/>
            <a:ext cx="18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Bluescope Ste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mpact of MS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421164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U: 30-46% all work-related inju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igure consistent across developed wor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3280" y="3716280"/>
            <a:ext cx="360072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ntributing fac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sychosoc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sychophys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ersonal physical fa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haracteristics of Task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42116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epet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ea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ight intermitt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valve operate copy"/>
          <p:cNvPicPr/>
          <p:nvPr/>
        </p:nvPicPr>
        <p:blipFill>
          <a:blip r:embed="rId1"/>
          <a:stretch/>
        </p:blipFill>
        <p:spPr>
          <a:xfrm>
            <a:off x="5580000" y="3789360"/>
            <a:ext cx="3311640" cy="2482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Picture 6" descr="DSC00956"/>
          <p:cNvPicPr/>
          <p:nvPr/>
        </p:nvPicPr>
        <p:blipFill>
          <a:blip r:embed="rId2"/>
          <a:stretch/>
        </p:blipFill>
        <p:spPr>
          <a:xfrm>
            <a:off x="3780000" y="1557360"/>
            <a:ext cx="316692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Rectangle 7"/>
          <p:cNvSpPr/>
          <p:nvPr/>
        </p:nvSpPr>
        <p:spPr>
          <a:xfrm>
            <a:off x="6948360" y="314172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726160" y="63086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xamples of work tas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21164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DSC00960"/>
          <p:cNvPicPr/>
          <p:nvPr/>
        </p:nvPicPr>
        <p:blipFill>
          <a:blip r:embed="rId1"/>
          <a:stretch/>
        </p:blipFill>
        <p:spPr>
          <a:xfrm>
            <a:off x="5219640" y="3500280"/>
            <a:ext cx="3774960" cy="28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" name="Picture 6" descr="Coated Products-148"/>
          <p:cNvPicPr/>
          <p:nvPr/>
        </p:nvPicPr>
        <p:blipFill>
          <a:blip r:embed="rId2"/>
          <a:stretch/>
        </p:blipFill>
        <p:spPr>
          <a:xfrm>
            <a:off x="3492360" y="1125360"/>
            <a:ext cx="3784680" cy="2522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Text Box 7"/>
          <p:cNvSpPr/>
          <p:nvPr/>
        </p:nvSpPr>
        <p:spPr>
          <a:xfrm>
            <a:off x="7218360" y="289872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luescope Ste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148360" y="63086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7400" y="188640"/>
            <a:ext cx="85755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ature &amp; Causes of Manual Handling Disor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7400" y="1409760"/>
            <a:ext cx="857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4 key physical risk facto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s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bination of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umulative dam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33:54Z</dcterms:created>
  <dc:creator>Brian Davies</dc:creator>
  <dc:description/>
  <dc:language>en-US</dc:language>
  <cp:lastModifiedBy>Cally Brook</cp:lastModifiedBy>
  <dcterms:modified xsi:type="dcterms:W3CDTF">2024-03-07T10:03:05Z</dcterms:modified>
  <cp:revision>1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558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