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06240" y="744120"/>
            <a:ext cx="55846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FA01-610E-45A1-8CDB-94A83138B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EFC1-75B0-4408-B2B4-0DCB3F532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CDA7-F53B-4B40-B175-68D02C705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have a better learning outcome if each question is answered in class either by the group (preferably) or the lecturer. Ask if there are any questions rarely obtains a response. It may not be practical to go through the whole mock examination but an attempt should be made to address those questions that students would be expected to find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AEC8-5643-4B09-9EED-095689A6F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video of these two situations to the class. Ask them to identify all exposure sources and then develop a control strategy for each 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ask them to develop a short presentation suitable for delivery to senior management which highlights the issues, how they can be controlled, what resources are required and what benefits arise from do this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each group present their case to the “management team’ and provide feedback on what swayed you to go with a particular approach. Ensure all members of the group participate in the presentation sessions and ask questions of those who don’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24A9-7779-4313-B3FD-B7C9DD74F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the class to independently prepare a report on one of the practical exercises. You may wish to introduce an added senarion so they have to do some interpretation of data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is to see if they understand what they did in the pract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2BFB-A00F-42C2-9584-FF36695DA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summarise each section. Ask the class the key learning's they have gained in regard to the control of hazardous substances.  List the learning's on a whiteboard and highlight any that are ab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054-E554-4FDD-857F-B2CC81C67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3319-3843-407B-9D5C-D89EF800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61AF-4531-4CDC-A4CA-BDB650FD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5864400" y="6429240"/>
            <a:ext cx="4248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5 – Control of Hazardous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18600" y="1409760"/>
            <a:ext cx="9720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5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ntrol of Hazardous Subs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71760" y="5286240"/>
            <a:ext cx="8001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’s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of mock exa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ies (Group exercis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up of practical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s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Mock Examin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Studies – Group Exerci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the workplace situations and identify all potential routes of exposure. Design appropriate control strategies for the sites to minimise exposures to appropriate lev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a short presentation (3 overheads maximum) that highlights the issues, what needs to be done, what you need to do it and what are the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e up of Practical Exerci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ly prepare a report on one of the practical exerci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use student manual for gui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the data you collected from yesterday’s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rs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place control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ing control strate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sources of contamin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ilatio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s of contai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Today’s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of mock exa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ies (Group exercis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up of practical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s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3:34:55Z</dcterms:created>
  <dc:creator>Brian Davies</dc:creator>
  <dc:description/>
  <dc:language>en-US</dc:language>
  <cp:lastModifiedBy>Cally Brook</cp:lastModifiedBy>
  <dcterms:modified xsi:type="dcterms:W3CDTF">2024-03-06T20:14:26Z</dcterms:modified>
  <cp:revision>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483614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