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288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606240" y="744120"/>
            <a:ext cx="55846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7B13-2874-4A3A-A04F-3188901A6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606600" y="744480"/>
            <a:ext cx="5584680" cy="37227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D5CA-F469-492A-96FE-70C06A39F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06600" y="744480"/>
            <a:ext cx="5584680" cy="372276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DFA7-AC38-46EB-B1EC-2596B0EB8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06600" y="744480"/>
            <a:ext cx="5584680" cy="372276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have a better learning outcome if each question is answered in class either by the group (preferably) or the lecturer. Ask if there are any questions rarely obtains a respo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51C4-5215-48A7-8F96-B126D6CC4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06600" y="744480"/>
            <a:ext cx="5584680" cy="372276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hand out for details of exerci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B81C-5FD1-472D-9461-6F6D272F0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06600" y="744480"/>
            <a:ext cx="5584680" cy="37227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hand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B49E-8208-45A7-85B6-542BF1789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06600" y="744480"/>
            <a:ext cx="558468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ise students that the mock examination is provided as a learning exer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format the examination will take (eg All short answer, multiple choice or a combination of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an indication as to the level of detail and examiner would expect in short answer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DF1A-FC04-47D8-A1FE-C97FBDC14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06600" y="744480"/>
            <a:ext cx="5584680" cy="37227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se what has been covered today. Ensure students have a clear understanding of the principles demonstrated in the practical s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D6A8-10F6-4366-AD8F-B68DE56DB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458120" y="7621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93760" y="6524640"/>
            <a:ext cx="720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0210-DCE4-4944-BF7E-8AEE9DF68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0" y="1143000"/>
            <a:ext cx="1028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5864400" y="6429240"/>
            <a:ext cx="4248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505 – Control of Hazardous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18600" y="1409760"/>
            <a:ext cx="97203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50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ontrol of Hazardous Substa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Day 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571760" y="5286240"/>
            <a:ext cx="8001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day’s Top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of overnight ques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ctical exerc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ation exerc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aration for mock examin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of Overnight 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ctical Exerci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group  must complete all four exerc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anemometer (vane &amp; hot wire) and smoke tub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pitot tube to measure air veloc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a ventilation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culation Exerci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p 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the data provided to answer the required question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ations will be required in most c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ck Exami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 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t of examin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level of detail is expected in short answer ques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of Today’s Top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of overnight ques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ctical exerc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ation exerc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aration for mock examin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3:34:55Z</dcterms:created>
  <dc:creator>Brian Davies</dc:creator>
  <dc:description/>
  <dc:language>en-US</dc:language>
  <cp:lastModifiedBy>Cally Brook</cp:lastModifiedBy>
  <dcterms:modified xsi:type="dcterms:W3CDTF">2024-03-06T20:12:05Z</dcterms:modified>
  <cp:revision>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483612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