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409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" name="Picture 82" descr=""/>
          <p:cNvPicPr/>
          <p:nvPr/>
        </p:nvPicPr>
        <p:blipFill>
          <a:blip r:embed="rId2"/>
          <a:stretch/>
        </p:blipFill>
        <p:spPr>
          <a:xfrm>
            <a:off x="6013440" y="0"/>
            <a:ext cx="3130560" cy="1098720"/>
          </a:xfrm>
          <a:prstGeom prst="rect">
            <a:avLst/>
          </a:prstGeom>
          <a:ln w="0">
            <a:noFill/>
          </a:ln>
        </p:spPr>
      </p:pic>
      <p:sp>
        <p:nvSpPr>
          <p:cNvPr id="3" name="Text Box 83"/>
          <p:cNvSpPr/>
          <p:nvPr/>
        </p:nvSpPr>
        <p:spPr>
          <a:xfrm>
            <a:off x="720360" y="6257880"/>
            <a:ext cx="49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© </a:t>
            </a:r>
            <a:r>
              <a:rPr b="0" i="1" lang="en-GB" sz="1400" spc="-1" strike="noStrike">
                <a:solidFill>
                  <a:srgbClr val="40458c"/>
                </a:solidFill>
                <a:latin typeface="Times New Roman"/>
              </a:rPr>
              <a:t>Gully Howard Technical Limited and BP International Limited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M504  Asbestos and Other Fibre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Dat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Locatio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851280" y="0"/>
            <a:ext cx="40323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5724360" y="189000"/>
            <a:ext cx="20163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Topics to be discussed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846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Asbestos and other fibr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Health hazards and exposure limi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Personal protective equipm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Asbestos in buildings and survey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Risk assessment of asbestos containing material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Management of asbestos containing material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Asbestos remova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Air samplin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Analysis of bulk samples (principle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Fibre counting (principle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6012000" y="0"/>
            <a:ext cx="1800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Format of course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Day 1 – Lecture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Day 2 – Lectures + practical session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Day 3 – Lectures + practical sess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Day 4 – Lectures + case studies / syndicate wor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Day 5 – Course review and examinations 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Note: There are evening revision questions each day. These will be discussed at the start of the following morning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6012000" y="0"/>
            <a:ext cx="1800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A request!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3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Please feel free to ask questio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I want the course to be interactiv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I want you to get the maximum benefit from the cour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Please give feedback (good or bad!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6012000" y="0"/>
            <a:ext cx="1800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imes New Roman"/>
              </a:rPr>
              <a:t>Welcome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31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Opening commen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mergency Procedur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ntroductio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5724360" y="189000"/>
            <a:ext cx="20163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7960" y="1980720"/>
            <a:ext cx="3809880" cy="22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05264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Tutor 1 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828036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Details / informa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5796000" y="0"/>
            <a:ext cx="2016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105264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Tutor 2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Details / informa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5796000" y="0"/>
            <a:ext cx="2016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Delegate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宋体"/>
              </a:rPr>
              <a:t>Nam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宋体"/>
              </a:rPr>
              <a:t>Job title / rol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宋体"/>
              </a:rPr>
              <a:t>Compan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宋体"/>
              </a:rPr>
              <a:t>What is your experience of asbestos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5724360" y="189000"/>
            <a:ext cx="20163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5796000" y="0"/>
            <a:ext cx="2016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Course Aim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458c"/>
                </a:solidFill>
                <a:latin typeface="Times New Roman"/>
              </a:rPr>
              <a:t>To enhance knowledge of industrial hygiene practice in relation to fibrous dust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58c"/>
                </a:solidFill>
                <a:latin typeface="Times New Roman"/>
              </a:rPr>
              <a:t>This module concentrates on asbestos, but other fibres, e.g. machine made mineral fibres (MMMF) are also covere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458c"/>
                </a:solidFill>
                <a:latin typeface="Times New Roman"/>
              </a:rPr>
              <a:t>Give an understanding of th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58c"/>
                </a:solidFill>
                <a:latin typeface="Times New Roman"/>
              </a:rPr>
              <a:t>Health risks associated with asbestos and other fibr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58c"/>
                </a:solidFill>
                <a:latin typeface="Times New Roman"/>
              </a:rPr>
              <a:t>How the risks from asbestos products can be evaluated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58c"/>
                </a:solidFill>
                <a:latin typeface="Times New Roman"/>
              </a:rPr>
              <a:t>How the risks from asbestos products can be controlle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58c"/>
                </a:solidFill>
                <a:latin typeface="Times New Roman"/>
              </a:rPr>
              <a:t>Options for remediation of asbestos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5796000" y="0"/>
            <a:ext cx="2016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Course learning outcome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02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Participants will be able to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458c"/>
                </a:solidFill>
                <a:latin typeface="Times New Roman"/>
              </a:rPr>
              <a:t>describe the composition, nature and properties of asbestos, machine made mineral fibres and other fibres and their historical us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458c"/>
                </a:solidFill>
                <a:latin typeface="Times New Roman"/>
              </a:rPr>
              <a:t>describe the health effects of asbestos and other fibrous materials and apply appropriate exposure limi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458c"/>
                </a:solidFill>
                <a:latin typeface="Times New Roman"/>
              </a:rPr>
              <a:t>describe the uses of asbestos in buildings and the public health risk that these may po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6012000" y="0"/>
            <a:ext cx="1800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Course learning outcome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31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Participants will be able to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458c"/>
                </a:solidFill>
                <a:latin typeface="Times New Roman"/>
              </a:rPr>
              <a:t>understand principles of and requirements for asbestos surveys including taking samples and identifying bulk asbestos types by microscopic techniques including relevant safety requiremen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458c"/>
                </a:solidFill>
                <a:latin typeface="Times New Roman"/>
              </a:rPr>
              <a:t>be thoroughly familiar with current good practice in the construction and use of enclosures for asbestos remediation and the use of decontamination uni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6012000" y="0"/>
            <a:ext cx="1800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Course learning outcome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Participants will be able to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458c"/>
                </a:solidFill>
                <a:latin typeface="Times New Roman"/>
              </a:rPr>
              <a:t>understand the principles of clearance testing, the requirements for measurement and appropriate techniques for post remediation evalua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458c"/>
                </a:solidFill>
                <a:latin typeface="Times New Roman"/>
              </a:rPr>
              <a:t>conduct air sampling to determine airborne concentrations of asbestos or other fibres in accordance with defined procedures including microscopic counting techniqu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458c"/>
                </a:solidFill>
                <a:latin typeface="Times New Roman"/>
              </a:rPr>
              <a:t>have the ability to advise on all the various techniques for the management of asbestos in buildings in accordance with good practic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6012000" y="0"/>
            <a:ext cx="1800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00:58:35Z</dcterms:created>
  <dc:creator>A</dc:creator>
  <dc:description/>
  <dc:language>en-US</dc:language>
  <cp:lastModifiedBy>Roz Phillips</cp:lastModifiedBy>
  <dcterms:modified xsi:type="dcterms:W3CDTF">2024-03-01T19:11:21Z</dcterms:modified>
  <cp:revision>159</cp:revision>
  <dc:subject/>
  <dc:title>P402 Building Surveys And Bulk Sampling For Analysi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rder">
    <vt:lpwstr>32540400.0000000</vt:lpwstr>
  </property>
  <property fmtid="{D5CDD505-2E9C-101B-9397-08002B2CF9AE}" pid="3" name="display_urn:schemas-microsoft-com:office:office#Author">
    <vt:lpwstr>Simon Festing</vt:lpwstr>
  </property>
  <property fmtid="{D5CDD505-2E9C-101B-9397-08002B2CF9AE}" pid="4" name="display_urn:schemas-microsoft-com:office:office#Editor">
    <vt:lpwstr>Simon Festing</vt:lpwstr>
  </property>
</Properties>
</file>