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668520" y="6405480"/>
            <a:ext cx="42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Times New Roman"/>
              </a:rPr>
              <a:t>© </a:t>
            </a:r>
            <a:r>
              <a:rPr b="0" i="1" lang="en-GB" sz="12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5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– Asbestos removal – Case stud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Case study 2 – Removal of asbestos </a:t>
            </a:r>
            <a:br>
              <a:rPr sz="3200"/>
            </a:b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insulating board riser panels </a:t>
            </a: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moval of asbestos insulating board riser duct panels from block of flats in Lond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bestos content of insulating board – approximately 20% amosi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ment on procedures adop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Case study 1 – Asbestos rope removal – gas production platform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18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moval of asbestos rope insulation from pipework on gas production platfor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bestos content of rope – contains approximately 95 – 100% chrysoti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ment on procedures adop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Removal of asbestos insulating board ceiling panels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insulating board panels (contain approximately 20% amosite) to be removed from a school s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 would you expect the work to be undertaken?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sider the following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Work progr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moval techniq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trols to prevent spread of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econtamination procedur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learance certif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ny other issu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Removal of asbestos insulation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from under floor duc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sectional pipe insulation (contains approximately 40% chrysotile) to be removed from a hospital s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 would you expect the work to be undertaken?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sider the following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Work progr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moval techniq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trols to prevent spread of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econtamination procedur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learance certif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ealth and safety iss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ny other issu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303640" y="0"/>
            <a:ext cx="4840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249640" y="0"/>
            <a:ext cx="48942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moval of asbestos spray coating, asbestos insulating board and asbestos cement sheet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spray coating to high level beams (contains approximately 90% amosit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insulating board panels as internal wall panels (contains approximately 20% amosit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cement external sheet (contains approximately 10% chrysotil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All above to be removed from a large warehou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 would you expect the work to be undertaken? Consider the following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Work progra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Removal techniqu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Controls to prevent spread of asbes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Decontamination procedur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Clearance cert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Any other issu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249640" y="0"/>
            <a:ext cx="4894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9:07:42Z</dcterms:modified>
  <cp:revision>149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40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