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E5C3B9-9A91-4664-BF2E-92364170F7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3FB132-98D7-418F-95DC-E905B4403159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M504 – fibre count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Countable fibres as defined by </a:t>
            </a:r>
            <a:br>
              <a:rPr sz="4000"/>
            </a:b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WHO 1997 method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Fibres partially within the graticul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ount ends of fibr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plit fibr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Fibre bundl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f more than 1/8</a:t>
            </a:r>
            <a:r>
              <a:rPr b="0" lang="en-GB" sz="3200" spc="-1" strike="noStrike" baseline="30000">
                <a:solidFill>
                  <a:srgbClr val="40458c"/>
                </a:solidFill>
                <a:latin typeface="Times New Roman"/>
                <a:ea typeface="Times New Roman"/>
              </a:rPr>
              <a:t>th</a:t>
            </a:r>
            <a:r>
              <a:rPr b="0" lang="en-GB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graticule area covered with dust / particles, area rejected for counting and another area chosen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852560" y="1550880"/>
            <a:ext cx="5032440" cy="43275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4967280" y="6237360"/>
            <a:ext cx="41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From: Determination of airborne fibre concentrations, WHO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(reproduced with permission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1987560" y="1346040"/>
            <a:ext cx="4829040" cy="4438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4967280" y="6237360"/>
            <a:ext cx="41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From: Determination of airborne fibre concentrations, WHO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(reproduced with permission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1987560" y="1141560"/>
            <a:ext cx="4964040" cy="47145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4967280" y="6237360"/>
            <a:ext cx="41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From: Determination of airborne fibre concentrations, WHO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(reproduced with permission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1782720" y="1279440"/>
            <a:ext cx="5305320" cy="47736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4967280" y="6237360"/>
            <a:ext cx="41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From: Determination of airborne fibre concentrations, WHO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(reproduced with permission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1852560" y="1279440"/>
            <a:ext cx="5167440" cy="44942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4967280" y="6237360"/>
            <a:ext cx="41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From: Determination of airborne fibre concentrations, WHO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(reproduced with permission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4967280" y="6237360"/>
            <a:ext cx="41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From: Determination of airborne fibre concentrations, WHO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(reproduced with permission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987560" y="1004760"/>
            <a:ext cx="476568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2055960" y="1482840"/>
            <a:ext cx="4827600" cy="43275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4967280" y="6237360"/>
            <a:ext cx="41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From: Determination of airborne fibre concentrations, WHO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(reproduced with permission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31191717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24190715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12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Microscopy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9" name="Picture 4" descr="Microscope 1"/>
          <p:cNvPicPr/>
          <p:nvPr/>
        </p:nvPicPr>
        <p:blipFill>
          <a:blip r:embed="rId1"/>
          <a:stretch/>
        </p:blipFill>
        <p:spPr>
          <a:xfrm>
            <a:off x="1042920" y="3429000"/>
            <a:ext cx="187488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042920" y="1844640"/>
            <a:ext cx="194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hase contrast microscop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4788000" y="1844640"/>
            <a:ext cx="194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lectron microscop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2" name="Picture 7" descr="electron microscope 3"/>
          <p:cNvPicPr/>
          <p:nvPr/>
        </p:nvPicPr>
        <p:blipFill>
          <a:blip r:embed="rId2"/>
          <a:stretch/>
        </p:blipFill>
        <p:spPr>
          <a:xfrm>
            <a:off x="3708360" y="2924280"/>
            <a:ext cx="45720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68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WHO method – Evaluation of air samples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imes New Roman"/>
              </a:rPr>
              <a:t>Microscope set up for fibre counting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imes New Roman"/>
              </a:rPr>
              <a:t>Initial examination of filter at low magnification to check uniformity of deposit and filter is undamaged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imes New Roman"/>
              </a:rPr>
              <a:t>Filters examined at magnification of at least 500 time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imes New Roman"/>
              </a:rPr>
              <a:t>Fine focus needs to be adjusted at each area examined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imes New Roman"/>
              </a:rPr>
              <a:t>Graticule areas chosen at random over all of exposed filter are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rea rejected if filter grid line obscures all or part of graticule area or if more than one eighth of graticule area is occupied by fibres and / or particl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23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Number of Graticule Area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Number of graticule areas examined will depend on sampling situation, volume sampled and quantification limit requir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SG248 (UK) gives the following guidanc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ersonal sampling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Generally 100 graticule areas are counte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learance, background, reassurance, leak monitor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200 graticule areas must be counted on 480 litre samples to achieve limit of quantification of 0.01 fibres/cm</a:t>
            </a:r>
            <a:r>
              <a:rPr b="0" lang="en-GB" sz="2000" spc="-1" strike="noStrike" baseline="30000">
                <a:solidFill>
                  <a:srgbClr val="40458c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f more than 480 litre is sampled, the number of graticule areas can be reduced proportionall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Phase contrast optical microscopy method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dvantag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Results available quickly – typically a filter can be cleared and analysed within about 30 minut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quipment required is portable and can be taken to site to set up or in a small mobile laborator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ounted filter is undamaged by analysis and is available for re-counting if requir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Phase contrast optical microscopy method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Disadvantag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ethod may not produce comparable results when used by different analys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Its precision is among the poorest of any occupational hygiene assessment method (WHO 1997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Differences may occur due to variations 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Sampling methodology and sample prepar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Equipment specification and set-u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Largest potential source of differences is as a result of subjective effects associated with visual counting of fibres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Phase contrast optical microscopy method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9185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Limitatio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ethod does not positively identify fibres as asbesto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ll structures conforming to specified size criteria are counte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Upper width limit means some asbestos fibres are not count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any fibres are too small to be visible by phase contrast optical microscop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Smallest fibres visible by phase contrast optical microscopy are about 0.2 micron width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PCOM method - accuracy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0629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Microscopists generally undercount dense deposi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n dusty environments other particles on the filter may interfere with accuracy of results and may make the filter unreadab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ystematic differences in fibre counts can occur between different microscopists within and between laborato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hese intra- and inter-laboratory differences must be controlled by proper training and periodic quality check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84160"/>
            <a:ext cx="6878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Calculation of airborne fibre concentration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 = airborne concentration (fibres/ml)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 = number of fibres counte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 = diameter of exposed filter (mm)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V = volume of air sampled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(litres)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 = number of graticule areas examine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= diameter of graticule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µm)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2556000" y="1773360"/>
                <a:ext cx="308592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n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Fibre counting quality assuranc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To ensure validity of results organisations that undertake asbestos air sampling and fibre counting should meet recognised standard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tandards for competence of testing laboratories set out in ISO 1702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any countries have National accreditation schemes to assess the organisation against the ISO standard e.g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UKA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NAT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IH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Fibre counting quality assuranc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ll work must be carried out by competent trained staff using documented method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quipment suitable, regularly maintained and calibrat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anagement systems in place to ensure accuracy, suitability and confidentiality of reports, together with secure storage and archiving of records and samp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omprehensive auditing programme in pl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ystem to investigate, correct and prevent incidents of non-conforming work and complain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Fibre counting quality assuranc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136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n essential part of quality assurance is participation in internal quality control schemes and external proficiency testing (PT) schem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Particularly important for fibre counting due to large potential differences in results within and between laboratori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Examples include RICE (UK), IHPAT (US), AFRICA (International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Slides sent to the testing laboratory for counting and results compared with the ‘reference’ valu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Satisfactory performance in PT schemes normally a pre-requirement for accredit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Phase contrast microscop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t least 500 times magnific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Objective lens 40x magnific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Binocular eyepieces – at least 12.5x magnific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tage micromete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Walton-Beckett graticule in eyepiec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Test slid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Green filt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6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Microscope typ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Fibre counting quality assuranc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7989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Example of proficiency testing scheme (RICE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‘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Good’ performance defined as 75% of counts within target band ‘A’ – for most slides this is a range of 0.65 to 1.55 as a ratio compared to the reference valu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Range may seem wide but reflects the subjective nature of fibre counting, uneven distribution on the filter and variations in microscope set-up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In fact the performance criteria have become more stringent over the year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roficiency testing schemes have improved consistency and comparability of fibre counting results both within and between countries by reducing systematic error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Electron microscopy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79182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Phase contrast optical microscopy only gives a total fibre cou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n some situations it may be required to establish whether counted fibres are asbestos or not e.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Background testing when high fibre counts are foun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Leak testing where high ambient (non-asbestos) fibre levels are pres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Electron microscopy is one technique that can be used to distinguish between different fibre typ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Electron microscopy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One problem is that acetone – triacetin mounted filters cannot be further analysed by electron microscop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Either filters must be cut in half before analysis or separate samples taken and reserved for electron microscop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lectron microscopy uses an electron beam instead of a light bea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Used in conjunction with EDXA (Energy Dispersive X-ray Analysis) it enables identification of asbestos fibres by determining the chemical composition of the fib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Scanning electron microscopy (SEM)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agnification is 2000x or great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Fibre counting rules are the same as in the phase contrast optical microscopy metho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To achieve comparability with phase contrast optical microscopy method, fibres of less than 0.2 micron diameter are not counte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‘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ountable’ fibres analysed by EDXA. X-rays generated within the fibre are detected and compared with standard spectra to classify the fibre as asbestos or non-asbes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This can be used to report a ‘discriminated’ fibre count as well as a total fibre cou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Transmission electron microscopy (TEM)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an discriminate between fibre types of all sizes (as small as 0.01 micron in width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Quantitative count of ‘fibres’ within randomly selected grid opening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s with scanning electron microscopy a discriminated fibre count can be deriv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canning electron microscopy is used to give fibre counts comparable to phase contrast optical microscopy, whereas transmission electron microscopy is used more for researc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Setting up microscop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1767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Microscope must be set up correctly to achieve satisfactory performa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 ‘Test slide’ (e.g. HSE Mk2 Test Slide) should  be used to verify set u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5 sets of lines must be visibl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7" name="Picture 4" descr="28185828"/>
          <p:cNvPicPr/>
          <p:nvPr/>
        </p:nvPicPr>
        <p:blipFill>
          <a:blip r:embed="rId1"/>
          <a:stretch/>
        </p:blipFill>
        <p:spPr>
          <a:xfrm>
            <a:off x="4284720" y="2762280"/>
            <a:ext cx="485928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Fibre count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Filter prepara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Filter must be ‘cleared’ (made transparent) and fixed to a microscope slid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WHO method specifies use of acetone and triacetin to mount and clear the filte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Method uses an ‘acetone vaporiser’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8920" y="620280"/>
            <a:ext cx="74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Filter preparatio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3236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Filter is cleared with acetone vapou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riacetin provides interface between collapsed filter and coversli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ounted slide is stable for many year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Some accreditation bodies require slides to be kept for period of time e.g. UKAS require 6 month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2" name="Picture 5" descr="IMG_2649"/>
          <p:cNvPicPr/>
          <p:nvPr/>
        </p:nvPicPr>
        <p:blipFill>
          <a:blip r:embed="rId1"/>
          <a:stretch/>
        </p:blipFill>
        <p:spPr>
          <a:xfrm>
            <a:off x="4643280" y="1197000"/>
            <a:ext cx="3888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628280"/>
            <a:ext cx="7772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Filter placed on slide (grid lines uppermost and parallel to edges of slide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lide and filter placed under outlet of heater uni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cetone injected into heater unit to produce stream of acetone vapou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One drop triacetin added and coverslip placed gently onto surf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Heat at about 50</a:t>
            </a:r>
            <a:r>
              <a:rPr b="0" lang="en-GB" sz="2400" spc="-1" strike="noStrike" baseline="30000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 for 10-15 minutes to complete clear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Acetone / triacetin filter clearing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Fibre counting rul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Phase contrast optical microscopy cannot positively identify individual fibres as asbestos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Basis of WHO method is that all objects that conform to specified ‘size criteria’ are counted and assumed to be asbest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Countable fibres as defined by </a:t>
            </a:r>
            <a:br>
              <a:rPr sz="4000"/>
            </a:b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WHO 1997 method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0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Length:</a:t>
            </a: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&gt; 5</a:t>
            </a:r>
            <a:r>
              <a:rPr b="0" lang="en-GB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µ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35880" indent="-335880">
              <a:spcBef>
                <a:spcPts val="20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Width:</a:t>
            </a:r>
            <a:r>
              <a:rPr b="0" lang="en-GB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&lt; 3</a:t>
            </a:r>
            <a:r>
              <a:rPr b="0" lang="en-GB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µm (average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35880" indent="-335880">
              <a:spcBef>
                <a:spcPts val="20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Length/width ratio </a:t>
            </a:r>
            <a:r>
              <a:rPr b="0" lang="en-GB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greater than 3:1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35880" indent="-335880">
              <a:spcBef>
                <a:spcPts val="20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f the fibre is attached to a particle it is assessed as if the particle does not exist and is counted if the visible part of the fibre meets the above defini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00:58:35Z</dcterms:created>
  <dc:creator>A</dc:creator>
  <dc:description/>
  <dc:language>en-US</dc:language>
  <cp:lastModifiedBy>Roz Phillips</cp:lastModifiedBy>
  <dcterms:modified xsi:type="dcterms:W3CDTF">2024-03-01T19:05:09Z</dcterms:modified>
  <cp:revision>154</cp:revision>
  <dc:subject/>
  <dc:title>P402 Building Surveys And Bulk Sampling For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5400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