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605160" y="6249960"/>
            <a:ext cx="42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Times New Roman"/>
              </a:rPr>
              <a:t>© </a:t>
            </a:r>
            <a:r>
              <a:rPr b="0" i="1" lang="en-GB" sz="12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69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ahoma"/>
              </a:rPr>
              <a:t>M504 Risk assessment of asbestos containing material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Material Assessment Algorith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Surface treatment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(full list in MDHS 264 Appendix 4)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3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Unsealed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thermal insulation, sprayed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asbestos, loose insulation et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2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Unsealed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Insulation boards etc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Sealed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thermal insulation, sprayed coating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1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Unsealed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Asbestos cement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Sealed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Insulation boards et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0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Composit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materials (plastics, resins, vinyl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floor tiles etc)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Material Assessment Algorith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Damage and deterioration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(full list in MDHS 264 Appendix 4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3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High damage or delamination, visible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asbestos debri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2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Medium damage, significant breakage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or several small areas of damage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vealing asbestos fibres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1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ow damage, a few scratches or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urface marks, a few broken edges on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boards, tiles et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0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No visible damage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Material Assessment Algorith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Asbestos type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3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rocidolit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2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Amphibole asbestos excluding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rocidolite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1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hrysotile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Material Assessment Algorith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Additive score between 2 &amp; 12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10 + 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high risk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7-9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medium risk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5-6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low risk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&lt; 4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very low risk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tential for </a:t>
            </a:r>
            <a:r>
              <a:rPr b="0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peopl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to be exposed to asbes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te - criteria can be adapted to site circumsta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our areas identified for assess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ccupant activ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ikelihood of disturba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Human exposure potenti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aintenance activ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ach of the four areas are sub-divi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ach sub-division is given a score and the average for each area is calculate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ccupant 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rimary ac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High disturbance - e.g. door with AIB panel in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constant u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Medium disturbance - e.g. industrial activity that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may contact ACM’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Low disturbance - e.g. office type activ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Rare disturbance - e.g. little used store ro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condary activity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nsider above criter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ikelihood of disturb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3 sub-divided catego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ccessi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xtent / amoun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Confined spa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Room up to 100 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Large rooms or well ventilated are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Exter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ikelihood of disturbance (continu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ccess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Routinely disturb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Easily disturb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Occasionally likely to be disturbe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Usually inaccessible or unlikely to be disturb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xtent / Amou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&gt; 50 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r &gt; 50 m pipe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10 - 50 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r 10 - 50 m pipe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&lt; 10 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or &lt; 10 m pipe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Small amounts or items e.g. gaske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Human exposure potent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3 sub-divided catego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umber of occupa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requency of use of ar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verage time area is in us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umber of occupa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&gt;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4 to 1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1 t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Human exposure potential (continu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requency of use of ar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Dai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Weekl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Month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Infrequ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verage time area is in u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&gt; 6 hou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3 - 6 hou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1 - 3 hou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&lt; 1 hou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isk assessment of AC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en asbestos containing materials are identified (or presumed to be present) an assessment of the risk they pose should be undertaken 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Help decide what action is appropriate to deal with the asbestos containing materi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Help decide which materials should be dealt with fir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isk is dependent 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how easily the asbestos containing material can release fibr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hether the material is likely to be disturbed 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hether people are likely to be exposed to the fibr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 number of different risk assessment systems have been developed to take these factors into accou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intenance 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2 sub-divided catego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requency of maintenance activ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ype of maintenance activit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requency of maintenance ac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ore than once per mon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ore than once per ye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nce per year or less frequent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CM unlikely to be disturb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Priority risk assessment - HSG 227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aintenance 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ype of maintenance ac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3 - High levels of disturbance e.g. moving a number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of ceiling tiles for re-cabl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2 - Medium disturbance e.g. lifting a few ceiling tiles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to access a valv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1 - Low disturbance e.g. changing light bulbs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adjacent to asbestos insulation board ceil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core 0 - Minor disturbance e.g. possibility of contact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    when gaining acc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Overall Risk Assessment (MDHS 100 and HSG 227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Overall risk rating derived by adding the material risk assessment and the priority risk assessment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Note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 official guidance to the significance of the total risk rating number - many organisations have developed in-house categories for subsequent action pla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ome of the criteria used are subjective - so it is not an exact scie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Gives useful information on relative risk - but should not drive management actions purely based on numb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an be used to demonstrate reduction in ris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Risk assessment system (USA) – Environmental Protection Agency (EPA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EPA document gives guidance on assessing need for abatement, determining its timing and choosing an abatement method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It considers three types of material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urfacing materi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ipe and boiler ins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Other materi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It assumes asbestos containing materials are included in a management programme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Likelihood of fibre release determines the need and timing of additional action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Nature and location of the asbestos containing material determines the abatement method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Risk assessment system (USA) – Environmental Protection Agency (EPA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0458c"/>
                </a:solidFill>
                <a:latin typeface="Tahoma"/>
              </a:rPr>
              <a:t>Factors taken into account when assessing potential fibre releas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Current condition of asbestos containing material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Evidence of deterioration or delamination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Evidence of physical damage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Evidence of water damage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Potential for future disturbance, damage or erosion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Proximity to air plenum or direct airstream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Visibility, accessibility and degree of activity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76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Change in building use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40458c"/>
                </a:solidFill>
                <a:latin typeface="Tahoma"/>
              </a:rPr>
              <a:t>Guidance given on each of the categories and simple ratings such as ‘present’, ‘absent’, ‘high’ or ‘low’ given. Numerical values are not given to each facto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isk assessment syste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atever risk assessment system is used a number of general principles app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y should be appropriate for, and adapted if necessary for the specific situation of the organis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y should be undertaken by persons who are competent and have sufficient train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y should be reviewed regularly in accordance with any National legislative requirements and whenever there have been significant chang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9375" t="0" r="5002" b="6760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0" t="34682" r="0" b="7684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low charts (e.g. HSG 227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Based on series of flow charts or decision trees leading to a conclusion or action that should be undertaken to deal with an AC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se systems lead to consistent outco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low charts generally more useful in developing control strategies than as a risk assessment system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enerally not very good at prioritising which materials should be dealt with fir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8334" t="0" r="11668" b="0"/>
          <a:stretch/>
        </p:blipFill>
        <p:spPr>
          <a:xfrm>
            <a:off x="1919160" y="0"/>
            <a:ext cx="61581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2222" r="0" b="5555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4063" t="0" r="16407" b="0"/>
          <a:stretch/>
        </p:blipFill>
        <p:spPr>
          <a:xfrm>
            <a:off x="1822320" y="0"/>
            <a:ext cx="5983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6668" t="0" r="13335" b="0"/>
          <a:stretch/>
        </p:blipFill>
        <p:spPr>
          <a:xfrm>
            <a:off x="1901880" y="0"/>
            <a:ext cx="60228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Risk assessment systems –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ustralia (NOHSC 2018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vides a list of factors to take into account when undertaking the risk assessment of an asbestos containing material inclu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dition of material (friable, bonde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ether they are liable to damage or deterio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Whether nature or location of any work to be carried out is likely to disturb the materi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ults from air monito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Risk assessment systems –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ustralia (NOHSC 2018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oes not provide guidance on the relative weighting that the various factors should be gi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lies on the competence of the person undertaking the risk assessment to take various factors into accou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nds to be incorporated into general risk assessment syst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Risk assessment system (UK) – Algorithms (HSG 264 and HSG 227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gorithms are numerical ways of taking into account several factors by giving each factor a sc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ores added to give an overall sc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ividual judgement is still required so the process is not exa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ment process is transparent so that it can be checked for any discrepancies at a later d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Risk assessment system (UK) – Algorithms (HSG 264 and HSG 227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HSE Guidance identifies two areas a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Material assessment - Ability to release airborne fibre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ocumented in HSG 26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mmonly used by many organisations in U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mpleted as part of the surve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riority assessment - Human risk factors - needs detailed employer/premises manager inpu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ocumented in HSG 2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ess widely used - many organisations have developed own syste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ore difficult to complete as part of the on-site surve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Risk assessment system (UK) – Algorithms (HSG 264 and HSG 227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Material risk assessment (potential of the asbestos containing material to release fibres) takes into account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Product typ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Surface treatment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Extent of damage/deterioratio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Asbestos typ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imes New Roman"/>
              </a:rPr>
              <a:t>Material Assessment Algorith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6f89f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Product type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(full list in HSG 264 Appendix 4)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3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Thermal insulation, sprayed asbestos,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oose insulation et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2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Insulation boards, millboards, textiles,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gaskets, ropes et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Score 1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Asbestos cement, decorative coatings,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osite materials (plastics, resins, 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oofing felt, vinyl floor tiles) etc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8:43:18Z</dcterms:modified>
  <cp:revision>139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39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