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596880" y="6332400"/>
            <a:ext cx="42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Times New Roman"/>
              </a:rPr>
              <a:t>© </a:t>
            </a:r>
            <a:r>
              <a:rPr b="0" i="1" lang="en-GB" sz="12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12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- Asbestos – personal protective equipmen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ve equipment (RPE) – Face mask fit test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0629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ce fit test should be undertaken in accordance with validated protocols and by a competent pers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Face fit test should be repeated when the wear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anges type, model or size of respir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Undergoes substantial dental work or develops facial changes e.g. scars around face seal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ignificantly gains or loses weigh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any case it is good practice to repeat test at suitable intervals, based on risk assessment – perhaps every ye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peat testing also has benefit of being a ‘refresher training’ on the correct fitting and use of respirat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Use of respiratory protec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92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achieve adequate performan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orn correctly – wearer should perform a ‘fit check’ before each u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Beards or facial stubble will affect face seal of masks that rely on close contact between face and mask – therefore wearer must be clean shaven in face seal area for these types of ma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ther items can affect seal including hair, jewellery and frames of glass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part from face seal, the ability of a person to wear respiratory protection depends on other factors such as their health stat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onditions such as asthma, emphysema, chronic airways disease and skin sensitivity may prevent use of respirator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Personal protective cloth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993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veralls impervious to fibres should be wor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 external pockets or velcro fastening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isposable coveralls preferred – not re-used and should be disposed as asbestos was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hould have hoods – hood worn over any head straps of the respiratory protec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lasticated cuffs at wrist and ank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Worn over top of footwear to prevent dust / debris entering top of boo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ppropriate footwe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asily cleaned and decontamina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Glov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Personal protective clothing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Risks from thermal stress must be taken into account when selecting personal protective equipm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ere may be heat related concerns for those wearing protective clothing, even in moderate thermal environments, if the work is strenuo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enever protective clothing is required, it is important to consider where and how the workers will decontamina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1342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osure to asbestos should be prevented or reduced as far as reasonably practica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irborne fibre concentrations must be reduced to a minimum by means other than respiratory prot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e.g. good work practices, engineering controls, wet removal, glove-bags, shadow vacuum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ever some processes e.g. asbestos removal may generate airborne fibre concentrations in excess of international and national stand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these cases effective respiratory protection must be provided and worn correctl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Respiratory protection can only reduce exposure, not stop exposu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18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hatever type of respiratory protection is chosen it should b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dequate i.e. capable of providing effective prote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itable i.e. matched to the wearer, task and environm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orrectly u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perly stored, maintained, examined and tes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f an appropriate standard e.g. ‘CE’ or ‘NIOSH/MSHA’ mark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hosen in consultation with the worker who is to use 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4464000" y="3068640"/>
            <a:ext cx="4680000" cy="316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18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The type of respiratory protection chosen will need to take into accou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ype of work to be d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xpected fibre concentr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May not be known in advanc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Often an order of magnitude estimate is made based on previous experience or air monitor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Respiratory protection with highest assigned protection factor considered first, then other factors such as working environment, wearer and the need for other personal protective equipment taken into accou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Assigned protection factors (APF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78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signed protection factors used to predict if a particular type of respiratory protection is adequate to reduce the fibre concentration inside the mask to below the exposure standar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Variation in quoted factors between different countries / organis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xample calculation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ibre concentration in work environment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1.2 fibres/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PF (full face-piece air purifying mask UK)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xpected fibre concentration inside mask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1.2 / 40 = 0.03 fibres/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75920"/>
            <a:ext cx="70549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on – Face mask fit test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0629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erformance of tight-fitting face masks depends on achieving a good seal between the wearer and the face seal of the ma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fferent people have different shapes and sizes of face so one particular type or size of mask will not fit al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adequate fit significantly reduces the protection provided to the wear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o ensure a particular type of mask can provide adequate protection to the wearer a face-fit test should be carried out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2709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58c"/>
                </a:solidFill>
                <a:latin typeface="Times New Roman"/>
              </a:rPr>
              <a:t>Respiratory protection – Face mask fit testing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844280"/>
            <a:ext cx="80629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litative tes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ased on wearer’s subjective assessment of the leakage of a bitter or sweet tasting aerosol through the face se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Can be used for disposable or half-mask respirat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Not sufficiently sensitive for full-face mask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Quantitative test – objective measure of face fit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Most common method measures concentration of particles within the mask relative to the concentration outside the mask under specified test condi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hould be used for full-face masks and is preferred method for testing half-masks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8:34:58Z</dcterms:modified>
  <cp:revision>148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386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