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" name="Picture 82" descr="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1098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596880" y="6257880"/>
            <a:ext cx="42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Times New Roman"/>
              </a:rPr>
              <a:t>© </a:t>
            </a:r>
            <a:r>
              <a:rPr b="0" i="1" lang="en-GB" sz="1200" spc="-1" strike="noStrike">
                <a:solidFill>
                  <a:srgbClr val="40458c"/>
                </a:solidFill>
                <a:latin typeface="Times New Roman"/>
              </a:rPr>
              <a:t>Gully Howard Technical Limited and BP International Limited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4 - Health hazards and exposure limi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sotheliom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989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Very progressive diseas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ime from diagnosis to death is usually between 6 and 18 month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ng latent peri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ymptoms often do not appear until 20 to 30 years after exposure, sometimes even appearing up to 40 years la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No safe exposure limi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re does not appear to be a threshold of exposure below which the disease will not occu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isk of developing the disease increases with the intensity and duration of expos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sotheliom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ll types of asbestos have been shown to produce mesothelioma in animal experimen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sothelioma of the lung is almost always linked to asbestos exposure – mainly blue and brow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odgson and Darnton (2000) state that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specific risk of mesothelioma is in a ratio of 1:100:500 for chrysotile, amosite and crocidolite respectively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Lung cancer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lignant growth of abnormal cells in the lung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an be caused by asbestos as well as many other pollutants e.g. cigarette smoke, car exhaus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o safe exposure limi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etermining risk of asbestos related lung cancer further complicated by the much higher number of lung cancers attributable to smok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ng latent period – usually at least 10 years and may be as much as 30 or 40 years after exposure before symptoms appea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inly associated with exposure to blue and brown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isk of developing disease increases with intensity and duration of expos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ynergistic’ with smoking – greatly increased ris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2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Arial"/>
              </a:rPr>
              <a:t>Risk to health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757920" y="2922480"/>
            <a:ext cx="2187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Mortality 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0" y="2922480"/>
            <a:ext cx="2185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Death r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2386080" y="2922480"/>
            <a:ext cx="21859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Smok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01600" y="2922480"/>
            <a:ext cx="21844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0458c"/>
                </a:solidFill>
                <a:latin typeface="Arial"/>
              </a:rPr>
              <a:t>Asbestos work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757920" y="5589720"/>
            <a:ext cx="2187720" cy="60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X 5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572000" y="5589720"/>
            <a:ext cx="2185920" cy="60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601.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2386080" y="5589720"/>
            <a:ext cx="2185920" cy="60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01600" y="5589720"/>
            <a:ext cx="2184480" cy="60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6757920" y="4903920"/>
            <a:ext cx="2187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X 1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572000" y="4903920"/>
            <a:ext cx="2185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122.8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2386080" y="4903920"/>
            <a:ext cx="2185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201600" y="4903920"/>
            <a:ext cx="2184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6757920" y="4218120"/>
            <a:ext cx="2187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X 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572000" y="4218120"/>
            <a:ext cx="2185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58.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2386080" y="4218120"/>
            <a:ext cx="2185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01600" y="4218120"/>
            <a:ext cx="2184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757920" y="3532320"/>
            <a:ext cx="2187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4572000" y="3532320"/>
            <a:ext cx="2185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11.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86080" y="3532320"/>
            <a:ext cx="21859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201600" y="3532320"/>
            <a:ext cx="2184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58c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201600" y="1398600"/>
            <a:ext cx="874404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Arial"/>
              </a:rPr>
              <a:t>Asbestos and lung cancer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Arial"/>
              </a:rPr>
              <a:t>(Lung cancer death rates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Arial"/>
              </a:rPr>
              <a:t>per 100 000 person years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01600" y="1398600"/>
            <a:ext cx="8744040" cy="0"/>
          </a:xfrm>
          <a:prstGeom prst="line">
            <a:avLst/>
          </a:prstGeom>
          <a:ln cap="sq"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201600" y="3532320"/>
            <a:ext cx="8744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201600" y="4218120"/>
            <a:ext cx="8744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Line 27"/>
          <p:cNvSpPr/>
          <p:nvPr/>
        </p:nvSpPr>
        <p:spPr>
          <a:xfrm>
            <a:off x="201600" y="4903920"/>
            <a:ext cx="8744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Line 28"/>
          <p:cNvSpPr/>
          <p:nvPr/>
        </p:nvSpPr>
        <p:spPr>
          <a:xfrm>
            <a:off x="201600" y="5589720"/>
            <a:ext cx="8744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Line 29"/>
          <p:cNvSpPr/>
          <p:nvPr/>
        </p:nvSpPr>
        <p:spPr>
          <a:xfrm>
            <a:off x="201600" y="6197760"/>
            <a:ext cx="8744040" cy="0"/>
          </a:xfrm>
          <a:prstGeom prst="line">
            <a:avLst/>
          </a:prstGeom>
          <a:ln cap="sq"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201600" y="1398600"/>
            <a:ext cx="0" cy="4799160"/>
          </a:xfrm>
          <a:prstGeom prst="line">
            <a:avLst/>
          </a:prstGeom>
          <a:ln cap="sq"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Line 31"/>
          <p:cNvSpPr/>
          <p:nvPr/>
        </p:nvSpPr>
        <p:spPr>
          <a:xfrm>
            <a:off x="8945640" y="1398600"/>
            <a:ext cx="0" cy="4799160"/>
          </a:xfrm>
          <a:prstGeom prst="line">
            <a:avLst/>
          </a:prstGeom>
          <a:ln cap="sq"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Line 32"/>
          <p:cNvSpPr/>
          <p:nvPr/>
        </p:nvSpPr>
        <p:spPr>
          <a:xfrm>
            <a:off x="201600" y="2922480"/>
            <a:ext cx="8744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2386080" y="2922480"/>
            <a:ext cx="0" cy="32752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Line 34"/>
          <p:cNvSpPr/>
          <p:nvPr/>
        </p:nvSpPr>
        <p:spPr>
          <a:xfrm>
            <a:off x="4572000" y="2922480"/>
            <a:ext cx="0" cy="32752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Line 35"/>
          <p:cNvSpPr/>
          <p:nvPr/>
        </p:nvSpPr>
        <p:spPr>
          <a:xfrm>
            <a:off x="6757920" y="2922480"/>
            <a:ext cx="0" cy="32752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2830680" y="6308640"/>
            <a:ext cx="34862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B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n example of synergis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Quantitative risks from asbestos exposur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2072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fficult to determine precise levels of risk however the following general conclusions can be ma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isks from crocidolite &gt; amosite &gt;&gt; chrysoti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t 0.01 fibres / ml.years risks from chrysotile are very l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tudies show a wide range of estimates of ris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atever exposure standard is used, it does not represent a ‘safe’ level and exposure to any form of asbestos should be prevented or reduced to as low a level as is practicabl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Quantitative risks from asbestos exposur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stimation of risks from environmental exposure in buildings is even more difficul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evels of asbestos fibres in asbestos-containing buildings is usually below 0.0005 fibres/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20 years exposure to chrysotile at this level for 40 hours a week produces a lifetime risk of death of 1 in 100,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s risk would be greater for continuous exposure or exposure to amosite or crocidolit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1262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Extent of asbestos related disease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tensive use of asbestos in the past, with poor control, means that many people have developed asbestos related diseas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ng latent period means that in many countries deaths from asbestos related diseases are continuing to ris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SA – approximately 8,000 asbestos related deaths per yea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K – mesothelioma – 153 deaths in 1968, 1969 deaths in 2004, expected to rise to about 2450 deaths in about 20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K – total number of deaths due to asbestos in 2004 was about 4,000, expected to peak at about 6,000 a year between 2010 and 2015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ustralia – mesothelioma deaths – about 200 per year in the mid-late 1980’s – reaching about 470 in 1999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 number of deaths in these countries should reduce in the next deca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Exposure limits’ for asbest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89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st countries have maximum permitted levels of exposure to asbe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 a ‘safe threshold level’ cannot be established these limits do not represent ‘safe’ levels of exposure and exposure should always be prevented or reduced to as low a level as reasonably practica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National limi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SA – ACGIH Threshold Limit Value (TLV) – 0.1 fibres / 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averaged over an 8-hour perio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K – Control limit – 0.1 fibres / 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averaged over a 4-hour perio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(Peak exposure limit of 0.6 fibres / cm</a:t>
            </a:r>
            <a:r>
              <a:rPr b="0" lang="en-GB" sz="18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 over a ten minute period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ustralia – National Exposure Standard – 0.1 fibres / cm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 averaged over an 8-hour perio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Typical exposure levels for asbesto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HSG 247 gives the following estimates in fibres/cm</a:t>
            </a:r>
            <a:r>
              <a:rPr b="0" lang="en-GB" sz="28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ell controlled work with AC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ntrolled wet stripping of lagging using manual tools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areful removal of AIB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rilling AIB with shadow vacuuming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orly controlled 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artially wetted or dry stripping of lagging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1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artially wetted or dry stripping of spray coating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10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rilling AIB without shadow vacuuming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1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ower sawing AIB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2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and sawing AIB 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p to 10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Typical exposure levels for asbesto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640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 a comparison the DETR Asbestos and MMMF in buildings (1999) gives the following estimates in fibres/cm</a:t>
            </a:r>
            <a:r>
              <a:rPr b="0" lang="en-GB" sz="2800" spc="-1" strike="noStrike" baseline="30000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Background (outdoor) concentration 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    0.000001 – 0.000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 buildings where ACMs are in good condition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0.000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learance indicator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effects of asbest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fibres are a particular problem because of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ir siz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bility to split into finer fib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ir resistance to chemical attac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bres can remain airborne for long periods of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hen inhaled they are carried in the air-stream and can deposit within the respiratory syst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arge fibres (width greater than 3 microns) deposit in major airways of lungs, generally cleared by cilia and mucou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maller fibres (width less than 3 microns) can reach the alveoli (gas-exchange region) of the lung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4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Inhalation studies for other fibr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y synthetic fibrous materials have been developed as replacement materials for asbe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e.g. glass fibre, rock wool, slag wool, refractory ceramic fibres 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while these fibres are generally not crystalline and do not split lengthways to form thinner fibres, they can become airborne and may deposit somewhere in the respiratory system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cerns have been raised over possible health effects, particularly if fibres are of a similar size to asbe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ny studies have been undertak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4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Inhalation studies for other fibr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me animal studies have shown carcinogenicity when fibres directly implanted into lung tissue, however these effects have not been observed by fibre inhalation stu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ome studies have shown that more durable (or bio-persistent) fibres may cause greater health effe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owever, the effects were much less than those associated with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ny inhalation studies have been undertaken and generally do not indicate significant concerns with regard to lung diseases for most man-made mineral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owever, refractory ceramic fibres appear to be of greater risk than glass fi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15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effects of other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ost common effect of many man made mineral fibres is an acute irritation of the skin, eyes and upper respiratory tra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lass fibre and some synthetic fibres have been classified by IARC as carcinogens since the late 1980’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Originally, glass wool, rock wool and slag wool were placed in Category 2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se categories have now been reviewed and they are now placed in Category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wever, evidence of carcinogenicity has been found for some refractory ceramic fibres that have high bio-persistence and also for some ‘special purpose’ or ‘superfine’ fibres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se are classified by the IARC as Category 2B carcinogen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415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effects of other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9898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rbon fibres are generally too large to reach the deep lung (alveoli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nd to deposit further up the respiratory syste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mited information on any fibrogenic or carcinogenic potenti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ramid fibrils have been shown to caused fibrosis in inhalation studies on ra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otential to cause cancer not confirm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Exposure limits’ for man made mineral fibr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National limi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K – Workplace Exposure Limits defined in two ways – a gravimetric limit and a fibre count limit (depending on fibre type involve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st man-made mineral fibres – 5 mg/m3 and 2 fibre/m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fractory ceramic fibres and special purpose fibres – 5 mg/m3 and 1 fibre/m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A – ACGIH Threshold Limit Valu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st man-made mineral fibres – 1 fibre/m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fractory ceramic fibres – 0.2 fibre/m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ypical exposures to MMMF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usually well controlled during manufactur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igh exposure levels can occur during installation, construction and removal activi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 particular problem can occur during furnace wrecking and demolition work involving refractory ceramic fibre products where these products have been heated to temperatures of 1000</a:t>
            </a:r>
            <a:r>
              <a:rPr b="0" lang="en-GB" sz="24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 or abov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t these temperatures these materials can be converted to cristobalite (a crystalline form of silica that is hazardous by inhalation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0545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orld Health Organisation approach to eliminating asbestos related diseas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urrent estima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125 million people in world exposed to asbestos in the workpla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90,000 people die each year from asbestos related diseas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urrent use of asbe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hrysotile still widely us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90% used in asbestos-cement building material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7% used in friction material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re than 40 countries (including all of European Union) have banned use of all forms of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World production of asbestos still exceeds 2 million tonnes per annum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05456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World Health Organisation approach to eliminating asbestos related diseas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st efficient way to eliminate asbestos related disease is to stop using all types of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ontinued use of asbestos in construction industry is a particular concer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bestos can be replaced by other materials that pose less ris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aterials containing asbestos should be encapsulate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Generally work should not be undertaken if likely to disturb asbes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f necessary, work should only be undertaken with precautions such 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Encapsul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Wet process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Local exhaust ventilation with filtr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Regular cleanin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Personal protective equipm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Times New Roman"/>
              </a:rPr>
              <a:t>Decontamination faciliti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Approaches to eliminating asbestos related diseas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rogressive legislative approach adopted in many countries as hazards became cleare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UK approach typica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rogressive reduction in ‘control limits’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ing out / banning of high risk 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hasing out / banning of types of asbe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Increasingly stringent requirements for working with / removing asbestos 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icensed contractors for work with asbesto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05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Approaches to eliminating asbestos related diseas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Categories of people at ris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product manufacturers / installe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hased out in many countri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removal contract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icensed, training, specified controls, minimise fibre release, decontamination procedures, personal protective equipm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orkers who knowingly work on asbestos 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strict work to lower risk materials, training, minimise fibre release, personal protective equipment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orkers who unknowingly disturb asbestos 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bestos register, management of asbestos containing materials, information available, permit to work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effects of asbest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Doll and Peto (1985) report th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he hazard from airborne asbestos is greatest from fibres of between 5 and 100 micron in length, with diameters less than 1.5 or 2 micron, and with aspect ratios of more than 5 to 1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or asbestos fibres, length seems to be the (main) factor in health issues and very short fibres may not be carcinogenic at all. There is no evidence however of a cut off point for width or diameter.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321000" y="112536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Structure of the lung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773360"/>
            <a:ext cx="28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rachea (windpip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84360" y="24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ronch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1417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Bronchio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5276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Alveolu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684360" y="5996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iaphrag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84360" y="375444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Pleura &amp; Pleural membra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3492360" y="1989000"/>
            <a:ext cx="23036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1909800" y="2637000"/>
            <a:ext cx="3600360" cy="504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2341440" y="3357720"/>
            <a:ext cx="2446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979640" y="4292640"/>
            <a:ext cx="17287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979640" y="5516640"/>
            <a:ext cx="22320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>
            <a:off x="2268360" y="6237360"/>
            <a:ext cx="17272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Health effects of asbest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sothelio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Lung canc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leural plaqu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ickening of the membrane lining the lung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Detected by chest X-ray, rarely of clinical significance as they are benign (do not become malignant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y indicate significant asbestos exposure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war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ometimes found on skin of workers, particularly hand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ibres lodge in skin and are overgrown causing benign growth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sbestosi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Disease first acknowledged in 1927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s a scarring or fibrosis of the lung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Severity depends on the amount of exposure and the duration of exposure (the dos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is is a clear example of a dose-response relationsh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bestosis can be caused by all forms of asbes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Occurs after long-term, heavy exposure – high fibre concentrations over many yea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39152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Asbestosi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crophage cells in alveoli unable to completely engulf the fibre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 a result the macrophage cells die and release digestive enzymes and chemic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s attracts fibroblasts – cells responsible for ‘wound healing’ and creating fibrous tiss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is causes a fibrosis or scarring of the lung tiss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duction in elasticity of lung tissue causes shortness of breath and reduced ability to take up oxyge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ften leads to severe respiratory problems and heart fail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esothelioma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sotheliu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embrane lining of several body cavities and organs includ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ungs (pleural mesothelium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bdominal cavity (peritoneal mesothelium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esotheliom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lignant tumour in which mesothelial cells become abnormal and divide without contro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hese abnormal cells can metastasize (migrate) to other parts of the bod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sbestos related mesothelioma usually occurs in the pleural mesothelium and may spread to other areas such as the peritoneu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8:32:53Z</dcterms:modified>
  <cp:revision>154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384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