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409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409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409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" name="Picture 82" descr=""/>
          <p:cNvPicPr/>
          <p:nvPr/>
        </p:nvPicPr>
        <p:blipFill>
          <a:blip r:embed="rId2"/>
          <a:stretch/>
        </p:blipFill>
        <p:spPr>
          <a:xfrm>
            <a:off x="6013440" y="0"/>
            <a:ext cx="3130560" cy="1098720"/>
          </a:xfrm>
          <a:prstGeom prst="rect">
            <a:avLst/>
          </a:prstGeom>
          <a:ln w="0">
            <a:noFill/>
          </a:ln>
        </p:spPr>
      </p:pic>
      <p:sp>
        <p:nvSpPr>
          <p:cNvPr id="3" name="Text Box 83"/>
          <p:cNvSpPr/>
          <p:nvPr/>
        </p:nvSpPr>
        <p:spPr>
          <a:xfrm>
            <a:off x="720360" y="6257880"/>
            <a:ext cx="49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© </a:t>
            </a:r>
            <a:r>
              <a:rPr b="0" i="1" lang="en-GB" sz="1400" spc="-1" strike="noStrike">
                <a:solidFill>
                  <a:srgbClr val="40458c"/>
                </a:solidFill>
                <a:latin typeface="Times New Roman"/>
              </a:rPr>
              <a:t>Gully Howard Technical Limited and BP International Limited</a:t>
            </a: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M504 - Asbestos types and propert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roperties of asbestos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Industrial applications of asbestos take advantage of a combination of propert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Use of fibre as reinforcing material largely dependent on length of fib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Other properties that make asbestos useful inclu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lexibil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igh tensile streng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Non-combustibil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sistance to hea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w electrical conductiv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Resistance to chemical attac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roperties of asbestos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1342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hrysotile much more flexible than the amphibol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It is more suitable for weaving into a material and has been preferentially used in textiles and paper produc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nsile streng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Similar for crocidolite, amosite, chrysoti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ffect of high temperatures on tensile strengt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hrysotile – largely unaffected up to 550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. Above this temperature dehydroxylation occurs with resulting rapid loss of tensile strengt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mphiboles – tensile strength decreases after exposure to temperatures above 200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, with dehydroxylation occurring above 400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roperties of asbestos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Combustibil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sbestos fibres do not burn, although will undergo changes at high temperat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idespread use as fire-proof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Thermal conductiv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All asbestos types have very low thermal conductivities – i.e. they are all very good insulating material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Widespread use in thermal insulation and lagging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roperties of asbestos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062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Resistance to chemical attac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enerally unaffected by wa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Exposure to acids can lead to some breakdown of the asbestos fib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ysotile has very low resistance to acid att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mphiboles (particularly crocidolite) much more resistant to acid attac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rocidolite widely used where resistance to chemical (acid) attack is required e.g. gaskets in chemical plant and gas production pla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roperties of asbestos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Resistance to chemical attac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For exposure to alkalis chrysotile is the most resistant to attack, with amphiboles being slightly less resista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ysotile widely used in cement 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ysotile is hydrophilic (easily wette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mphibole asbestos are more hydrophobic (not easily wetted)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Properties of asbestos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Effects of thermal degradatio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Main effect of high temperature is to cause dehydroxylation (loss of water of crystallisation from the miner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hrysotile – dehydroxylation occurs between 550 – 750 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mphiboles – dehydroxylation occurs between 400 – 600 </a:t>
            </a:r>
            <a:r>
              <a:rPr b="0" lang="en-GB" sz="2000" spc="-1" strike="noStrike" baseline="30000">
                <a:solidFill>
                  <a:srgbClr val="40458c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rmal decomposition can cause oxidation of iron in the mineral leading to colour chang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Amosite – pale brown to dark brow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Crocidolite – blue to dark blue / black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Uses of asbest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Widespread uses of asbestos includ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hermal and acoustic ins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Spray coating (as fire protecti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reinforced building boa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sbestos reinforced cement produc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Plastic products (e.g. vinyl floor tile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Texti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riction materials (brake pads etc)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askets and packing material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oofing felts et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ny type of asbestos may have been used, however, for some products some types of asbestos are more likely</a:t>
            </a: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Asbestos – what is it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918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Naturally occurring fibrous silicate mineral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ide range of useful properties have led to it being used in many products since ancient tim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Was commercially mined in many count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anada, South Africa, Russia, Zimbabwe, China, USA, Italy, Australia, Cyprus et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rysotile is the most common asbestos mineral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(about 90% of asbestos mined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411280" y="0"/>
            <a:ext cx="47325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Asbestos - contaminant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989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sbestos is sometimes found as a contaminant in other minerals being mined or extracted e.g. iron ore, vermiculite and tal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istorically substances such as industrial talc may have been contaminated with asbestos (particularly tremolite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ome deposits of chrysotile have been found to be contain small quantities of amphibole minerals such as tremolit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Man made mineral fibres (MMMF)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28036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arge group of synthetic materials manufactured from molten glass, rock, slag or clay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lass wool or glass fibre, rock wool and slag woo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Widely used for thermal and acoustic insulation, fire protection and as reinforcing material in building products such as ceiling til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tinuous filament fib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Long fibres woven into cloth or used in manufacture of electrical insulators and to reinforce plastics and other material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fractory ceramic fib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sed in building boards and where high temperature insulation properties are required (e.g. in furnace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Based on pure alumina or zirconia or mixtures of alumina and silic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Asbestos – people at risk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918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Evidence of harmful effects from asbestos exposure became apparent during the 20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 centur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Workers initially found to be at risk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sbestos miner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sbestos insulation installers (lagger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Asbestos textile worke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Groups with very high exposure level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Occurrence of asbestosis documented first, followed later by increased risk of lung cancer and then mesotheliom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s use of asbestos insulating board increased – builders and construction trades exposed to high levels of asbesto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09480"/>
            <a:ext cx="820728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0458c"/>
                </a:solidFill>
                <a:latin typeface="Times New Roman"/>
              </a:rPr>
              <a:t>Machine made mineral fibres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Machine made mineral fibres typically have fibre diameters much larger than asbestos fib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Glass wool, rock wool, slag wool diameters of 1 to 10 micron but typically within the range 4 – 9 micr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ontinuous filament fibre diameters of 6 – 15 micron but typically within the range 8 – 10 micr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Refractory ceramic fibres have diameters around 1 – 3 micr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However ‘special purpose’ or ‘superfine’ fibres have diameters in the range 0.1 – 3 micr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Toxicity of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072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bre toxicity determined by dose, dimension and durabi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Diameter of the fibre is critical in determining where the fibre deposits in the lu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ibres of diameter 3 micron or greater do not reach the deep lu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ost machine made mineral fibre diameters are greater than 3 micron and do not split along their length into finer fibr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Most asbestos fibres have diameters much less than 3 micron and can split along their length into finer fibr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Fibre durability (or bio-persistence) determines how long it will remain in the lu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alf life of MMMF in the lungs varies from days to month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alf life of chrysotile in the lungs is months to a few yea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alf life of amphibole fibres in the lungs is several decad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Other common man made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arbon fib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ypically 5 – 15 micron diameter fibr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Flexible, light, strong, corrosion resista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High abrasion and wear resista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Poor insulator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sed in advanced composite materials to improve strength, durability or electrical conductiv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Aramid fibres (e.g. Kevlar and Twaron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Typically 12 – 15 micron diameter fibres, however small (&lt; 1 micron) diameter fibrils also pres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Very strong, flexible, resistant to heat, chemicals and abras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58c"/>
                </a:solidFill>
                <a:latin typeface="Times New Roman"/>
              </a:rPr>
              <a:t>Used in advanced composite materials to improve strength and durabil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58c"/>
                </a:solidFill>
                <a:latin typeface="Times New Roman"/>
              </a:rPr>
              <a:t>Other common man made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9898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imes New Roman"/>
              </a:rPr>
              <a:t>Polyolefin fibr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ong chain polym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Polyethylene and polypropylene widely produced and us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ypically greater than 10 micron diameter fib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Low tensile strength and melt at low temperatu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imes New Roman"/>
              </a:rPr>
              <a:t>Typically used in textile applications such as carpet backings, textiles and rop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Asbestos – people at risk?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9185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Production and use of asbestos products in UK, USA etc declined from mid 1970’s and the very high exposure levels previously encountered have largely ceas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these countries, workers most at risk now are those that may inadvertently disturb asbestos products during repair and refurbishment 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However, in some countries asbestos is still being used, or use only recently stopped. In these countries, the potential for high exposure levels is much grea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n all cases a comprehensive asbestos management system should be in pl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Asbestos – 6 different mineral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rpentine group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hrysotile - white asbest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Amphibole group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osite - brown asbestos (grunerit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rocidolite - blue asbestos (riebeckite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nthophylli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remoli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Actinoli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55640" y="580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imes New Roman"/>
              </a:rPr>
              <a:t>Chrysotile, amosite and crocidolite fib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Asbestos fibre properti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Occur as bundles of fibr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asily separate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an split into thinner fibr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igh tensile strengt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High length / diameter (aspect) rati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Minimum of 20 – can be up to 1000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ufficiently flexible to be spu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58c"/>
                </a:solidFill>
                <a:latin typeface="Times New Roman"/>
              </a:rPr>
              <a:t>Structure of asbestos fibr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Amphibo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ystalline structure – chain silicat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ifferent amphiboles distinguished by variations in chemical composi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bres are generally straighter, more brittle and split into finer fibres more readily than serpent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f89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rpentin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Crystalline structure – sheet silica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croll-like’ structur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Fibres are less straight, more flexible and less liable to split into finer fibres compared to the amphibo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0:58:35Z</dcterms:created>
  <dc:creator>A</dc:creator>
  <dc:description/>
  <dc:language>en-US</dc:language>
  <cp:lastModifiedBy>Roz Phillips</cp:lastModifiedBy>
  <dcterms:modified xsi:type="dcterms:W3CDTF">2024-03-01T18:28:38Z</dcterms:modified>
  <cp:revision>151</cp:revision>
  <dc:subject/>
  <dc:title>P402 Building Surveys And Bulk Sampling For Analy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382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