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607680" y="744120"/>
            <a:ext cx="5581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D85E-E569-4DAE-8E35-FBB59072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5A6B-EF6F-4E48-9ABD-526FC913F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627120" y="762120"/>
            <a:ext cx="5600520" cy="37335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23400" y="4723920"/>
            <a:ext cx="50022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0600" y="423288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060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3484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3280" y="184464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15600" y="184464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0600" y="423288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3280" y="423288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15600" y="423288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0600" y="184464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060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0600" y="184464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484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0600" y="423288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0600" y="423288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060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3484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3280" y="184464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15600" y="184464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0600" y="423288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3280" y="423288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15600" y="4232880"/>
            <a:ext cx="310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90600" y="188640"/>
            <a:ext cx="9648720" cy="335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060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4840" y="423288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4840" y="1844640"/>
            <a:ext cx="47084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0600" y="4232880"/>
            <a:ext cx="964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0600" y="184464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7925-8C06-4DCD-ADEC-D909FBA58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987480" y="6524640"/>
            <a:ext cx="47988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Arial"/>
              </a:rPr>
              <a:t>© 2009 Associates in Acoustics, Inc , BP International Limited &amp; University of Wollong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0600" y="140976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458120" y="76212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293760" y="6524640"/>
            <a:ext cx="7207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DDAF-C3A2-49F8-BEE5-97E29C00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0" y="1143000"/>
            <a:ext cx="10287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57120" y="150012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M50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Noise - Measurement &amp; Its Eff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Day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vey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400" y="1371600"/>
            <a:ext cx="92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a surveys as contours by machine, work area or map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ure survey data in terms of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Aeq,8h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check if  L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Pea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xcess and docu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r documentation for future referenc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ise Contr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6240" y="1371240"/>
            <a:ext cx="90802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ineering noise control – at source by replacement or remedial meas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control – work practices to limit time of exp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90600" y="333360"/>
            <a:ext cx="92581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al Hearing Pro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90600" y="907920"/>
            <a:ext cx="96868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ly reduce the noise at the ear when properly selected and properly w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adequate reduction - 75-80 dBA in 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oid over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itable for the work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in use and Moti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diometric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960" y="1371600"/>
            <a:ext cx="915192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 before exp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  audiometric checks for those &gt;85d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ermination of em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analy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ention when Threshold Shif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28400" y="1371600"/>
            <a:ext cx="925812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fy employee and counsel the employe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not using HPDs, provide and train in us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using HPDs, check, refit, retrain in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eat audiometric check within 30 d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rmed Threshold Shif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8400" y="1371240"/>
            <a:ext cx="92581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ion noise exposure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estigation of noise control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 employee and advise follow-up a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ing HCP Effective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0240" y="1371240"/>
            <a:ext cx="92962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 – from audiometric che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all 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control compliance aud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metric data base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for temporary threshold shi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188640"/>
            <a:ext cx="9258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1680" y="620280"/>
            <a:ext cx="7200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measurements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exposure assess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loyees included in the H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metric testing and notif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HPDs avail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reco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9258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ord Keeping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1680" y="1143000"/>
            <a:ext cx="720072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control studies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CP program and policy docu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ing protection effectiveness che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ts of HC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ibration of instrumen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600" y="189000"/>
            <a:ext cx="96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ention Strateg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39320" y="1142640"/>
            <a:ext cx="8688600" cy="50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employees at ri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problem job/work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y Qui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ineering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ing protector refit/retr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Learning Outco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96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–up of Practical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on practical aspects of noise assess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Control Program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ck Exam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0600" y="189000"/>
            <a:ext cx="96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ention Strategies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39320" y="1213920"/>
            <a:ext cx="86886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metric test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ial events motiv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ts of hearing protector u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co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courage hearing protectors in non wo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79320" y="1125360"/>
            <a:ext cx="93600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st practice” approach may be challenging in some workplac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there are many op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proper implement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revention hearing loss from occupational noise exp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’s Learning Outco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9648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– up of practical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on practical aspects of noise assessm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Control Program Evalu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ck Exam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10287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elines For an Effective Hear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rvation Program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90600" y="184464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line “best practice” approa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Pract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9720" y="1428840"/>
            <a:ext cx="89442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dures for measuring the no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ation of employee noise expos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controls – engineering and administrat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sion of hearing prote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metric tes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240" y="907920"/>
            <a:ext cx="871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vey all work areas – identify &gt;80 dB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essment noise exposures &gt;80 d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 employees and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date noise surveys at least 2 years or when chan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ise control measures – if engineering and administrative controls insufficient then hearing protect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teps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080" y="981000"/>
            <a:ext cx="92581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gnage for all work area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85 d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ing protection readily available signed are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– initial and refresher- for all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85 d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ometric monitoring offered to all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85 d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anent threshold shifts repor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 of Steps (co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0600" y="1844640"/>
            <a:ext cx="96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 evaluation of HCP 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ords of all components  - area noise surveys, personal exposures hearing protection and audiometric testing  - kept for legislative requirement or at least 30 yea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ise Surv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8400" y="907560"/>
            <a:ext cx="9258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who needs to be in HCP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rmine area and equipment noise levels, and generate noise contour maps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 acoustical data for noise control engineering purposes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all hearing protection required areas, 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 the selection of the appropriate hearing protection devic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0600" y="188640"/>
            <a:ext cx="964872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28400" y="1052640"/>
            <a:ext cx="92581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ments must meet standards and be properly maintain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a surveys measure and document all areas &gt;80 dBA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osure surveys for all  working &gt;80 d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ining for those doing surve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-evaluations every 2-5 years or when chan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3:34:55Z</dcterms:created>
  <dc:creator>Brian Davies</dc:creator>
  <dc:description/>
  <dc:language>en-US</dc:language>
  <cp:lastModifiedBy>Roz Phillips</cp:lastModifiedBy>
  <dcterms:modified xsi:type="dcterms:W3CDTF">2024-02-28T13:58:45Z</dcterms:modified>
  <cp:revision>18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rder">
    <vt:lpwstr>32525000.0000000</vt:lpwstr>
  </property>
  <property fmtid="{D5CDD505-2E9C-101B-9397-08002B2CF9AE}" pid="3" name="display_urn:schemas-microsoft-com:office:office#Author">
    <vt:lpwstr>Simon Festing</vt:lpwstr>
  </property>
  <property fmtid="{D5CDD505-2E9C-101B-9397-08002B2CF9AE}" pid="4" name="display_urn:schemas-microsoft-com:office:office#Editor">
    <vt:lpwstr>Simon Festing</vt:lpwstr>
  </property>
</Properties>
</file>