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</p:sldIdLst>
  <p:sldSz cx="10288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Img"/>
          </p:nvPr>
        </p:nvSpPr>
        <p:spPr>
          <a:xfrm>
            <a:off x="606240" y="744120"/>
            <a:ext cx="55846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0CA6-0E5B-4AA3-BF02-D76A0D723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6418-DB84-4ED7-8B6B-8BE8BBDA8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28560" y="762120"/>
            <a:ext cx="5599080" cy="37335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23400" y="4723920"/>
            <a:ext cx="5002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CC24-B9D0-4967-9A67-C26C10442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5864400" y="6524640"/>
            <a:ext cx="424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502 – Therm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928440" y="6420960"/>
            <a:ext cx="3771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F8E4-D91A-4C7B-BF0D-06DAE98FA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5864400" y="6524640"/>
            <a:ext cx="424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502 – Therm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B7E2-CC06-4B77-9B1A-C86DA3A56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7"/>
          <p:cNvSpPr/>
          <p:nvPr/>
        </p:nvSpPr>
        <p:spPr>
          <a:xfrm>
            <a:off x="5864400" y="6524640"/>
            <a:ext cx="424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502 – Therm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4303-A6D5-4945-9E25-D9D0FB382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7"/>
          <p:cNvSpPr/>
          <p:nvPr/>
        </p:nvSpPr>
        <p:spPr>
          <a:xfrm>
            <a:off x="5864400" y="6524640"/>
            <a:ext cx="424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502 – Therm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9A19-93D6-4834-88A8-502D0DCBB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5864400" y="6524640"/>
            <a:ext cx="424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502 – Therm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7AD2-AD8E-4A91-8902-6FED4F39F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5864400" y="6524640"/>
            <a:ext cx="424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502 – Therm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F0D4-3524-4C89-91AA-FB266E42A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5864400" y="6524640"/>
            <a:ext cx="424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502 – Therm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1EFF-A76F-4C24-BA5A-5B1F13CC4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5864400" y="6524640"/>
            <a:ext cx="424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502 – Therm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2C94-AEAA-4D59-AE70-E20951C69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5864400" y="6524640"/>
            <a:ext cx="424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502 – Therm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7AF0-1E7F-488D-B271-5079899C6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5864400" y="6524640"/>
            <a:ext cx="424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502 – Therm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DE2E-F704-4180-ADF7-77C07848A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7"/>
          <p:cNvSpPr/>
          <p:nvPr/>
        </p:nvSpPr>
        <p:spPr>
          <a:xfrm>
            <a:off x="5864400" y="6524640"/>
            <a:ext cx="424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502 – Therm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M5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Thermal Enviro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y 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3"/>
          <p:cNvSpPr/>
          <p:nvPr/>
        </p:nvSpPr>
        <p:spPr>
          <a:xfrm>
            <a:off x="928800" y="6421320"/>
            <a:ext cx="377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day’s Learning Outco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e those sections of the course that present difficu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ck Exa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mpt a mock examination to highlight possible areas of further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3"/>
          <p:cNvSpPr/>
          <p:nvPr/>
        </p:nvSpPr>
        <p:spPr>
          <a:xfrm>
            <a:off x="928800" y="6421320"/>
            <a:ext cx="377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sion of topics of concer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3"/>
          <p:cNvSpPr/>
          <p:nvPr/>
        </p:nvSpPr>
        <p:spPr>
          <a:xfrm>
            <a:off x="928800" y="6421320"/>
            <a:ext cx="377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ck Exa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ck Examination to highlight areas of furthe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928800" y="6421320"/>
            <a:ext cx="377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of Today’s Learning Outco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of Overnight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e those sections of the course that present difficu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ck Exa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mpt a mock examination to highlight areas of possible further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ooter Placeholder 3"/>
          <p:cNvSpPr/>
          <p:nvPr/>
        </p:nvSpPr>
        <p:spPr>
          <a:xfrm>
            <a:off x="928800" y="6421320"/>
            <a:ext cx="377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3:34:55Z</dcterms:created>
  <dc:creator>Brian Davies</dc:creator>
  <dc:description/>
  <dc:language>en-US</dc:language>
  <cp:lastModifiedBy>Cally Brook</cp:lastModifiedBy>
  <dcterms:modified xsi:type="dcterms:W3CDTF">2024-03-06T21:00:59Z</dcterms:modified>
  <cp:revision>7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483442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