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5.jpeg" ContentType="image/jpeg"/>
  <Override PartName="/ppt/media/image24.wmf" ContentType="image/x-wmf"/>
  <Override PartName="/ppt/media/image22.wmf" ContentType="image/x-wmf"/>
  <Override PartName="/ppt/media/image20.jpeg" ContentType="image/jpeg"/>
  <Override PartName="/ppt/media/image21.wmf" ContentType="image/x-wmf"/>
  <Override PartName="/ppt/media/image18.jpeg" ContentType="image/jpeg"/>
  <Override PartName="/ppt/media/image26.wmf" ContentType="image/x-wmf"/>
  <Override PartName="/ppt/media/image8.png" ContentType="image/png"/>
  <Override PartName="/ppt/media/image14.jpeg" ContentType="image/jpeg"/>
  <Override PartName="/ppt/media/image16.wmf" ContentType="image/x-wmf"/>
  <Override PartName="/ppt/media/image11.jpeg" ContentType="image/jpeg"/>
  <Override PartName="/ppt/media/image9.jpeg" ContentType="image/jpeg"/>
  <Override PartName="/ppt/media/image12.jpeg" ContentType="image/jpeg"/>
  <Override PartName="/ppt/media/image33.wmf" ContentType="image/x-wmf"/>
  <Override PartName="/ppt/media/image37.jpeg" ContentType="image/jpeg"/>
  <Override PartName="/ppt/media/image30.wmf" ContentType="image/x-wmf"/>
  <Override PartName="/ppt/media/image6.wmf" ContentType="image/x-wmf"/>
  <Override PartName="/ppt/media/image19.jpeg" ContentType="image/jpeg"/>
  <Override PartName="/ppt/media/image29.wmf" ContentType="image/x-wmf"/>
  <Override PartName="/ppt/media/image31.wmf" ContentType="image/x-wmf"/>
  <Override PartName="/ppt/media/image38.jpeg" ContentType="image/jpeg"/>
  <Override PartName="/ppt/media/image13.jpeg" ContentType="image/jpeg"/>
  <Override PartName="/ppt/media/image32.wmf" ContentType="image/x-wmf"/>
  <Override PartName="/ppt/media/image7.wmf" ContentType="image/x-wmf"/>
  <Override PartName="/ppt/media/image34.jpeg" ContentType="image/jpeg"/>
  <Override PartName="/ppt/media/image10.jpeg" ContentType="image/jpeg"/>
  <Override PartName="/ppt/media/image5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4.wmf" ContentType="image/x-wmf"/>
  <Override PartName="/ppt/media/image35.jpeg" ContentType="image/jpeg"/>
  <Override PartName="/ppt/media/image1.jpeg" ContentType="image/jpeg"/>
  <Override PartName="/ppt/media/image15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  <p:sldId id="310" r:id="rId72"/>
    <p:sldId id="311" r:id="rId73"/>
    <p:sldId id="312" r:id="rId74"/>
    <p:sldId id="313" r:id="rId75"/>
    <p:sldId id="314" r:id="rId76"/>
    <p:sldId id="315" r:id="rId77"/>
    <p:sldId id="316" r:id="rId78"/>
    <p:sldId id="317" r:id="rId79"/>
    <p:sldId id="318" r:id="rId80"/>
    <p:sldId id="319" r:id="rId81"/>
    <p:sldId id="320" r:id="rId82"/>
    <p:sldId id="321" r:id="rId83"/>
    <p:sldId id="322" r:id="rId84"/>
    <p:sldId id="323" r:id="rId85"/>
    <p:sldId id="324" r:id="rId86"/>
    <p:sldId id="325" r:id="rId87"/>
    <p:sldId id="326" r:id="rId88"/>
    <p:sldId id="327" r:id="rId89"/>
    <p:sldId id="328" r:id="rId90"/>
    <p:sldId id="329" r:id="rId91"/>
    <p:sldId id="330" r:id="rId92"/>
    <p:sldId id="331" r:id="rId93"/>
    <p:sldId id="332" r:id="rId94"/>
    <p:sldId id="333" r:id="rId95"/>
    <p:sldId id="334" r:id="rId96"/>
    <p:sldId id="335" r:id="rId97"/>
    <p:sldId id="336" r:id="rId98"/>
    <p:sldId id="337" r:id="rId99"/>
    <p:sldId id="338" r:id="rId100"/>
    <p:sldId id="339" r:id="rId101"/>
    <p:sldId id="340" r:id="rId102"/>
    <p:sldId id="341" r:id="rId103"/>
    <p:sldId id="342" r:id="rId104"/>
    <p:sldId id="343" r:id="rId105"/>
    <p:sldId id="344" r:id="rId106"/>
    <p:sldId id="345" r:id="rId107"/>
    <p:sldId id="346" r:id="rId108"/>
    <p:sldId id="347" r:id="rId109"/>
    <p:sldId id="348" r:id="rId110"/>
    <p:sldId id="349" r:id="rId111"/>
  </p:sldIdLst>
  <p:sldSz cx="10288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slide" Target="slides/slide55.xml"/><Relationship Id="rId73" Type="http://schemas.openxmlformats.org/officeDocument/2006/relationships/slide" Target="slides/slide56.xml"/><Relationship Id="rId74" Type="http://schemas.openxmlformats.org/officeDocument/2006/relationships/slide" Target="slides/slide57.xml"/><Relationship Id="rId75" Type="http://schemas.openxmlformats.org/officeDocument/2006/relationships/slide" Target="slides/slide58.xml"/><Relationship Id="rId76" Type="http://schemas.openxmlformats.org/officeDocument/2006/relationships/slide" Target="slides/slide59.xml"/><Relationship Id="rId77" Type="http://schemas.openxmlformats.org/officeDocument/2006/relationships/slide" Target="slides/slide60.xml"/><Relationship Id="rId78" Type="http://schemas.openxmlformats.org/officeDocument/2006/relationships/slide" Target="slides/slide61.xml"/><Relationship Id="rId79" Type="http://schemas.openxmlformats.org/officeDocument/2006/relationships/slide" Target="slides/slide62.xml"/><Relationship Id="rId80" Type="http://schemas.openxmlformats.org/officeDocument/2006/relationships/slide" Target="slides/slide63.xml"/><Relationship Id="rId81" Type="http://schemas.openxmlformats.org/officeDocument/2006/relationships/slide" Target="slides/slide64.xml"/><Relationship Id="rId82" Type="http://schemas.openxmlformats.org/officeDocument/2006/relationships/slide" Target="slides/slide65.xml"/><Relationship Id="rId83" Type="http://schemas.openxmlformats.org/officeDocument/2006/relationships/slide" Target="slides/slide66.xml"/><Relationship Id="rId84" Type="http://schemas.openxmlformats.org/officeDocument/2006/relationships/slide" Target="slides/slide67.xml"/><Relationship Id="rId85" Type="http://schemas.openxmlformats.org/officeDocument/2006/relationships/slide" Target="slides/slide68.xml"/><Relationship Id="rId86" Type="http://schemas.openxmlformats.org/officeDocument/2006/relationships/slide" Target="slides/slide69.xml"/><Relationship Id="rId87" Type="http://schemas.openxmlformats.org/officeDocument/2006/relationships/slide" Target="slides/slide70.xml"/><Relationship Id="rId88" Type="http://schemas.openxmlformats.org/officeDocument/2006/relationships/slide" Target="slides/slide71.xml"/><Relationship Id="rId89" Type="http://schemas.openxmlformats.org/officeDocument/2006/relationships/slide" Target="slides/slide72.xml"/><Relationship Id="rId90" Type="http://schemas.openxmlformats.org/officeDocument/2006/relationships/slide" Target="slides/slide73.xml"/><Relationship Id="rId91" Type="http://schemas.openxmlformats.org/officeDocument/2006/relationships/slide" Target="slides/slide74.xml"/><Relationship Id="rId92" Type="http://schemas.openxmlformats.org/officeDocument/2006/relationships/slide" Target="slides/slide75.xml"/><Relationship Id="rId93" Type="http://schemas.openxmlformats.org/officeDocument/2006/relationships/slide" Target="slides/slide76.xml"/><Relationship Id="rId94" Type="http://schemas.openxmlformats.org/officeDocument/2006/relationships/slide" Target="slides/slide77.xml"/><Relationship Id="rId95" Type="http://schemas.openxmlformats.org/officeDocument/2006/relationships/slide" Target="slides/slide78.xml"/><Relationship Id="rId96" Type="http://schemas.openxmlformats.org/officeDocument/2006/relationships/slide" Target="slides/slide79.xml"/><Relationship Id="rId97" Type="http://schemas.openxmlformats.org/officeDocument/2006/relationships/slide" Target="slides/slide80.xml"/><Relationship Id="rId98" Type="http://schemas.openxmlformats.org/officeDocument/2006/relationships/slide" Target="slides/slide81.xml"/><Relationship Id="rId99" Type="http://schemas.openxmlformats.org/officeDocument/2006/relationships/slide" Target="slides/slide82.xml"/><Relationship Id="rId100" Type="http://schemas.openxmlformats.org/officeDocument/2006/relationships/slide" Target="slides/slide83.xml"/><Relationship Id="rId101" Type="http://schemas.openxmlformats.org/officeDocument/2006/relationships/slide" Target="slides/slide84.xml"/><Relationship Id="rId102" Type="http://schemas.openxmlformats.org/officeDocument/2006/relationships/slide" Target="slides/slide85.xml"/><Relationship Id="rId103" Type="http://schemas.openxmlformats.org/officeDocument/2006/relationships/slide" Target="slides/slide86.xml"/><Relationship Id="rId104" Type="http://schemas.openxmlformats.org/officeDocument/2006/relationships/slide" Target="slides/slide87.xml"/><Relationship Id="rId105" Type="http://schemas.openxmlformats.org/officeDocument/2006/relationships/slide" Target="slides/slide88.xml"/><Relationship Id="rId106" Type="http://schemas.openxmlformats.org/officeDocument/2006/relationships/slide" Target="slides/slide89.xml"/><Relationship Id="rId107" Type="http://schemas.openxmlformats.org/officeDocument/2006/relationships/slide" Target="slides/slide90.xml"/><Relationship Id="rId108" Type="http://schemas.openxmlformats.org/officeDocument/2006/relationships/slide" Target="slides/slide91.xml"/><Relationship Id="rId109" Type="http://schemas.openxmlformats.org/officeDocument/2006/relationships/slide" Target="slides/slide92.xml"/><Relationship Id="rId110" Type="http://schemas.openxmlformats.org/officeDocument/2006/relationships/slide" Target="slides/slide93.xml"/><Relationship Id="rId111" Type="http://schemas.openxmlformats.org/officeDocument/2006/relationships/slide" Target="slides/slide94.xml"/><Relationship Id="rId1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606240" y="744120"/>
            <a:ext cx="558468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AFD9-CDCC-4FD8-A92A-019FBB38B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A6C0-F407-4F20-87CE-DA842A857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609480" y="744480"/>
            <a:ext cx="5580360" cy="372132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D3A7-6778-411D-88E7-ACBA8DD70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606600" y="744480"/>
            <a:ext cx="5584680" cy="372276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was the original miniature cyclone and has only been included for historical interest. It was sometimes called the “Higgins” cyclone after one of its inven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70F7-DC58-4943-9FCA-C2E818A56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609480" y="744480"/>
            <a:ext cx="5580360" cy="372132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F872-673C-4C4D-939D-A8CD034F8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609480" y="744480"/>
            <a:ext cx="5580360" cy="372132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90600" y="379800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334840" y="140976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9060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4840" y="379800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65328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15600" y="140976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390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65328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915600" y="379800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458120" y="7621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93760" y="6524640"/>
            <a:ext cx="7207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195E-3A49-4917-8C89-A424D82FC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1"/>
          <p:cNvSpPr/>
          <p:nvPr/>
        </p:nvSpPr>
        <p:spPr>
          <a:xfrm>
            <a:off x="0" y="1143000"/>
            <a:ext cx="10287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7"/>
          <p:cNvSpPr/>
          <p:nvPr/>
        </p:nvSpPr>
        <p:spPr>
          <a:xfrm>
            <a:off x="5504040" y="6237360"/>
            <a:ext cx="4248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501 – Measurement of Hazardous Substanc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6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680" y="857160"/>
            <a:ext cx="9100800" cy="35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M501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 Measurement of Hazardous Substances 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(including Risk Assessment)</a:t>
            </a:r>
            <a:br>
              <a:rPr sz="3600"/>
            </a:b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Day 3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ful Features of Pump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tic flow contr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lsation dampe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city to operate at a reasonable backpress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sonable flow ran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battery capac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insically safe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Operating Syst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common system currently in commercial u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s pulsation dampe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st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common but still used in some low flow pum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lsations are an iss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tary Va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precise engineering but quite heav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ematic of a Diaphragm Sampling Pum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4" descr="Fig%208"/>
          <p:cNvPicPr/>
          <p:nvPr/>
        </p:nvPicPr>
        <p:blipFill>
          <a:blip r:embed="rId1"/>
          <a:stretch/>
        </p:blipFill>
        <p:spPr>
          <a:xfrm>
            <a:off x="2930400" y="1268280"/>
            <a:ext cx="4668840" cy="475308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6"/>
          <p:cNvSpPr/>
          <p:nvPr/>
        </p:nvSpPr>
        <p:spPr>
          <a:xfrm>
            <a:off x="6858000" y="5950080"/>
            <a:ext cx="31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BOHS – 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y 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90600" y="1409400"/>
            <a:ext cx="964872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be performed regularly and recorded for each pu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automatic flow compensation and internal inline fil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ttery char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ckel-Cadmium batteries prone to “memory effect”. Cycling of pumps can overcome effect in most c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appropriate charg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flow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accurate due to design flaw (one end must be open to atmospher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position Cur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1995 the International Standards Organisation (ISO)  defined sampling conventions for particul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halable fraction : inhaled through nose &amp; mou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racic fraction : penetrates beyond laryn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irable fraction : penetrate to the alveol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O 7708-1995 Size Fractions for Partic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" descr="Fig 8"/>
          <p:cNvPicPr/>
          <p:nvPr/>
        </p:nvPicPr>
        <p:blipFill>
          <a:blip r:embed="rId1"/>
          <a:stretch/>
        </p:blipFill>
        <p:spPr>
          <a:xfrm>
            <a:off x="1903320" y="1349280"/>
            <a:ext cx="7272360" cy="430704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7"/>
          <p:cNvSpPr/>
          <p:nvPr/>
        </p:nvSpPr>
        <p:spPr>
          <a:xfrm>
            <a:off x="6786720" y="5805360"/>
            <a:ext cx="282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 TSI Inc – 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t Points of Size Fra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halable : typically all particles &lt; 100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racic : all particles &lt; 50um &amp; 50% cut at 10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irable : all particles &lt; 16um &amp; 50% cut at 4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s of Link to Health Effec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l dust: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ase: pneumoconio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: scaring of lung tissue therefore target organ is the lungs and thus respirable curve appropri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d du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ase: systemic poi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: toxic effect on blood system therefore target organ is the blood and thus inhalable curve appropri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pling He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able du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OM sampling head  (IO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KAEA 7 hole sampling head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ical inhalable sampler (CI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C button sampl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-loaded casset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OM Sampling He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2"/>
          <p:cNvSpPr/>
          <p:nvPr/>
        </p:nvSpPr>
        <p:spPr>
          <a:xfrm>
            <a:off x="7000920" y="5950080"/>
            <a:ext cx="210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University of Wollong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4" descr="Fig 8"/>
          <p:cNvPicPr/>
          <p:nvPr/>
        </p:nvPicPr>
        <p:blipFill>
          <a:blip r:embed="rId1"/>
          <a:stretch/>
        </p:blipFill>
        <p:spPr>
          <a:xfrm>
            <a:off x="3703680" y="1557360"/>
            <a:ext cx="278604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18600" y="188640"/>
            <a:ext cx="97203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18600" y="1409760"/>
            <a:ext cx="9720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derstand overnight question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derstand types of sampling pumps &amp; capture devices for dust, fume &amp; fibre monito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derstand principles of workplace monitoring for dust, fumes &amp; fib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146320" y="188640"/>
            <a:ext cx="7128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IOM Sampler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76600" y="1125360"/>
            <a:ext cx="3770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sette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collected dust is measu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ily handl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ontact with fil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 fraction sampling with foam inse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4" descr="Iomhead"/>
          <p:cNvPicPr/>
          <p:nvPr/>
        </p:nvPicPr>
        <p:blipFill>
          <a:blip r:embed="rId1"/>
          <a:stretch/>
        </p:blipFill>
        <p:spPr>
          <a:xfrm>
            <a:off x="930240" y="1268280"/>
            <a:ext cx="5057640" cy="434340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5"/>
          <p:cNvSpPr/>
          <p:nvPr/>
        </p:nvSpPr>
        <p:spPr>
          <a:xfrm>
            <a:off x="1498680" y="3357720"/>
            <a:ext cx="1114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Humanst521 BT"/>
              </a:rPr>
              <a:t>IOM samp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2874960" y="2781360"/>
            <a:ext cx="1114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Humanst521 BT"/>
              </a:rPr>
              <a:t>IOM casse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4332240" y="2781360"/>
            <a:ext cx="1114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Humanst521 BT"/>
              </a:rPr>
              <a:t>Transport c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8"/>
          <p:cNvSpPr/>
          <p:nvPr/>
        </p:nvSpPr>
        <p:spPr>
          <a:xfrm>
            <a:off x="1255680" y="5373720"/>
            <a:ext cx="488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Humanst521 BT"/>
              </a:rPr>
              <a:t>Front          Cassette     Filter    Support     O ring    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Humanst521 BT"/>
              </a:rPr>
              <a:t>cover            front                         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9"/>
          <p:cNvSpPr/>
          <p:nvPr/>
        </p:nvSpPr>
        <p:spPr>
          <a:xfrm>
            <a:off x="5400720" y="3276720"/>
            <a:ext cx="685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0"/>
          <p:cNvSpPr/>
          <p:nvPr/>
        </p:nvSpPr>
        <p:spPr>
          <a:xfrm>
            <a:off x="7628760" y="5877000"/>
            <a:ext cx="19044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ource :Airmet Scientific-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KAEA 7 Hole Sampl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3" name="Object 7"/>
          <p:cNvGraphicFramePr/>
          <p:nvPr/>
        </p:nvGraphicFramePr>
        <p:xfrm>
          <a:off x="1903320" y="1409760"/>
          <a:ext cx="7081920" cy="429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3320" y="1409760"/>
                    <a:ext cx="708192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5" name="Text Box 8"/>
          <p:cNvSpPr/>
          <p:nvPr/>
        </p:nvSpPr>
        <p:spPr>
          <a:xfrm>
            <a:off x="7304040" y="5877000"/>
            <a:ext cx="23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HSE – reproduced with per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ical Inhalable  Sampl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8" descr=""/>
          <p:cNvPicPr/>
          <p:nvPr/>
        </p:nvPicPr>
        <p:blipFill>
          <a:blip r:embed="rId1"/>
          <a:stretch/>
        </p:blipFill>
        <p:spPr>
          <a:xfrm>
            <a:off x="1974960" y="1600200"/>
            <a:ext cx="6337080" cy="386244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8"/>
          <p:cNvSpPr/>
          <p:nvPr/>
        </p:nvSpPr>
        <p:spPr>
          <a:xfrm>
            <a:off x="7304040" y="5877000"/>
            <a:ext cx="23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HSE – reproduced with per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KC Button Sampl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4" descr="Day 3 c"/>
          <p:cNvPicPr/>
          <p:nvPr/>
        </p:nvPicPr>
        <p:blipFill>
          <a:blip r:embed="rId1"/>
          <a:stretch/>
        </p:blipFill>
        <p:spPr>
          <a:xfrm>
            <a:off x="3487680" y="1413000"/>
            <a:ext cx="3097440" cy="431964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6"/>
          <p:cNvSpPr/>
          <p:nvPr/>
        </p:nvSpPr>
        <p:spPr>
          <a:xfrm>
            <a:off x="7143840" y="5805360"/>
            <a:ext cx="275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Airmet Scientific – reproduced with per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-Loaded Casset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7"/>
          <p:cNvSpPr/>
          <p:nvPr/>
        </p:nvSpPr>
        <p:spPr>
          <a:xfrm>
            <a:off x="7572240" y="6000840"/>
            <a:ext cx="181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University of Wollong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9" descr="Fig 8"/>
          <p:cNvPicPr/>
          <p:nvPr/>
        </p:nvPicPr>
        <p:blipFill>
          <a:blip r:embed="rId1"/>
          <a:stretch/>
        </p:blipFill>
        <p:spPr>
          <a:xfrm>
            <a:off x="2830680" y="1692360"/>
            <a:ext cx="447336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pling He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pirable du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CI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E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mm Nylon (Dorr-Oliver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ration of Miniature Cyclo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4" descr="Fig 8"/>
          <p:cNvPicPr/>
          <p:nvPr/>
        </p:nvPicPr>
        <p:blipFill>
          <a:blip r:embed="rId1"/>
          <a:stretch/>
        </p:blipFill>
        <p:spPr>
          <a:xfrm>
            <a:off x="2406600" y="1557360"/>
            <a:ext cx="5545080" cy="4160880"/>
          </a:xfrm>
          <a:prstGeom prst="rect">
            <a:avLst/>
          </a:prstGeom>
          <a:ln w="0">
            <a:noFill/>
          </a:ln>
        </p:spPr>
      </p:pic>
      <p:sp>
        <p:nvSpPr>
          <p:cNvPr id="649" name="Text Box 8"/>
          <p:cNvSpPr/>
          <p:nvPr/>
        </p:nvSpPr>
        <p:spPr>
          <a:xfrm>
            <a:off x="7304040" y="5877000"/>
            <a:ext cx="23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HSE – reproduced with per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BCIRA   (Higgins) Cyclo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6"/>
          <p:cNvSpPr/>
          <p:nvPr/>
        </p:nvSpPr>
        <p:spPr>
          <a:xfrm>
            <a:off x="7880400" y="5877000"/>
            <a:ext cx="172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University of Wollong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8" descr="Day 3 "/>
          <p:cNvPicPr/>
          <p:nvPr/>
        </p:nvPicPr>
        <p:blipFill>
          <a:blip r:embed="rId1"/>
          <a:stretch/>
        </p:blipFill>
        <p:spPr>
          <a:xfrm>
            <a:off x="3271680" y="1413000"/>
            <a:ext cx="313704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Respirable Dust Sampler (SIMPED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5" descr="Day 3 1"/>
          <p:cNvPicPr/>
          <p:nvPr/>
        </p:nvPicPr>
        <p:blipFill>
          <a:blip r:embed="rId1"/>
          <a:stretch/>
        </p:blipFill>
        <p:spPr>
          <a:xfrm>
            <a:off x="3271680" y="1557360"/>
            <a:ext cx="3635640" cy="420840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6"/>
          <p:cNvSpPr/>
          <p:nvPr/>
        </p:nvSpPr>
        <p:spPr>
          <a:xfrm>
            <a:off x="8167680" y="580536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University of Wollong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uminium Cyclo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4" descr="Day 3"/>
          <p:cNvPicPr/>
          <p:nvPr/>
        </p:nvPicPr>
        <p:blipFill>
          <a:blip r:embed="rId1"/>
          <a:stretch/>
        </p:blipFill>
        <p:spPr>
          <a:xfrm>
            <a:off x="2911320" y="1413000"/>
            <a:ext cx="4005360" cy="4392360"/>
          </a:xfrm>
          <a:prstGeom prst="rect">
            <a:avLst/>
          </a:prstGeom>
          <a:ln w="0">
            <a:noFill/>
          </a:ln>
        </p:spPr>
      </p:pic>
      <p:sp>
        <p:nvSpPr>
          <p:cNvPr id="658" name="Text Box 6"/>
          <p:cNvSpPr/>
          <p:nvPr/>
        </p:nvSpPr>
        <p:spPr>
          <a:xfrm>
            <a:off x="7358040" y="5715000"/>
            <a:ext cx="268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 :Airmet Scientific – reproduced with per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Outcomes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 equipment calibration &amp; calculation of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direct reading instrumentations and limitations of its u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common sources of err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Dorr-Oliver Cyclo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5" descr="Day 3 "/>
          <p:cNvPicPr/>
          <p:nvPr/>
        </p:nvPicPr>
        <p:blipFill>
          <a:blip r:embed="rId1"/>
          <a:stretch/>
        </p:blipFill>
        <p:spPr>
          <a:xfrm>
            <a:off x="3703680" y="1628640"/>
            <a:ext cx="2760480" cy="449748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6"/>
          <p:cNvSpPr/>
          <p:nvPr/>
        </p:nvSpPr>
        <p:spPr>
          <a:xfrm>
            <a:off x="7572240" y="5857920"/>
            <a:ext cx="22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University of Wollong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pling He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racic Du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iCon samp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P 10 samp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piCon Sampl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5" name="Object 7"/>
          <p:cNvGraphicFramePr/>
          <p:nvPr/>
        </p:nvGraphicFramePr>
        <p:xfrm>
          <a:off x="3552840" y="1555920"/>
          <a:ext cx="3165480" cy="43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2840" y="1555920"/>
                    <a:ext cx="316548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7" name="Text Box 10"/>
          <p:cNvSpPr/>
          <p:nvPr/>
        </p:nvSpPr>
        <p:spPr>
          <a:xfrm>
            <a:off x="7088040" y="5589720"/>
            <a:ext cx="280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; TSI Inc – reproduced with per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piCon Stage Imp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4" descr=""/>
          <p:cNvPicPr/>
          <p:nvPr/>
        </p:nvPicPr>
        <p:blipFill>
          <a:blip r:embed="rId1"/>
          <a:stretch/>
        </p:blipFill>
        <p:spPr>
          <a:xfrm>
            <a:off x="3511440" y="1270080"/>
            <a:ext cx="3208320" cy="4895640"/>
          </a:xfrm>
          <a:prstGeom prst="rect">
            <a:avLst/>
          </a:prstGeom>
          <a:ln w="0">
            <a:noFill/>
          </a:ln>
        </p:spPr>
      </p:pic>
      <p:sp>
        <p:nvSpPr>
          <p:cNvPr id="670" name="Rectangle 7"/>
          <p:cNvSpPr/>
          <p:nvPr/>
        </p:nvSpPr>
        <p:spPr>
          <a:xfrm>
            <a:off x="7520040" y="5715000"/>
            <a:ext cx="226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; TSI Inc – reproduced with per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al Sampling He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bestos &amp; synthetic fib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sel particul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sin-based solder flux fu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bestos &amp; Synthetic Fib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4" descr="Fig 8"/>
          <p:cNvPicPr/>
          <p:nvPr/>
        </p:nvPicPr>
        <p:blipFill>
          <a:blip r:embed="rId1"/>
          <a:stretch/>
        </p:blipFill>
        <p:spPr>
          <a:xfrm>
            <a:off x="2048040" y="1852560"/>
            <a:ext cx="6408720" cy="364320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7"/>
          <p:cNvSpPr/>
          <p:nvPr/>
        </p:nvSpPr>
        <p:spPr>
          <a:xfrm>
            <a:off x="7304040" y="566100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University of wollong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bestos &amp; Synthetic Fibres (UK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6"/>
          <p:cNvSpPr/>
          <p:nvPr/>
        </p:nvSpPr>
        <p:spPr>
          <a:xfrm>
            <a:off x="6143760" y="5886360"/>
            <a:ext cx="3321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Gully Howard Technical – reproduced with per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Content Placeholder 5" descr="New Fig 8.11 from UK.jpg"/>
          <p:cNvPicPr/>
          <p:nvPr/>
        </p:nvPicPr>
        <p:blipFill>
          <a:blip r:embed="rId1"/>
          <a:stretch/>
        </p:blipFill>
        <p:spPr>
          <a:xfrm>
            <a:off x="2214720" y="1714680"/>
            <a:ext cx="535608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esel Particulate Casset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4" descr="Fig 8"/>
          <p:cNvPicPr/>
          <p:nvPr/>
        </p:nvPicPr>
        <p:blipFill>
          <a:blip r:embed="rId1"/>
          <a:stretch/>
        </p:blipFill>
        <p:spPr>
          <a:xfrm>
            <a:off x="3271680" y="1535040"/>
            <a:ext cx="4104000" cy="410364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6"/>
          <p:cNvSpPr/>
          <p:nvPr/>
        </p:nvSpPr>
        <p:spPr>
          <a:xfrm>
            <a:off x="6929280" y="5786280"/>
            <a:ext cx="289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Airmet Scientific – reproduced with per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sin-based Solder Fume Flu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3" name="Object 3"/>
          <p:cNvGraphicFramePr/>
          <p:nvPr/>
        </p:nvGraphicFramePr>
        <p:xfrm>
          <a:off x="3251160" y="1341360"/>
          <a:ext cx="3370320" cy="410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1160" y="1341360"/>
                    <a:ext cx="337032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5" name="Text Box 6"/>
          <p:cNvSpPr/>
          <p:nvPr/>
        </p:nvSpPr>
        <p:spPr>
          <a:xfrm>
            <a:off x="7375680" y="5805360"/>
            <a:ext cx="23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HSE – reproduced with per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14560" y="3045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ple Train for Inhalable Dust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600600" y="1143000"/>
            <a:ext cx="351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ing tu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4" descr="Sample train"/>
          <p:cNvPicPr/>
          <p:nvPr/>
        </p:nvPicPr>
        <p:blipFill>
          <a:blip r:embed="rId1"/>
          <a:stretch/>
        </p:blipFill>
        <p:spPr>
          <a:xfrm>
            <a:off x="851040" y="1330200"/>
            <a:ext cx="6021360" cy="4762800"/>
          </a:xfrm>
          <a:prstGeom prst="rect">
            <a:avLst/>
          </a:prstGeom>
          <a:ln w="0">
            <a:noFill/>
          </a:ln>
        </p:spPr>
      </p:pic>
      <p:sp>
        <p:nvSpPr>
          <p:cNvPr id="689" name="Text Box 5"/>
          <p:cNvSpPr/>
          <p:nvPr/>
        </p:nvSpPr>
        <p:spPr>
          <a:xfrm>
            <a:off x="2146320" y="364500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Humanst521 BT"/>
              </a:rPr>
              <a:t>SAMP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6"/>
          <p:cNvSpPr/>
          <p:nvPr/>
        </p:nvSpPr>
        <p:spPr>
          <a:xfrm>
            <a:off x="1903320" y="4941720"/>
            <a:ext cx="1714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Humanst521 BT"/>
              </a:rPr>
              <a:t>CONNEC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Humanst521 BT"/>
              </a:rPr>
              <a:t>TU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7"/>
          <p:cNvSpPr/>
          <p:nvPr/>
        </p:nvSpPr>
        <p:spPr>
          <a:xfrm>
            <a:off x="4495680" y="5486400"/>
            <a:ext cx="13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Humanst521 BT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8"/>
          <p:cNvSpPr/>
          <p:nvPr/>
        </p:nvSpPr>
        <p:spPr>
          <a:xfrm>
            <a:off x="7500960" y="6000840"/>
            <a:ext cx="2500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ource :Airmet Scientific – 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st, Fumes &amp; Fib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pling Train for Respirable Du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4" descr="Fig 8"/>
          <p:cNvPicPr/>
          <p:nvPr/>
        </p:nvPicPr>
        <p:blipFill>
          <a:blip r:embed="rId1"/>
          <a:stretch/>
        </p:blipFill>
        <p:spPr>
          <a:xfrm>
            <a:off x="2695680" y="1511280"/>
            <a:ext cx="5184720" cy="4246560"/>
          </a:xfrm>
          <a:prstGeom prst="rect">
            <a:avLst/>
          </a:prstGeom>
          <a:ln w="0">
            <a:noFill/>
          </a:ln>
        </p:spPr>
      </p:pic>
      <p:sp>
        <p:nvSpPr>
          <p:cNvPr id="695" name="Text Box 6"/>
          <p:cNvSpPr/>
          <p:nvPr/>
        </p:nvSpPr>
        <p:spPr>
          <a:xfrm>
            <a:off x="7880400" y="6022800"/>
            <a:ext cx="19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; University of Wollong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90600" y="333360"/>
            <a:ext cx="95551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ition of Sampling Device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4" descr="Person"/>
          <p:cNvPicPr/>
          <p:nvPr/>
        </p:nvPicPr>
        <p:blipFill>
          <a:blip r:embed="rId1"/>
          <a:stretch/>
        </p:blipFill>
        <p:spPr>
          <a:xfrm>
            <a:off x="966960" y="1216080"/>
            <a:ext cx="4673520" cy="4876920"/>
          </a:xfrm>
          <a:prstGeom prst="rect">
            <a:avLst/>
          </a:prstGeom>
          <a:ln w="0">
            <a:noFill/>
          </a:ln>
        </p:spPr>
      </p:pic>
      <p:sp>
        <p:nvSpPr>
          <p:cNvPr id="698" name="Text Box 5"/>
          <p:cNvSpPr/>
          <p:nvPr/>
        </p:nvSpPr>
        <p:spPr>
          <a:xfrm>
            <a:off x="5143680" y="299736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Humanst521 BT"/>
              </a:rPr>
              <a:t>And MUST be taken in the Breathing Z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6"/>
          <p:cNvSpPr/>
          <p:nvPr/>
        </p:nvSpPr>
        <p:spPr>
          <a:xfrm>
            <a:off x="2657520" y="1523880"/>
            <a:ext cx="1800360" cy="1981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7"/>
          <p:cNvSpPr/>
          <p:nvPr/>
        </p:nvSpPr>
        <p:spPr>
          <a:xfrm>
            <a:off x="4629240" y="1981080"/>
            <a:ext cx="222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Humanst521 BT"/>
              </a:rPr>
              <a:t>300mm Hemisphere around the nose and mo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8"/>
          <p:cNvSpPr/>
          <p:nvPr/>
        </p:nvSpPr>
        <p:spPr>
          <a:xfrm flipH="1">
            <a:off x="3943080" y="2514600"/>
            <a:ext cx="94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8"/>
          <p:cNvSpPr/>
          <p:nvPr/>
        </p:nvSpPr>
        <p:spPr>
          <a:xfrm>
            <a:off x="7500960" y="6000840"/>
            <a:ext cx="2500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ource :Airmet Scientific – 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pling Train Connected to a Work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4" descr="Fig 8"/>
          <p:cNvPicPr/>
          <p:nvPr/>
        </p:nvPicPr>
        <p:blipFill>
          <a:blip r:embed="rId1"/>
          <a:stretch/>
        </p:blipFill>
        <p:spPr>
          <a:xfrm>
            <a:off x="1714680" y="1409760"/>
            <a:ext cx="2997000" cy="457200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7"/>
          <p:cNvSpPr/>
          <p:nvPr/>
        </p:nvSpPr>
        <p:spPr>
          <a:xfrm>
            <a:off x="8096400" y="595008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 :University of Wollong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4"/>
          <p:cNvSpPr/>
          <p:nvPr/>
        </p:nvSpPr>
        <p:spPr>
          <a:xfrm>
            <a:off x="5429160" y="2286000"/>
            <a:ext cx="4286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Humanst521 BT"/>
              </a:rPr>
              <a:t>Rememb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Humanst521 BT"/>
              </a:rPr>
              <a:t>Start pump &amp; note start tim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Humanst521 BT"/>
              </a:rPr>
              <a:t>Check flowrate  during sampling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Humanst521 BT"/>
              </a:rPr>
              <a:t>At end of sample, stop pump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Humanst521 BT"/>
              </a:rPr>
              <a:t>note stop tim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y Points to No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to ensure sampling tubing is sec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to collect appropriate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to monitor sampling system several times during sampling peri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 &amp; post flow rates should be with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/- 5% as per “best practice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4"/>
          <p:cNvSpPr/>
          <p:nvPr/>
        </p:nvSpPr>
        <p:spPr>
          <a:xfrm>
            <a:off x="5864400" y="4941720"/>
            <a:ext cx="1655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 of Information to be Record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commencement of samp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r identification nu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ter identification nu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mp identification nu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 &amp; pump start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flow rate of pu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ers name or description of static 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 of Information to be Recorded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ring samp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ption of task(s) undertaken during sampling peri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k control measures in pl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mospheric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other relevant data (e.g.-unplanned even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 of Information to be Recorded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conclusion of sampling exerci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 the tim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-measure flow rate prior to switching off pu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stand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eable to a national stand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ary stand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s calibration at regular intervals against a primary stand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mary &amp; Secondary Standar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stand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ap film 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t-test gas 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l spirome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ary stand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ic meters (some types considered primary standard in some countri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t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nehelic gau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ap Film Flow Me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4" descr="Fig 8"/>
          <p:cNvPicPr/>
          <p:nvPr/>
        </p:nvPicPr>
        <p:blipFill>
          <a:blip r:embed="rId1"/>
          <a:stretch/>
        </p:blipFill>
        <p:spPr>
          <a:xfrm>
            <a:off x="3508200" y="1484280"/>
            <a:ext cx="3495960" cy="432108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8"/>
          <p:cNvSpPr/>
          <p:nvPr/>
        </p:nvSpPr>
        <p:spPr>
          <a:xfrm>
            <a:off x="7500960" y="6000840"/>
            <a:ext cx="2500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ource :Airmet Scientific – 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inition of Dust, Fumes &amp; Fib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id particles can exist a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st: solid material of varying sizes ( 0.1 – approx 100u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mes: produced when a solid is heated until a gas is generated and recondenses into solid or liquid particles       ( typically &lt; 1 u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bres: solid thread like filaments with a defined length to width rat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onic Flow Me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7"/>
          <p:cNvSpPr/>
          <p:nvPr/>
        </p:nvSpPr>
        <p:spPr>
          <a:xfrm>
            <a:off x="8023320" y="5877000"/>
            <a:ext cx="18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University of Wollong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Content Placeholder 5" descr="2007_1115UOWHSEQ0010.JPG"/>
          <p:cNvPicPr/>
          <p:nvPr/>
        </p:nvPicPr>
        <p:blipFill>
          <a:blip r:embed="rId1"/>
          <a:stretch/>
        </p:blipFill>
        <p:spPr>
          <a:xfrm>
            <a:off x="1833480" y="1285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tame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4" descr="Fig 8"/>
          <p:cNvPicPr/>
          <p:nvPr/>
        </p:nvPicPr>
        <p:blipFill>
          <a:blip r:embed="rId1"/>
          <a:stretch/>
        </p:blipFill>
        <p:spPr>
          <a:xfrm>
            <a:off x="3487680" y="160668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728" name="Rectangle 8"/>
          <p:cNvSpPr/>
          <p:nvPr/>
        </p:nvSpPr>
        <p:spPr>
          <a:xfrm>
            <a:off x="7500960" y="6000840"/>
            <a:ext cx="2500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ource :Airmet Scientific – 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ing Rotame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4" descr=""/>
          <p:cNvPicPr/>
          <p:nvPr/>
        </p:nvPicPr>
        <p:blipFill>
          <a:blip r:embed="rId1"/>
          <a:stretch/>
        </p:blipFill>
        <p:spPr>
          <a:xfrm>
            <a:off x="1903320" y="1654200"/>
            <a:ext cx="6553440" cy="4127400"/>
          </a:xfrm>
          <a:prstGeom prst="rect">
            <a:avLst/>
          </a:prstGeom>
          <a:ln w="0">
            <a:noFill/>
          </a:ln>
        </p:spPr>
      </p:pic>
      <p:sp>
        <p:nvSpPr>
          <p:cNvPr id="731" name="Rectangle 8"/>
          <p:cNvSpPr/>
          <p:nvPr/>
        </p:nvSpPr>
        <p:spPr>
          <a:xfrm>
            <a:off x="7500960" y="6000840"/>
            <a:ext cx="2500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ource :Airmet Scientific – 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Cyc cali"/>
          <p:cNvPicPr/>
          <p:nvPr/>
        </p:nvPicPr>
        <p:blipFill>
          <a:blip r:embed="rId1"/>
          <a:stretch/>
        </p:blipFill>
        <p:spPr>
          <a:xfrm>
            <a:off x="571680" y="1857240"/>
            <a:ext cx="6370560" cy="3375000"/>
          </a:xfrm>
          <a:prstGeom prst="rect">
            <a:avLst/>
          </a:prstGeom>
          <a:ln w="0">
            <a:noFill/>
          </a:ln>
        </p:spPr>
      </p:pic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028880" y="3045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libration Syst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372440" y="2057400"/>
            <a:ext cx="257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nect from pump to sampling 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nect from sampling head to calib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5" descr="tube 2"/>
          <p:cNvPicPr/>
          <p:nvPr/>
        </p:nvPicPr>
        <p:blipFill>
          <a:blip r:embed="rId2"/>
          <a:stretch/>
        </p:blipFill>
        <p:spPr>
          <a:xfrm>
            <a:off x="4214880" y="2286000"/>
            <a:ext cx="2028600" cy="58572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6" descr="tube 1"/>
          <p:cNvPicPr/>
          <p:nvPr/>
        </p:nvPicPr>
        <p:blipFill>
          <a:blip r:embed="rId3"/>
          <a:stretch/>
        </p:blipFill>
        <p:spPr>
          <a:xfrm>
            <a:off x="2500200" y="3286080"/>
            <a:ext cx="1104840" cy="124776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7" descr="toolkit"/>
          <p:cNvPicPr/>
          <p:nvPr/>
        </p:nvPicPr>
        <p:blipFill>
          <a:blip r:embed="rId4"/>
          <a:stretch/>
        </p:blipFill>
        <p:spPr>
          <a:xfrm>
            <a:off x="6286680" y="1371600"/>
            <a:ext cx="345960" cy="1593720"/>
          </a:xfrm>
          <a:prstGeom prst="rect">
            <a:avLst/>
          </a:prstGeom>
          <a:ln w="0">
            <a:noFill/>
          </a:ln>
        </p:spPr>
      </p:pic>
      <p:sp>
        <p:nvSpPr>
          <p:cNvPr id="738" name="AutoShape 8"/>
          <p:cNvSpPr/>
          <p:nvPr/>
        </p:nvSpPr>
        <p:spPr>
          <a:xfrm>
            <a:off x="6343560" y="1295280"/>
            <a:ext cx="257400" cy="457200"/>
          </a:xfrm>
          <a:custGeom>
            <a:avLst/>
            <a:gdLst>
              <a:gd name="textAreaLeft" fmla="*/ 34200 w 257400"/>
              <a:gd name="textAreaRight" fmla="*/ 223200 w 25740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1173240" y="5613480"/>
            <a:ext cx="83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djust flow to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quire flow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8"/>
          <p:cNvSpPr/>
          <p:nvPr/>
        </p:nvSpPr>
        <p:spPr>
          <a:xfrm>
            <a:off x="7500960" y="6000840"/>
            <a:ext cx="2500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ource :Airmet Scientific – 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libration with a Soap Film Flow Me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Content Placeholder 5" descr="Soap Film Flowmeter.jpg"/>
          <p:cNvPicPr/>
          <p:nvPr/>
        </p:nvPicPr>
        <p:blipFill>
          <a:blip r:embed="rId1"/>
          <a:stretch/>
        </p:blipFill>
        <p:spPr>
          <a:xfrm>
            <a:off x="3247920" y="1409760"/>
            <a:ext cx="3934080" cy="4572000"/>
          </a:xfrm>
          <a:prstGeom prst="rect">
            <a:avLst/>
          </a:prstGeom>
          <a:ln w="0">
            <a:noFill/>
          </a:ln>
        </p:spPr>
      </p:pic>
      <p:sp>
        <p:nvSpPr>
          <p:cNvPr id="743" name="Text Box 7"/>
          <p:cNvSpPr/>
          <p:nvPr/>
        </p:nvSpPr>
        <p:spPr>
          <a:xfrm>
            <a:off x="7286760" y="6000840"/>
            <a:ext cx="232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University of Wollong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libration with an Electronic Me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7"/>
          <p:cNvSpPr/>
          <p:nvPr/>
        </p:nvSpPr>
        <p:spPr>
          <a:xfrm>
            <a:off x="7286760" y="6000840"/>
            <a:ext cx="232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University of Wollong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Content Placeholder 5" descr="2007_1115UOWHSEQ0013.JPG"/>
          <p:cNvPicPr/>
          <p:nvPr/>
        </p:nvPicPr>
        <p:blipFill>
          <a:blip r:embed="rId1"/>
          <a:stretch/>
        </p:blipFill>
        <p:spPr>
          <a:xfrm>
            <a:off x="1857240" y="1177920"/>
            <a:ext cx="640584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ints to be Considered in Calib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identical sampling head &amp; filter to that used in fie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ow sample pump to stabilis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 flowrate of pump (3 consecutive readings within +/- 1 % of mea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e account of changes in environmental conditions such as altitude (if &gt; 500m) &amp; temperature (if &gt;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Suggested Calibration Schedu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ll pumps: on u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low compen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Direct: 6 months if +/- 5% after 2 tests then 3 yea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ndirect Flow: 4 months if +/- 5% after 3 tests then 12 month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Suggested Calibration Schedu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Rot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onthly for 3 months (+/- 3%) then 1 or 2 years depending on bore s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oap Film Me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On commiss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lectronic flow 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onthly for 3 months (+/- 3%) then 6 month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Suggested Calibration Schedu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topwat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6 Month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al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1 point check monthly, 6 month repeatability check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36 months full range calibration by external autho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ical Size 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4" descr="Day 3"/>
          <p:cNvPicPr/>
          <p:nvPr/>
        </p:nvPicPr>
        <p:blipFill>
          <a:blip r:embed="rId1"/>
          <a:stretch/>
        </p:blipFill>
        <p:spPr>
          <a:xfrm>
            <a:off x="1542960" y="1484280"/>
            <a:ext cx="7704360" cy="377028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6"/>
          <p:cNvSpPr/>
          <p:nvPr/>
        </p:nvSpPr>
        <p:spPr>
          <a:xfrm>
            <a:off x="6572160" y="5661000"/>
            <a:ext cx="317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M Tranter 1999 –reproduced with permiss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lculation of 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calculate the workers true exposure we requi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volume of air sampl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 of contaminant on fil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tal Volume Sampl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ume (L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Flowr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L/min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X sample ti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i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ume (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olume (Litr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: 1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,000 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ss on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s (mg)= (post-pre weight of filt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g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blank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Sample Concent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Dust concentration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(mg/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Mass of contaminant (mg)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ample volume (m</a:t>
            </a:r>
            <a:r>
              <a:rPr b="1" lang="en-A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* Corrected for blan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Calcu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flow rate was 2.2 L/min and sampling time was 7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urs and 42 minu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ume (L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2.2 x 46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1,016.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ume (m3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,016.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1.0164  (1.0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Calcu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the filter pre weight = 5.76 m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post weigh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7.84 m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blan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 0.01m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cted mass on filter = 7.84 - 5.75 - (- 0.0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2.08 + 0.0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2.09 m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Calcu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st concentr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g/m3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0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016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2.05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2.1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nded based on uncertainty of bal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rect Reading Instrum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erous instruments available on mark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based on light scatte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optical based instruments over-respond in areas of high mois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erging technologies addressing this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rect Reading Instrum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useful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ing emission 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ing effectiveness of control technolog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ighting dust issues to work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stTra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6715080" y="5715000"/>
            <a:ext cx="303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TSI Inc – 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7"/>
          <p:cNvSpPr/>
          <p:nvPr/>
        </p:nvSpPr>
        <p:spPr>
          <a:xfrm>
            <a:off x="1039680" y="1557360"/>
            <a:ext cx="26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useful device in low moisture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Content Placeholder 6" descr="New Fig 8.22.jpg"/>
          <p:cNvPicPr/>
          <p:nvPr/>
        </p:nvPicPr>
        <p:blipFill>
          <a:blip r:embed="rId1"/>
          <a:stretch/>
        </p:blipFill>
        <p:spPr>
          <a:xfrm>
            <a:off x="3386160" y="1190520"/>
            <a:ext cx="48290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Health Factors of Dust, Fumes &amp; Fib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cal composition of materi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xic effect : what is the toxicology of the material &amp; the respective target orga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le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it deposits in the body : is it capable of penetrating to the alveoli or only the upper respiratory trac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sonal Dust Moni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4" descr="Fig 8"/>
          <p:cNvPicPr/>
          <p:nvPr/>
        </p:nvPicPr>
        <p:blipFill>
          <a:blip r:embed="rId1"/>
          <a:stretch/>
        </p:blipFill>
        <p:spPr>
          <a:xfrm>
            <a:off x="3127320" y="1428840"/>
            <a:ext cx="5256360" cy="419868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6"/>
          <p:cNvSpPr/>
          <p:nvPr/>
        </p:nvSpPr>
        <p:spPr>
          <a:xfrm>
            <a:off x="5857920" y="5877000"/>
            <a:ext cx="411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; Thermo Fisher Scientific – reproduced with per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7"/>
          <p:cNvSpPr/>
          <p:nvPr/>
        </p:nvSpPr>
        <p:spPr>
          <a:xfrm>
            <a:off x="895320" y="1628640"/>
            <a:ext cx="201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TEOM and may replace gravimetric sampling in some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ndall Effec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vered by John Tyndall in mid 1800’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le can be used to highlight the presence of particles in the atmosphe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ly referred to as a “Dust Lamp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st Lam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7088040" y="5661000"/>
            <a:ext cx="266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BP Interna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Content Placeholder 5" descr="New Fig 8.24.jpg"/>
          <p:cNvPicPr/>
          <p:nvPr/>
        </p:nvPicPr>
        <p:blipFill>
          <a:blip r:embed="rId1"/>
          <a:srcRect l="1722" t="25419" r="2931" b="24585"/>
          <a:stretch/>
        </p:blipFill>
        <p:spPr>
          <a:xfrm>
            <a:off x="593640" y="1857240"/>
            <a:ext cx="8550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st Common Sources of Err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ollowing, compiled by SKC Inc, are some common errors that have been found in dust sampling exerci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are provided to highlight the need for care in all aspects of samp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Err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ilure to clean cyclones before u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achieve the desired particle size separation, the internal parts of a cyclone must be cle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osits of particulate matter adhering to the sides of the cyclone can alter the size-selection characteristics of the particulate penetrating the cyclone and collected on the fil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Err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of a pulsating pump fo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cting respirable dust s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ze-selective devices such as cyclones are affected by changes in flow rat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important to maintain a constant and non-pulsating flow rate to ensure correct size selection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Err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of area samples to asses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al expos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best estimation of a person’s exposure to a contaminant is obtained by placing the sampling equipment on the exposed individual.  Area samples will be more difficult to defend as a reliable estimate of personal exposur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Err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ilure to use a constant flow pum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ant flow pumps automatically compensate for flow restrictions ensuring the flow rate is held consta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out this feature, users need to constantly monitor and manually adjust the flow rate to accurately measure air volu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Err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ilure to calibrate a pump proper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ibration, in air sampling, means to set and verify the flow rat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ically, this is done before and after every sample using a primary standard calibrator or using a secondary standard that has been calibrated to a primary stand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Err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suse of “self-calibrating” pum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sampling pumps available today have internal flow sensors that measure and display the flow r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devices are secondary standards that should be verified with an external calibrato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pling Pump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y commercially available pum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are small battery powered units which can be attached to a per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e at flow rates between 0.5 – 5.0 L/min however most particulate sampling is carried out at flow rates of 1.0 – 2.5 L/m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Err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ilure to calibrate with recommended sampling media in-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ous types of sampling media (and the build up of dust) produce differing resistances to air flow (pressure drops) for which the pump must compensat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methods require that pumps be calibrated within ±5% of the recommended flowrate with the sampling media in-li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Err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oving the grit pot from a cycl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it pot on a cyclone must be in place during calibration and sample coll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absent grit pot permits massive leakage and prevents proper collection of the desire dust size fra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Err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ilure to sample at the design flow rate when using a cyclone sampl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type of cyclone respirable dust sampler has a specific design flow rate that achieves the 50% cut-poi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a different flow rate will alter the collection efficiency curve including the 50% cut-point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Err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rting a cyclone during or after samp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yclone separator permits collection of smaller particles on the filter and removal of larger particles into the grit pot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ersion of the cyclone causes larger particles to erroneously fall from the grit pot onto the filter material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 txBox="1"/>
          <p:nvPr/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st Practic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18600" y="188640"/>
            <a:ext cx="97203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st Practical -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18600" y="1052640"/>
            <a:ext cx="972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Method sel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quipment sel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amp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nterpretation of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18600" y="188640"/>
            <a:ext cx="97203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st Practical – Overview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318600" y="1052640"/>
            <a:ext cx="972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our (4) exerci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alculation of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nterpretation of data and report prepa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Group discu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rcise 1 - Respirable Du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appropriate equi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ibrate sampling train with electronic flow me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te dust cloud with san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dust clo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alibrate pu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rcise 2 - Inhalable Du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appropriate equi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ibrate sampling train with soap film flow me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te dust cloud with san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dust clo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alibrate pu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rcise 3 - Evaluation of a Dust Clou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MDHS 82 as a gu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te a dust cloud and observe “Tyndall effect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 peak dust readings (if instrument availabl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 how this approach can be useful in developing a monitoring strate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Typical Sampling Pum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7786800" y="4214880"/>
            <a:ext cx="1439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6" descr="Day 3 2"/>
          <p:cNvPicPr/>
          <p:nvPr/>
        </p:nvPicPr>
        <p:blipFill>
          <a:blip r:embed="rId1"/>
          <a:stretch/>
        </p:blipFill>
        <p:spPr>
          <a:xfrm>
            <a:off x="2695680" y="1484280"/>
            <a:ext cx="4298760" cy="4572000"/>
          </a:xfrm>
          <a:prstGeom prst="rect">
            <a:avLst/>
          </a:prstGeom>
          <a:ln w="0">
            <a:noFill/>
          </a:ln>
        </p:spPr>
      </p:pic>
      <p:sp>
        <p:nvSpPr>
          <p:cNvPr id="599" name="TextBox 5"/>
          <p:cNvSpPr/>
          <p:nvPr/>
        </p:nvSpPr>
        <p:spPr>
          <a:xfrm>
            <a:off x="8001000" y="5969160"/>
            <a:ext cx="20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; University of Wollong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rcise 4 - Selection &amp; Weighing of Fil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 filters provided and select those suitable for monitoring respirable &amp; inhalable du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ilibrate fil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igh fil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lculation &amp; Interpretation of Da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workplace exposures from data provid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ablish level of risk within the workpl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e an appropriate re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lculation &amp; Interpretation of Data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 aspects such a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ing strategy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issues with data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come of assessment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ations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sible recommend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other relevant 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18600" y="188640"/>
            <a:ext cx="97203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ew of Learning Outcom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318600" y="1409760"/>
            <a:ext cx="9720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derstand overnight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derstand types of sampling pumps &amp; capture devices for dust, fume &amp; fibre monito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derstand principles of workplace monitoring for dust, fumes &amp; fib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ew of Learning Outcomes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 equipment calibration &amp; calculation of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direct reading instrumentations and limitations of its u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common sources of err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03:34:55Z</dcterms:created>
  <dc:creator>Brian Davies</dc:creator>
  <dc:description/>
  <dc:language>en-US</dc:language>
  <cp:lastModifiedBy>Roz Phillips</cp:lastModifiedBy>
  <dcterms:modified xsi:type="dcterms:W3CDTF">2024-02-15T13:19:34Z</dcterms:modified>
  <cp:revision>14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5014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