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882-0B16-4DEA-8A68-6ED4CFBC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F15-98DB-42F3-B5F0-C7199B1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567-6D38-467C-93A2-A601C893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597-4BCF-4756-8B22-2F5A551C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338-6AD1-4EB3-98F2-5BFD9F2D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F81-D108-4C40-9C18-F2FAFD68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DF0B-6E06-44C9-B6CC-6D7719D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BD7-438C-46FA-A5FC-C5C5AF2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A61-6251-4CA4-B813-92EAD5F1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FD4-80DC-47FD-B7D6-CE0BB8FB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AC8-0B7B-466A-ABE4-E9B5F25B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9C5-97BC-44E3-903E-3EEBEA56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DF2F-EE59-4C1D-B4C9-781E1F7CD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Effectiveness of a Hygien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ay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cing employees to use the control measures provided proper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vising other hygiene staff to perform optimally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cing managers to make or support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ey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ecutive &amp; administrative skills such as setting objectives, planning, supervision, problem solving, decision making, time management, delegation, budgeting and aud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ople management skills including recruitment interviewing, training and development of staff, counselling, disciplinary interviewing,  team building, leadership and mo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 skills like report writing, making presentations and public speaking, handling meetings, persuasion (or selling) and negot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imple Development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 a public meeting of a local authority to analyse how the debate is conducted and what type of arguments a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 a presentation to a hostile audience on a sensitive health t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someone track your use of time and give you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ve from a small firm to a large one (or vice versa) to experience the cultural sh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1- CAREERS IN OCCUPATIONAL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ection 22 Fig 22-1"/>
          <p:cNvPicPr/>
          <p:nvPr/>
        </p:nvPicPr>
        <p:blipFill>
          <a:blip r:embed="rId1"/>
          <a:stretch/>
        </p:blipFill>
        <p:spPr>
          <a:xfrm>
            <a:off x="108000" y="528480"/>
            <a:ext cx="89647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sation of Occupational Hygien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and resources of the employing organ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ed for specialist expert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vailability of outside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ole of Occupational Hygien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52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workplaces, plant, processes, materials, sources of exposure and people inv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legal requirements which may a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well versed in the recognition of potential health hazards and their association with disease or discom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derivation of the accepted hygien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ppropriate environmental or biological sampling program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, purchase, calibrate and maintain appropriate field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out surveys of the workplace and be aware of the limitations of such surv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risk to health by using his professional judgment and with reference to reliable hygien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statistical treatment to the data ob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nd retrieve data as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control methods by observation and measur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 new or improved control measures to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ole of Senior Occupational Hygien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ng occupational hygiene policies and stand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ing and monitoring the effectiveness of the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ssessment of new processes, by scrutinising materials, plant designs etc and anticipat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ng and training management and workforce in occupational hygi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ion and professional development of hygiene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of an occupational hygiene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urance of hygiene measurements and program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urther Roles of Hygie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ing data for standard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rving on national and international committ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aison with many national scientific, industrial and academic 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ssioning or conducting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guidance on the whole spectrum of prevention and control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fting and reviewing legis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863440"/>
            <a:ext cx="8229600" cy="26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ize and status of th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nagement structure an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libre of staff empl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rvices off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92400" y="1600200"/>
            <a:ext cx="79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systems may be formal or inform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 be influenc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ygienist as a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ing occupational hygiene programmes - designing programmes, planning their implementation, conducting and monitor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ing a hygiene service - either in-house or as a consultancy, with responsibility for staff, budgeti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ing part of a company's management team, advising line managers on specialised hygiene matters to meet the needs of the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areers - moving into an area such as marketing or line management on the strength of the abilities acquired through practising as a hygien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Roz Phillips</cp:lastModifiedBy>
  <dcterms:modified xsi:type="dcterms:W3CDTF">2024-02-27T18:13:30Z</dcterms:modified>
  <cp:revision>17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4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