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5B8-4AEF-405E-A94A-E0BD72F7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143-7D03-4072-BC12-BCB27C0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83E-59D7-4EB5-BD59-FE3A8B98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D9F-4600-4D87-8EA1-3F362FF4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C17-A219-45C0-9F6E-D0925524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F89-3F81-4FE2-958A-7DBDBB10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DB7-38EC-4F5C-B3DB-993F19B5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2CF-71D7-401B-A4F4-D261B5AA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80C-B3BD-4F8B-AAAB-EDEAE07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3EC-BA3F-47AE-8A5B-4FF40821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391-BA01-49AC-AC82-116FBA5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837-660D-4E22-834F-E572494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ABB-C253-4820-BE4E-B67B8594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20 – STRESS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ORK-RELATED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ychosocial aspects of the work environment have been increasingly recognised in recent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any developed countries cases of “mental ill health” represent the single most common cause of work-related ill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-designed, organised and managed work helps to maintain and promote individual health and well-be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ufficient attention to job design, work organisation and management the benefits and benefits associated with work can be lost. One common result is work-related st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ymptoms of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ess produces a range of signs and symptoms, these can inclu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nges in Behaviou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nding it hard to sleep, changed eating habits, increased smoking or drinking, avoidance of friends and family or sexu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sical symptom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iredness, indigestion and nausea, headaches, aching muscles or palpi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tal chang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ecoming less indecisive, finding it hard to concentrate, suffering from loss of memory, feelings of inadequacy or low self este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otional chang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getting irritable or angry; feeling anxious or numb, being hypersensitive, or feeling drained and listl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ssessment of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14172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11280" y="1424160"/>
            <a:ext cx="36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asking all employees a series of questions where they rank their individual perceptions of the kinds of factors likely to contribute to stress or job satisf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agement of St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ncluding workload, work patterns and the work environme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ow much say the person has about the way they do thei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cluding the encouragement, sponsorship and resources provided by the organisation, line management and colleagu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cluding promoting positive working to avoid conflict and dealing with unacceptable behavi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ther people understand their role within the organisation and whether the organisation ensures that they do not have conflicting r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w organisational change (large or small) is managed and communicated in the 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Roz Phillips</cp:lastModifiedBy>
  <dcterms:modified xsi:type="dcterms:W3CDTF">2024-02-27T18:11:40Z</dcterms:modified>
  <cp:revision>21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38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