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5469-3C81-4370-ABD3-C81D141A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8FF-930D-4A53-9AB4-6C761064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F11-1A3D-4AE7-A212-F61F0C59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3E8-55E4-42CF-8CEF-4128333F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0C5-28BC-4E99-B581-BDA4031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51D-BC11-4DC6-BBDF-CAD8BFF8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4DC-97BA-440B-813E-8001E5C8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FEF-97AF-48A0-9265-E0F1277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F22-0853-4C25-8454-B4F8106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677-6E2E-4D54-90A9-512975DA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87B-2502-4AAF-A368-070B7D2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851-85F3-435E-8A5A-FFE04836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1D23-E53D-406A-B26A-5DF89C1B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ASIC PRINCIPLES IN OCCUPATIONAL HYG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9 –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EHAVIOUR AND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mpacts of Behaviour  in Occupational Hyg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er behaviour has an important influence on exposure to hazardous agents in the workpl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contaminated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ing soiled personal protective equipment (P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 housekeeping, working untidily or not cleaning up afte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ing to use PPE properly when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hygienic behaviour such as failing to remove protective clothing and wash hands before a meal br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ing to switch on a ventil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ling a material vigorously instead of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"Swiss Cheese" model of accident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ection 20 Fig 20-1"/>
          <p:cNvPicPr/>
          <p:nvPr/>
        </p:nvPicPr>
        <p:blipFill>
          <a:blip r:embed="rId1"/>
          <a:stretch/>
        </p:blipFill>
        <p:spPr>
          <a:xfrm>
            <a:off x="1835280" y="2349360"/>
            <a:ext cx="5505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 and Behaviour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ecedents - Behaviour - Consequences (A - B - C)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eced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eate the initial motivation to ac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havi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observable 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re what happens after the behaviou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ehavioural 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795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ehavioural intervention can be planned in three distinct stage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8840" indent="-53352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tiv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rstly it is necessary to motivate individuals in order to get them to want to change their behavi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8840" indent="-53352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tig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ce people are motivated they need to be supported to enable them to change behavio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8840" indent="-53352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tenanc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hen a behaviour has been changed efforts need to be made to ensure that it doesn’t revert 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ealth and Safety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pattern of behaviour becomes widespread in an organisation it can be described as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rganisational cultu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can be a nebulous concept – a simple definition is “how we do things around here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defines the unwritten rules of an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a behaviour becomes embedded in the organisation's culture it can be hard to cha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rganisation's culture can be said to be positive for health and safety if it encourages behaviours that minimise incidents and exposure to r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gative cultures are often characterised by fear and blame, which inhibit reporting of dangerous conditions and inhibit improvement.  Employees flout the rules and managers turn a blind e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Example of a Culture Maturity 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ection 20 Fig 20-2"/>
          <p:cNvPicPr/>
          <p:nvPr/>
        </p:nvPicPr>
        <p:blipFill>
          <a:blip r:embed="rId1"/>
          <a:stretch/>
        </p:blipFill>
        <p:spPr>
          <a:xfrm>
            <a:off x="179280" y="1285920"/>
            <a:ext cx="8785440" cy="5153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7089840" y="6524640"/>
            <a:ext cx="1879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laxoSmithK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20T17:07:37Z</dcterms:modified>
  <cp:revision>18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36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