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311-6117-41FE-8302-47C9CE94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971-961D-4105-A13F-3B9F9B16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1E8-D31A-4435-8847-06FFBAA5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13B-C6D9-4807-B70F-894B4990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B4C-1EB4-4CEB-9708-4C49BE67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873-841D-417A-940C-2617565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B05-68FB-4F4F-8E02-4196CE0F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99F-C5E0-429D-8AAA-A317B29F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225-498B-441A-ACD0-088A37FA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A99-48A2-4C99-9E80-1AEF00ED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53D-6A79-4F57-AE64-1393287D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AF4-C764-4312-9347-DDDC72D3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CD45-E87B-4FC0-AF5D-91CCF0C2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5/Nancy_at_Sun_Peaks_in_20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commons.wikimedia.org/wiki/File:Samsung_Electric_Fan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f/ff/US_Navy_080118-N-4649C-033_A_Sailor_wearing_a_fire-retardant_suit_checks_for_hot_spots_during_a_crash_and_smash_drill_aboard_the_guided-missile_cruiser_USS_Shiloh_%28CG_67%29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c/ce/Air_Condition_Unit_Interior_View_USA.jpg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ersonal Ins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58920" y="1557360"/>
          <a:ext cx="706752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29527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summer clot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indoor clot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vy s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 cloth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al maximu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RMAL ENVIR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y Bulb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an Radiant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ir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onal moni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eat Stress Ind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ous workers have devised indices to combine some of them into a single figure to which a standard could be applied. Some of these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t Bulb Globe Temperatur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simple index calculated after measuring the dry bulb, natural wet bulb and globe temper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SI (Heat Stress Index)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lculated using a range of environmental measurements as well as work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4SR (Predicted Four Hour Sweat Rate)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lculated from charts and used to assess physiological lim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Thermal Comf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subjective and people will feel differently about what is the ‘ideal’ therm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ch less extreme conditions than thermal str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es have also been generated in an attempt to measure thermal comf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2" descr="File:Nancy at Sun Peaks in 20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1341360"/>
            <a:ext cx="1628640" cy="2374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rolling the Therm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amsung Electric F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4365720"/>
            <a:ext cx="1280880" cy="2292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File:US Navy 080118-N-4649C-033 A Sailor wearing a fire-retardant suit checks for hot spots during a crash and smash drill aboard the guided-missile cruiser USS Shiloh (CG 67)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4005360"/>
            <a:ext cx="1904760" cy="266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File:Air Condition Unit Interior View US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3280" y="4653000"/>
            <a:ext cx="270036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Household_radiator"/>
          <p:cNvPicPr/>
          <p:nvPr/>
        </p:nvPicPr>
        <p:blipFill>
          <a:blip r:embed="rId9"/>
          <a:stretch/>
        </p:blipFill>
        <p:spPr>
          <a:xfrm>
            <a:off x="539640" y="1268280"/>
            <a:ext cx="2438640" cy="218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File:Man sitting under beach umbrella.JPG"/>
          <p:cNvPicPr/>
          <p:nvPr/>
        </p:nvPicPr>
        <p:blipFill>
          <a:blip r:embed="rId10"/>
          <a:stretch/>
        </p:blipFill>
        <p:spPr>
          <a:xfrm>
            <a:off x="3564000" y="1268280"/>
            <a:ext cx="1952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pecific Environment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radia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File:Foundry ladle pour.jpg"/>
          <p:cNvPicPr/>
          <p:nvPr/>
        </p:nvPicPr>
        <p:blipFill>
          <a:blip r:embed="rId1"/>
          <a:stretch/>
        </p:blipFill>
        <p:spPr>
          <a:xfrm>
            <a:off x="2916360" y="1989000"/>
            <a:ext cx="32241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pecific Environment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humidit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File:Polarstern laundry hg.jpg"/>
          <p:cNvPicPr/>
          <p:nvPr/>
        </p:nvPicPr>
        <p:blipFill>
          <a:blip r:embed="rId1"/>
          <a:stretch/>
        </p:blipFill>
        <p:spPr>
          <a:xfrm>
            <a:off x="2627280" y="227664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pecific Environment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t d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File:Desert Leader.jpg"/>
          <p:cNvPicPr/>
          <p:nvPr/>
        </p:nvPicPr>
        <p:blipFill>
          <a:blip r:embed="rId1"/>
          <a:stretch/>
        </p:blipFill>
        <p:spPr>
          <a:xfrm>
            <a:off x="2843280" y="19162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15 - THERMAL ENVIR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RMAL ENVIR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12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function effectively we need to maintain our bodies at a constant temperature within 36.5 - 37.5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erature regulation centres in our brain are sensitive to small changes of blood temperature and also get feed back from sensory nerves at the sk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r brains then use this information to adjust our bodies responses to h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ological responses to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od vessels in skin exp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se rate incre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s blood to the surface of the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eating also increases heat loss due to latent heat of evapo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very hot conditions, sweating offers greatest potential for regulating body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e adverse effects of exposure to excessive heat inclu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tigu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avioural modific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ed concentr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t cramps due to salt los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inting heat exhaus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25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t stro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ysiological responses to c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37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ood vessels in skin contr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37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t flow to the body surface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37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t production is increased by physical activity and shiver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37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physiological acclimatisation to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adverse effects to excessive cold inclu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37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situde/listlessnes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37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blai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37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st b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371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potherm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sychological Responses to the Thermal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ople will often modify the way they work depending on the thermal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their local wor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ing to a more comfortable are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nging cloth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ing or decreasing vent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and efficiency can also be affected by adverse therma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eat Transfer from th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 parameters that may be taken into accou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M ‑ W + C + R + K ‑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  =  Storage, which in the long term must equal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  = 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  =  External work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  =  Conv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   = 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  =  Con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  =  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actors Influencing Heat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413000"/>
          <a:ext cx="8229600" cy="4903560"/>
        </p:xfrm>
        <a:graphic>
          <a:graphicData uri="http://schemas.openxmlformats.org/drawingml/2006/table">
            <a:tbl>
              <a:tblPr/>
              <a:tblGrid>
                <a:gridCol w="658800"/>
                <a:gridCol w="48276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rate (i.e. activity or metabolic rat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tempera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nt tempera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Veloc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idity (moisture) conditi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abolic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052640"/>
          <a:ext cx="8229600" cy="5556240"/>
        </p:xfrm>
        <a:graphic>
          <a:graphicData uri="http://schemas.openxmlformats.org/drawingml/2006/table">
            <a:tbl>
              <a:tblPr/>
              <a:tblGrid>
                <a:gridCol w="4475160"/>
                <a:gridCol w="3754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m</a:t>
                      </a:r>
                      <a:r>
                        <a:rPr b="1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ody surface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 Walk (2.5 kp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 (5 kp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ning ( 16 kp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ting (25 kp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20T16:58:31Z</dcterms:modified>
  <cp:revision>16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28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