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5F8F-B04B-4178-AD98-E29EAF694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984D-C70D-42E6-9952-F180618FC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93FE-34AB-4D18-9551-B1A656CC5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8D37-2309-4F18-B875-CF2404C43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631D-FE04-42ED-9DEF-9142B532D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9127-EF19-4957-AA08-52FC100BB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F782-1DDA-4915-90C9-0115DC127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72CA-33D3-4124-B959-947B1CD50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2FC2-394A-4FC9-A40A-7882765F2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1E22-3199-4123-BE0E-441891568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C1F3-6627-4827-AEE7-12FC0C6F8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5F58-C6E3-477E-83CB-87332B924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E225E-0199-4187-AC0D-6F5944C6E3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BASIC PRINCIPLES IN OCCUPATIONAL HYGIE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y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14 - VIB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VIB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ibration is the mechanical oscillations of an object about an equilibrium poi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oscillations may be regular such as the motion of a pendulum or random such as the movement of a tire on a gravel roa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we could watch a vibrating object in slow motion, you could see movements in different dire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VIB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Section 14 Fig 14-1"/>
          <p:cNvPicPr/>
          <p:nvPr/>
        </p:nvPicPr>
        <p:blipFill>
          <a:blip r:embed="rId1"/>
          <a:stretch/>
        </p:blipFill>
        <p:spPr>
          <a:xfrm>
            <a:off x="611280" y="2421000"/>
            <a:ext cx="83534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VIB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y vibration has two measurable quantities. How far (amplitude or intensity), and how fast (frequency) the object moves helps determine its vibrational characteristic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7040" indent="-254160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number of cycles that a vibrating object completes in one second is called frequenc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7040" indent="-254160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unit of frequency is hertz (Hz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7040" indent="-254160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e hertz equals one cycle per secon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mplitude -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mplitude is the distance from the stationary position to the extreme position on either side and is measured in metres (m). The intensity of vibration depends on amplitude.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Acceleration (measure of vibration intensity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cceleration is a measure of how quickly speed changes with tim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measure of acceleration is expressed in units of (metres per second) per second or metres per second squared (m/s</a:t>
            </a:r>
            <a:r>
              <a:rPr b="0" lang="en-GB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magnitude of acceleration changes from zero to a maximum during each cycle of vibration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t increases as vibrating object moves further from its normal stationary position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Exposure to Vibr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3512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2000" indent="-2520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posure to vibration normally occurs during the operation of powered machinery such as hand tools or whilst travelling on vehic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30960" indent="-189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nd-arm vib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30960" indent="-189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ole-body vib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2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2000" indent="-252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ibration induced health conditions progress slowl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2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2000" indent="-252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ibration-induced white finger (VW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30960" indent="-189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ttacks of whitening (blanching) of one or more fingers when exposed to co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30960" indent="-189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ingling and loss of sensation in the fing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30960" indent="-189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ss of light tou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30960" indent="-189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in and cold sensations between periodic white finger atta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30960" indent="-189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ss of grip strength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30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2000" indent="-252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ne cysts in fingers and wris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Measurement of Vibr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268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ibration is usually measured by the use of accelerome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268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ttached to the hand of a worker or to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268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like noise measurements, vibration ones have a subjective el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0T12:17:15Z</dcterms:created>
  <dc:creator> Dr. Adrian A. Hirst</dc:creator>
  <dc:description/>
  <dc:language>en-US</dc:language>
  <cp:lastModifiedBy>McDonald</cp:lastModifiedBy>
  <dcterms:modified xsi:type="dcterms:W3CDTF">2010-10-20T16:56:27Z</dcterms:modified>
  <cp:revision>14</cp:revision>
  <dc:subject/>
  <dc:title>BASIC PRINCIPLES IN OCCUPATIONAL HYGIEN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rder">
    <vt:lpwstr>32472600.0000000</vt:lpwstr>
  </property>
  <property fmtid="{D5CDD505-2E9C-101B-9397-08002B2CF9AE}" pid="3" name="display_urn:schemas-microsoft-com:office:office#Author">
    <vt:lpwstr>Simon Festing</vt:lpwstr>
  </property>
  <property fmtid="{D5CDD505-2E9C-101B-9397-08002B2CF9AE}" pid="4" name="display_urn:schemas-microsoft-com:office:office#Editor">
    <vt:lpwstr>Simon Festing</vt:lpwstr>
  </property>
</Properties>
</file>