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CF6-24A5-4FA3-B6F7-57916AF4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DC9-90BE-47DF-B13D-8150774C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912E-BA57-46DE-A44A-7D5E548C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A45-06F1-4DC6-BE75-7801C9A1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FF0-8999-43AD-AC0B-0AD0DE8F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1DC-4321-4376-8EB2-02D7F6D5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855-97EC-413B-B9F4-989F9DBD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C98-91AF-4375-B912-7E64D5E8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29E-1826-45B3-9AEF-B156D6CC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BB3-AF8D-46C4-975E-AC3F2725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109-7E06-404D-8352-AFDF9EEB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AEB0-143C-44A3-B5CE-0104B2AF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2BAB-375B-4ADC-882D-1EF728274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7/Biohazard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a/Ecoli_dividing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7/LegionellaPneumophil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ASIC PRINCIPLES IN OCCUPATIONAL 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gion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as most at risk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66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ling t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66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storage tanks and calor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66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t and cold water services in premises where occupants are particularly susceptible (homes for the elderly, hospitals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66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idifiers and or washers that create a spray of water droplets and in which water temperature exceed 20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66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a baths and p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66840">
              <a:lnSpc>
                <a:spcPct val="11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e sprinkler systems and fountains.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gion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tors affecting growth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temper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peratures in the range of 20-45°C favour growth (optimum temperature 37°C). Proliferation of the bacteria is unlikely below 20°C, and the organism does not survive above 60°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being stagnant favours multi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ence of sediment, scale and slu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ence of other micro-organisms (algae, amoeba and bacteria) or a biofilm (a layer of micro-organisms contained in a matrix which may form a slime on surfa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gion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 – prevent growth of bacteria and production of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mise the release of water sp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 water temperatures between 20°C and 45°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 water stag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 use of materials that can harbour or support the growth of bacteria and other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ep the system c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suitable water treatment systems including bioc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 system operates safely and correctly and is well maint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ing to assess water qu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umidifier F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34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ociated with exposure to many different types of micro-organisms including various bacteria and fungi found in humidifier reservoirs and air-conditioning uni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icro-organisms have been found in both large ventilation systems as well as in small un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concentrations of these organisms can be dispersed into the environment in the aerosol mist generated by the humidifiers during normal oper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u-like illness with fever, chills, headache, muscle ache and fatigu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by ensuring that the bacteria and fungi do not 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Blood Borne Disea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isk of occupational acquisition of a blood borne virus rel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evalence of the virus in the patient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fficiency of virus transmission after a single contact with infected fluid /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ture and frequency of occupational blood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centration of the virus in the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ection comes from avoidance of blood to blood contact by precautions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aring protective gloves and face m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vering cuts and wounds with a waterproof dr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e with shar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ing all equipment is appropriately steri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 disposal of infected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of surface cont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hygi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Blood Borne Disea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25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patiti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patiti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V - (Human Immuno-deficiency Viru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Zoono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32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oonoses are infections that are naturally transmitted from animal to huma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-32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are over 150 known zoonoses which range from ring worm to anthrax and rab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-32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oonoses primarily affect people who work closely with animals i.e.  farm workers, laboratory workers, vets, forestry work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8880" indent="-32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ection can occur through contact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191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imal and animal products (meat, bone meal, fur, feathers, skins, wo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191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imal tissue &amp; body fluids (blood, saliva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191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rth products (placenta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191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ste products (urine, dung, fa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191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minated materials (ground, fencing, clothing et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32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ction may occur via inhalation, ingestion or through broken skin or contact with mucous membra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File:Bacillus anthracis.jpg"/>
          <p:cNvPicPr/>
          <p:nvPr/>
        </p:nvPicPr>
        <p:blipFill>
          <a:blip r:embed="rId1"/>
          <a:stretch/>
        </p:blipFill>
        <p:spPr>
          <a:xfrm>
            <a:off x="5940360" y="2168640"/>
            <a:ext cx="2814840" cy="2111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Anthra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isease is caused by the spore forming bacteria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acillus anthrac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animals may carry the anthrax bacteria or spores including cattle, horses, goats and shee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ore remain viable in animal products for long peri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aneous anthrax  - (a skin diseas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nthrax (affecting the lung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ain occupations at risk include agricultural workers, abattoirs, animal by product processing, vets and the wool and tanning indus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515280" y="4424400"/>
            <a:ext cx="169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ource: Wikimedia Comm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Leptospirosi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341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ain form of leptospirosis is Weil’s disease which is a potentially life threatening illness caused by the Leptospira bacteria passed from rats via urin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mptoms include flu-like symptoms such as fever, headache, vomiting, muscle pains, pneumonia and possible kidney failure and de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isease may be transmitted through contact with rat’s urine or watercourses contaminated with i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File:Rattus norvegicus 01.JPG"/>
          <p:cNvPicPr/>
          <p:nvPr/>
        </p:nvPicPr>
        <p:blipFill>
          <a:blip r:embed="rId1"/>
          <a:stretch/>
        </p:blipFill>
        <p:spPr>
          <a:xfrm>
            <a:off x="6012000" y="162864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6802560" y="4797360"/>
            <a:ext cx="169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Source: Wikimedia Comm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Salmonello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252360">
              <a:lnSpc>
                <a:spcPct val="14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lmonellosis is the name given to an infection caused by any of the Salmonella group of bacteri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14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lmonella bacteria may be carried by most types of farm anim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14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mptoms develop suddenly about 12 to 24 hours after infection and include malaise, headache, nausea, abdominal pain, diarrhoea and fev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12 - BIOLOGICAL HAZAR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File:Biohazard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6120" y="1600200"/>
            <a:ext cx="517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pidemic of an infectious disease that spreads over a wide geographic area and affects a large proportion of the popul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andemic can start when the following conditions occ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533520">
              <a:lnSpc>
                <a:spcPct val="11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ergence of a disease, or a particular strain of a disease, new to a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533520">
              <a:lnSpc>
                <a:spcPct val="11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gent affects humans, causing serious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533520">
              <a:lnSpc>
                <a:spcPct val="11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gent spreads easily and sustainably among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IOLOGICAL HAZ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logical Hazards - bacteria, viruses or moulds have the ability in the right condition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apidly replic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msel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on control is not only avoidance of contact with the agent but also on ensuring that conditions favourable for growth of the organism are preven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IOLOGICAL HAZ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hree main categories of biological ag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acteri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single celled micro organisms that live in soil, water and 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Virus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tiny parasitic organisms that can only reproduce within living cel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Fung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simple plants lacking chlorophyll and normal plant structures (e.g. leaves, stems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ile:Ecoli divid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3933720"/>
            <a:ext cx="3241800" cy="2203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4932360" y="6157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viding Escherichia coli bacter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Wikimedia Comm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posure to micro-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dividual to exposure to micro-organisms depends on state of immun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68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ther the individual has already experienced a particular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68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munisation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68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68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68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ile:LegionellaPneumophil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746440"/>
            <a:ext cx="4140000" cy="3346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067280" y="6071040"/>
            <a:ext cx="4783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gionella pneumophila multiplying inside a cultured human lung fibrobla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Wikimedia Comm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OL DEPENDENT ON RISK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isk Group 1 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low individual and community risk). An organism that is unlikely to cause human or animal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isk Group 2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moderate individual risk, limited community risk). A pathogen that may cause human or animal disease and which might be a hazard to laboratory workers, but is unlikely to spread to the community, livestock or the environ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isk Group 3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high individual risk, low community risk).  A pathogen that can cause serious human disease but does not ordinarily spread from one individual to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isk Group 4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high individual and community risk).  A pathogen that usually produces serious human or animal disease and may be readily transmitted from one individual to another, directly or indi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osafet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Biosafety levels which give the containment precau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8760" indent="-2584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safety Level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Little contaiment or segragation, precautions such as seperation and labelling of waste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760" indent="-2584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safety Level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taff have specific training in handling pathogenic agents, restriocted access, sharps protection, biological cabinets for certai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760" indent="-2584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safety Level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Bbiological safety cabinets or other physical containment devices, personal protective clothing and equipment. Double-door access z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760" indent="-258480">
              <a:lnSpc>
                <a:spcPct val="10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safety Level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parate building/ controlled are. Controlled ventilation maintining it under negative press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activities are carried out in Class III biological safety cabinets, or Class II biological safety cabinets with one-piece positive pressure personnel suits ventilated by a life support system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Legion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File:Legionella pneumophila (SEM) 2.jpg"/>
          <p:cNvPicPr/>
          <p:nvPr/>
        </p:nvPicPr>
        <p:blipFill>
          <a:blip r:embed="rId1"/>
          <a:stretch/>
        </p:blipFill>
        <p:spPr>
          <a:xfrm>
            <a:off x="1187280" y="1349280"/>
            <a:ext cx="6769440" cy="4600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4"/>
          <p:cNvSpPr/>
          <p:nvPr/>
        </p:nvSpPr>
        <p:spPr>
          <a:xfrm>
            <a:off x="0" y="602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5000 Magnification of a large grouping of Gram-negative Legionella pneumophila bacter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Wikimedia Comm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gion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341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76 - an outbreak occurred among delegates attending an American Legion conv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patterns of disease in human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53316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ntiac Fever (a mild flu-like illnes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-53316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ionnaires Disease. (pneumonia and flu-like symptoms. It is fatal in about 10 - 15% of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3344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enters into the body when fine droplets of contaminated water are inhaled.  The bacterium is not transmitted from person to per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341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ionella are widespread in natural fresh water including rivers, lakes, streams and p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17:15Z</dcterms:created>
  <dc:creator> Dr. Adrian A. Hirst</dc:creator>
  <dc:description/>
  <dc:language>en-US</dc:language>
  <cp:lastModifiedBy>Roz Phillips</cp:lastModifiedBy>
  <dcterms:modified xsi:type="dcterms:W3CDTF">2024-02-27T17:59:19Z</dcterms:modified>
  <cp:revision>15</cp:revision>
  <dc:subject/>
  <dc:title>BASIC PRINCIPLES IN OCCUPATIONAL HYGIE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4722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