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7C7-DF94-40F9-BD30-B2D26A3B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C68-278C-454F-9004-EF4A0537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D1E-4578-4665-A67D-91FEB2FE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DB0-855B-4DEB-B64A-62489CC8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AD0-8F85-4A8D-9DD4-41703134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311-43C2-49BD-B8EB-3FAFE0D2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199-3993-4366-AD7F-24FF606F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033-1181-41A5-8D8A-D6A732A5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FCA-5F7D-408D-B0D1-4D8A0AFC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27B-1556-4FC9-A0A2-3716E40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F99-5745-4C87-977A-006D13D3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0A4-3E8F-4608-BE0E-C22A0C3B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8E89-768A-48C6-A5A8-76720C848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aser-symbol.sv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7/Telstra_Mobile_Phone_Tower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pload.wikimedia.org/wikipedia/commons/7/76/20100204_Sony_Ericsson_W518a_open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upload.wikimedia.org/wikipedia/commons/7/79/Microwave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a/Ionisation-1-Na-3D-ionic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ASIC PRINCIPLES IN OCCUPATIONAL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Laser Radi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SER = '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h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plification b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ulat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sion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iation'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ntrated beam of non‑ionising rad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8920" indent="-455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a single wavelength or a narrow wavelength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8920" indent="-455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visible and infrared region of the electromagnetic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8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zardous due to concentrated inten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mage eyes from repairable burns to permanent blind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taract formation may also occ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sers have widespread use, e.g. in communications, construction, medical applications, research, surve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ser Class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7715160" cy="4794120"/>
        </p:xfrm>
        <a:graphic>
          <a:graphicData uri="http://schemas.openxmlformats.org/drawingml/2006/table">
            <a:tbl>
              <a:tblPr/>
              <a:tblGrid>
                <a:gridCol w="1235160"/>
                <a:gridCol w="4392360"/>
                <a:gridCol w="208764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1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 provided optical instruments are not us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ble lasers.  Safe for accidental exposur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ble lasers.  Safe for accidental exposure providing optical instruments are not us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3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afe. Low risk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zardous.  Viewing of diffuse reflection is saf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zardous.  Viewing of diffuse reflection is also hazardous.  Fire risk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68" name="Group 31"/>
          <p:cNvGrpSpPr/>
          <p:nvPr/>
        </p:nvGrpSpPr>
        <p:grpSpPr>
          <a:xfrm>
            <a:off x="6156360" y="2709720"/>
            <a:ext cx="1944720" cy="2303280"/>
            <a:chOff x="6156360" y="2709720"/>
            <a:chExt cx="1944720" cy="2303280"/>
          </a:xfrm>
        </p:grpSpPr>
        <p:pic>
          <p:nvPicPr>
            <p:cNvPr id="69" name="Picture 32" descr="http://upload.wikimedia.org/wikipedia/commons/thumb/9/94/Laser-symbol.svg/120px-Laser-symbol.svg.pn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61400" y="2709720"/>
              <a:ext cx="1939320" cy="17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33"/>
            <p:cNvSpPr/>
            <p:nvPr/>
          </p:nvSpPr>
          <p:spPr>
            <a:xfrm>
              <a:off x="6156360" y="4437360"/>
              <a:ext cx="194472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Warning label for Class 2 and hig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Microwave Radi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crowaves are produced by molecular vibration in solid bod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imary effect on the body is thermal - burning of the skin and e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longed exposure to low level microwave radiation has been linked with headaches, sleeplessness, irritability, fatigue and memory l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crowaves are widely used in applications like wireless computing and mobile phone network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ch public concern has been raised about the possibility of serious long-term health effects such as cancer.  As yet, research has failed to demonstrate such a link conclus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File:Telstra Mobile Phone Tow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149720"/>
            <a:ext cx="1725480" cy="259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File:20100204 Sony Ericsson W518a ope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4321080"/>
            <a:ext cx="1817640" cy="242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File:Microwav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3640" y="5089680"/>
            <a:ext cx="280188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ection 16 Fig 16-1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418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4284720" y="26028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si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00 to 7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5219640" y="981000"/>
            <a:ext cx="647640" cy="5877000"/>
          </a:xfrm>
          <a:prstGeom prst="rect">
            <a:avLst/>
          </a:prstGeom>
          <a:gradFill rotWithShape="0">
            <a:gsLst>
              <a:gs pos="0">
                <a:srgbClr val="bbe0e3">
                  <a:alpha val="51372"/>
                </a:srgbClr>
              </a:gs>
              <a:gs pos="100000">
                <a:srgbClr val="576869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rms of occupational hygiene we are concerned with the subjective feeling of visual comfort, and good illumination which is described in terms of the quantity and quality of the ligh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this is the amount of illumination on the task.  It is measured in lux and must be sufficient for the worker to undertake the ta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is the suitability of the illumination, for example the distribution of brightness in a visual environment, the colour of light, its direction, diffusion and the degree of gl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of Illu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meter (often termed a 'Lux' mete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ur corrected to respond to the human ey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File:Digital ambient light meter.jpg"/>
          <p:cNvPicPr/>
          <p:nvPr/>
        </p:nvPicPr>
        <p:blipFill>
          <a:blip r:embed="rId1"/>
          <a:stretch/>
        </p:blipFill>
        <p:spPr>
          <a:xfrm>
            <a:off x="6804000" y="2060640"/>
            <a:ext cx="1841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l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 brightness within the field of vision that causes discomfort, annoyance, interference with vision, or eye fatigu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53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bility gla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53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comfort gla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533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flected g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ile:Roy Thomson Hall glare.jpg"/>
          <p:cNvPicPr/>
          <p:nvPr/>
        </p:nvPicPr>
        <p:blipFill>
          <a:blip r:embed="rId1"/>
          <a:stretch/>
        </p:blipFill>
        <p:spPr>
          <a:xfrm>
            <a:off x="0" y="371628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File:IPhone with Matte Screen Protector vs. Plain iPod.jpg"/>
          <p:cNvPicPr/>
          <p:nvPr/>
        </p:nvPicPr>
        <p:blipFill>
          <a:blip r:embed="rId2"/>
          <a:stretch/>
        </p:blipFill>
        <p:spPr>
          <a:xfrm>
            <a:off x="4427640" y="3720960"/>
            <a:ext cx="47163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ING AND NON-IONIZING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ING AND NON-IONIZING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252360">
              <a:lnSpc>
                <a:spcPct val="11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magnetic waves are produced by the motion of electrically charged partic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11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waves are also called "electromagnetic radiation" because they radiate from the electrically charged partic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11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travel through empty space as well as through air and can penetrate some other substa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11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o waves, microwaves, visible light, and x rays are all examples of electromagnetic w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ING AND NON-IONIZING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with sound energy, Electromagnetic Radiation can be described in terms of its frequency (or wavelength) and its intens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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requency (Hz) is inversely proportional to the wavelength (nm), so higher frequencies have shorter wavelength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Section 16 Fig 16-1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ection 16 Fig 16-1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418360"/>
          </a:xfrm>
          <a:prstGeom prst="rect">
            <a:avLst/>
          </a:prstGeom>
          <a:ln w="0">
            <a:noFill/>
          </a:ln>
        </p:spPr>
      </p:pic>
      <p:sp>
        <p:nvSpPr>
          <p:cNvPr id="52" name="Line 5"/>
          <p:cNvSpPr/>
          <p:nvPr/>
        </p:nvSpPr>
        <p:spPr>
          <a:xfrm>
            <a:off x="6659640" y="260280"/>
            <a:ext cx="73080" cy="6481800"/>
          </a:xfrm>
          <a:prstGeom prst="line">
            <a:avLst/>
          </a:prstGeom>
          <a:ln w="284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780000" y="40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n - Ion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732720" y="40464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on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on-ionising and Ionising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279720">
              <a:lnSpc>
                <a:spcPct val="11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istinction between non-ionising and ionising radiation is simply one of associated ener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1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9680" indent="-279720">
              <a:lnSpc>
                <a:spcPct val="11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he ionising region of the electromagnetic spectrum, the energy incident upon a material is large enough to remove an electron from an atom orbit to produce ionis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File:Ionisation-1-Na-3D-ionic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645000"/>
            <a:ext cx="55454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Ultraviolet (UV)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V is invisible radiation produced naturally by the sun (solar radiation) and artificially in industry via arcs (e.g. welding) operating at high temper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yes and skin are particularly vulnerab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nburn, blistering of the ski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mature ageing and thickening (keratosis) of the ski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kin ca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junctivit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ection 16 Fig 16-2"/>
          <p:cNvPicPr/>
          <p:nvPr/>
        </p:nvPicPr>
        <p:blipFill>
          <a:blip r:embed="rId1"/>
          <a:stretch/>
        </p:blipFill>
        <p:spPr>
          <a:xfrm>
            <a:off x="5076720" y="1754280"/>
            <a:ext cx="3600720" cy="223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Section 16 Fig 16-3"/>
          <p:cNvPicPr/>
          <p:nvPr/>
        </p:nvPicPr>
        <p:blipFill>
          <a:blip r:embed="rId2"/>
          <a:stretch/>
        </p:blipFill>
        <p:spPr>
          <a:xfrm>
            <a:off x="5076720" y="4100400"/>
            <a:ext cx="3600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frared (IR)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252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 radiation is emitted by hot bodies, e.g. furnaces and gas torc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s primary effect is heating of surface tissu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essive exposure to radiant heat will produce immediate discomfort and therefore a suitable warning of impending damage is provided, usually before burning can occ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McDonald</cp:lastModifiedBy>
  <dcterms:modified xsi:type="dcterms:W3CDTF">2010-10-20T17:02:31Z</dcterms:modified>
  <cp:revision>17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30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