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F0B-9DA2-42EF-939D-3ED50B82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C03-0722-4289-83A7-C997A1E2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BE2-3D5D-44C5-B0E4-84F2878C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BDA-1D4D-48D9-908A-E8078BA9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911-B5D3-4EC7-BAB0-3EF70535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DCD-5608-4493-B7AD-DA179B1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573-53FA-4D22-BA23-DE3816F6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389-1D26-4A98-A023-D110FB22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A1E-7183-437B-BD59-46BE929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F98-0F2A-4290-B822-7E6DEB6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9D8-CDF1-4EF5-B1F1-6203C47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E83-A659-42B1-B377-6BDB0F5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A60-4ED5-4BBB-B75A-5B3B9D1FB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US_Navy_061026-N-7981E-019_Lt._Cmdr._Paul_Treadway%2C_Industrial_Hygene_Officer_and_Assistant_Safety_Officer_of_the_Nimitz-class_aircraft_carrier_USS_Abraham_Lincoln_%28CVN_72%29%2C_uses_a_sound_level_meter_to_demonstrate_the_high_deci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pload.wikimedia.org/wikipedia/commons/a/a0/Pulsar_dosemeter_MODEL67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equency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Octave Band Graph"/>
          <p:cNvPicPr/>
          <p:nvPr/>
        </p:nvPicPr>
        <p:blipFill>
          <a:blip r:embed="rId1"/>
          <a:stretch/>
        </p:blipFill>
        <p:spPr>
          <a:xfrm>
            <a:off x="395280" y="1484280"/>
            <a:ext cx="813744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7597080" y="645264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Castle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cibel Weight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3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human ear is more sensitive to certain frequencies than others, it is possible to make allowances for that in the electronic circuitry of a sound level 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3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frequencies are suppressed whilst others are enhanced in order to approximate to the response of the human 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3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n as weighting and there are A, B, C and D weightings available for various purposes. The one that has been adopted for a workplace spectrum is given in dB(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Decibel Weigh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Section 13 Fig 13-4"/>
          <p:cNvPicPr/>
          <p:nvPr/>
        </p:nvPicPr>
        <p:blipFill>
          <a:blip r:embed="rId1"/>
          <a:stretch/>
        </p:blipFill>
        <p:spPr>
          <a:xfrm>
            <a:off x="2062080" y="1600200"/>
            <a:ext cx="501984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7295760" y="6549480"/>
            <a:ext cx="184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valent Continuous Sound Level (Le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5516640"/>
            <a:ext cx="84358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q can be defined as the steady sound pressure level, which over a period of time has the same energy content and consequently the same hearing damage potential as the actual fluctuating no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ection 13 Fig 13-5"/>
          <p:cNvPicPr/>
          <p:nvPr/>
        </p:nvPicPr>
        <p:blipFill>
          <a:blip r:embed="rId1"/>
          <a:stretch/>
        </p:blipFill>
        <p:spPr>
          <a:xfrm>
            <a:off x="395280" y="2112840"/>
            <a:ext cx="842472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7830000" y="654948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Adrian H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oise D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981000"/>
          <a:ext cx="8229600" cy="5145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per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s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Li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q ) dB(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 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ise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3880" indent="-446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exposure action valu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 daily or weekly personal noise exposure of 80dB (A-weighted) and a peak sound pressure of 135dB (C-weighte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6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per exposure action valu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 daily or weekly personal noise exposure of 85dB (A-weighted) and a peak sound pressure of 137 dB (C-weighte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-446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osure limit valu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 daily or weekly personal noise exposure of 87dB (A-weighted) and a peak sound pressure of 140dB (C-weigh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3880" indent="-4460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USA a more complex set of criteria is used which correlates dose with sound pressure level and time. This is known as a 5 dB doubling concept and is largely discredited outside of the 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ssessment of Workplace N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File:US Navy 061026-N-7981E-019 Lt. Cmdr. Paul Treadway, Industrial Hygene Officer and Assistant Safety Officer of the Nimitz-class aircraft carrier USS Abraham Lincoln (CVN 72), uses a sound level meter to demonstrate the high dec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3243240" cy="45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File:Pulsar dosemeter MODEL6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27480" y="1484280"/>
            <a:ext cx="3194280" cy="4537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4"/>
          <p:cNvSpPr/>
          <p:nvPr/>
        </p:nvSpPr>
        <p:spPr>
          <a:xfrm>
            <a:off x="7323840" y="654948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Wik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684360" y="6048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ise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076720" y="607644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ise Dosi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lose this window"/>
          <p:cNvPicPr/>
          <p:nvPr/>
        </p:nvPicPr>
        <p:blipFill>
          <a:blip r:embed="rId1"/>
          <a:stretch/>
        </p:blipFill>
        <p:spPr>
          <a:xfrm>
            <a:off x="2182680" y="0"/>
            <a:ext cx="46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Control of Workplace No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of noise at source - best achieved at the design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losure of noisy equipment - although heat dissipation and access for maintenance can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eening of noisy equipment from the worker and/or increased separation of the worker from the noise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sorption of sound by the cladding of appropriate surfaces with sound absorbent material where reverberation can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ection of Personnel at 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Noise Refuges in designated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ation of the Work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Personal Hearing Protection Devices, e.g. ear muffs, ear plug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ile:Disposable foam earplugs.jpg"/>
          <p:cNvPicPr/>
          <p:nvPr/>
        </p:nvPicPr>
        <p:blipFill>
          <a:blip r:embed="rId1"/>
          <a:stretch/>
        </p:blipFill>
        <p:spPr>
          <a:xfrm>
            <a:off x="2411280" y="3213000"/>
            <a:ext cx="1408320" cy="31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ile:Ear muff white bg.jpg"/>
          <p:cNvPicPr/>
          <p:nvPr/>
        </p:nvPicPr>
        <p:blipFill>
          <a:blip r:embed="rId2"/>
          <a:stretch/>
        </p:blipFill>
        <p:spPr>
          <a:xfrm>
            <a:off x="4427640" y="3284640"/>
            <a:ext cx="3276360" cy="2187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7323840" y="6549480"/>
            <a:ext cx="18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Wik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13 - N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is unwanted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n for many years as a cause of hearing loss in indus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is the sensation that is perceived by the human or animal brain as a result of longitudinal vibrations of molecules of the air impinging on the 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s are actually pressure waves caused by a vibrating body, which radiate from the sour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ection 13 Fig 13-1"/>
          <p:cNvPicPr/>
          <p:nvPr/>
        </p:nvPicPr>
        <p:blipFill>
          <a:blip r:embed="rId1"/>
          <a:stretch/>
        </p:blipFill>
        <p:spPr>
          <a:xfrm>
            <a:off x="900000" y="206280"/>
            <a:ext cx="7488360" cy="5621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6588000" y="6237360"/>
            <a:ext cx="936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chl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700360" y="6237360"/>
            <a:ext cx="1187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ternal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148360" y="6237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ddle Ear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556000" y="3860640"/>
            <a:ext cx="2160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771640" y="4005360"/>
            <a:ext cx="3456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4788000" y="4724280"/>
            <a:ext cx="34560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6156360" y="3933720"/>
            <a:ext cx="0" cy="2735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V="1">
            <a:off x="5076720" y="3573000"/>
            <a:ext cx="0" cy="3024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3708360" y="620640"/>
            <a:ext cx="5111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516720" y="83664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3924360" y="836640"/>
            <a:ext cx="15112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7451640" y="2924280"/>
            <a:ext cx="1368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7236000" y="3213000"/>
            <a:ext cx="1800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6948360" y="3573360"/>
            <a:ext cx="136872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-181080" y="6452280"/>
            <a:ext cx="261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udible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key features of sound a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ens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of pressure waves/vibrations per second is known as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nd is expressed in the unit Hertz (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re fluctuations per second the higher the pitch of the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ens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) we mean the amplitude (size) of the pressure waves and is defined as the average amount of energy passing through a unit area in unit time (W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bels, Pascals Watts/metr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Section 13 Fig 13-2"/>
          <p:cNvPicPr/>
          <p:nvPr/>
        </p:nvPicPr>
        <p:blipFill>
          <a:blip r:embed="rId1"/>
          <a:stretch/>
        </p:blipFill>
        <p:spPr>
          <a:xfrm>
            <a:off x="1725480" y="981000"/>
            <a:ext cx="5799240" cy="5612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0" y="6452280"/>
            <a:ext cx="46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anadian Centre for Occupational Health and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ealth Effects of Excessive N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ise Induced Hearing Loss (NIHL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umulative effect from repeated exposure and it is due to damage to the hair cells of the cochlea in the inner 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nni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Noise heard in the ear without external cause, frequently accompanies deaf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mporary Threshold Shift (TT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Damage to the hair cells of the inner ear which can impair hearing temporarily, resulting from exposure to high noise leve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ysical dam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eardrum and ossicles induced by excessively high noises e.g. explo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noyance/stress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hich is difficult to measure and quantify, but may cause psychological effects such as poor concentration, irritability and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dition of Sound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224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wo sounds are being emitted at the same time their total combined intensity is not the numerical sum of the decibel levels of each s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-224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ccurate calculations they must be added as logarithms – usually using a calcul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-224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ernatively a reasonable approximation of additions of decibel levels can b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71640" y="3789360"/>
          <a:ext cx="7715160" cy="259092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in dB (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o the High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or 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or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o 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or mo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ddition of Sound Lev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70792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ing of the Pressure increases noise levels by 3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ection 13 Fig 13-3"/>
          <p:cNvPicPr/>
          <p:nvPr/>
        </p:nvPicPr>
        <p:blipFill>
          <a:blip r:embed="rId1"/>
          <a:stretch/>
        </p:blipFill>
        <p:spPr>
          <a:xfrm>
            <a:off x="468360" y="4129200"/>
            <a:ext cx="820908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6:55:34Z</dcterms:modified>
  <cp:revision>18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2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