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2.wmf" ContentType="image/x-wmf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AADE-FD54-4D20-B443-9CAF59E2A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B686-2CA8-4DE1-8298-37A52C7BB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0C2A-33F2-41EE-89BB-50817DAD0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E44F-5203-4039-A2A0-2778C3467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A93A-E8EF-497F-B3C9-068BA0D11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24D6-7AB2-409C-8528-4ABE0C8F4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3AA-17C5-45D1-9729-65643252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E20E-A1B7-44CD-A04A-FED85607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F2F5-30C8-4AD1-9B99-EFD1FDC3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EBDA-D63D-490F-87D0-46E5DB50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B11-9A46-4D0B-A300-80B8012D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D69C-81D6-4467-98B6-D358E438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6508-F0FD-4A12-A4A5-0EEE3E23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B8C0-769D-4489-82A6-69C6719B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EC93-6FA6-4443-BEFC-0BD43748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16ED-72BF-453A-A01C-8433D6C4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81D-9A19-4954-8383-7138E000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B7A-3F61-4FB3-B7A3-4B650971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8EDF-BDCF-4D45-BD0D-B31F097B8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ASIC PRINCIPLES IN OCCUPATIONAL HYG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Properties of Asbest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re resi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echanical str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hemical resi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mal insul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Uses of Asbe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5" descr="File0008"/>
          <p:cNvPicPr/>
          <p:nvPr/>
        </p:nvPicPr>
        <p:blipFill>
          <a:blip r:embed="rId1"/>
          <a:stretch/>
        </p:blipFill>
        <p:spPr>
          <a:xfrm>
            <a:off x="971640" y="981000"/>
            <a:ext cx="2943000" cy="302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7" descr="File0012"/>
          <p:cNvPicPr/>
          <p:nvPr/>
        </p:nvPicPr>
        <p:blipFill>
          <a:blip r:embed="rId2"/>
          <a:stretch/>
        </p:blipFill>
        <p:spPr>
          <a:xfrm>
            <a:off x="0" y="981000"/>
            <a:ext cx="2197080" cy="211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8" descr="File0007"/>
          <p:cNvPicPr/>
          <p:nvPr/>
        </p:nvPicPr>
        <p:blipFill>
          <a:blip r:embed="rId3"/>
          <a:stretch/>
        </p:blipFill>
        <p:spPr>
          <a:xfrm>
            <a:off x="3851280" y="981000"/>
            <a:ext cx="2381400" cy="2259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9" descr="File0009"/>
          <p:cNvPicPr/>
          <p:nvPr/>
        </p:nvPicPr>
        <p:blipFill>
          <a:blip r:embed="rId4"/>
          <a:stretch/>
        </p:blipFill>
        <p:spPr>
          <a:xfrm>
            <a:off x="3851280" y="2544840"/>
            <a:ext cx="2381400" cy="2354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0" descr="File0014"/>
          <p:cNvPicPr/>
          <p:nvPr/>
        </p:nvPicPr>
        <p:blipFill>
          <a:blip r:embed="rId5"/>
          <a:stretch/>
        </p:blipFill>
        <p:spPr>
          <a:xfrm>
            <a:off x="0" y="2565360"/>
            <a:ext cx="1952640" cy="1989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1" descr="File0021"/>
          <p:cNvPicPr/>
          <p:nvPr/>
        </p:nvPicPr>
        <p:blipFill>
          <a:blip r:embed="rId6"/>
          <a:stretch/>
        </p:blipFill>
        <p:spPr>
          <a:xfrm>
            <a:off x="3851280" y="4937040"/>
            <a:ext cx="2381400" cy="1920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2" descr="File0017"/>
          <p:cNvPicPr/>
          <p:nvPr/>
        </p:nvPicPr>
        <p:blipFill>
          <a:blip r:embed="rId7"/>
          <a:stretch/>
        </p:blipFill>
        <p:spPr>
          <a:xfrm>
            <a:off x="6227640" y="981000"/>
            <a:ext cx="2916360" cy="286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3" descr="File0004"/>
          <p:cNvPicPr/>
          <p:nvPr/>
        </p:nvPicPr>
        <p:blipFill>
          <a:blip r:embed="rId8"/>
          <a:stretch/>
        </p:blipFill>
        <p:spPr>
          <a:xfrm>
            <a:off x="6202440" y="3860640"/>
            <a:ext cx="2941560" cy="29973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4"/>
          <p:cNvSpPr/>
          <p:nvPr/>
        </p:nvSpPr>
        <p:spPr>
          <a:xfrm>
            <a:off x="7812000" y="6524640"/>
            <a:ext cx="1332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H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5"/>
          <p:cNvSpPr/>
          <p:nvPr/>
        </p:nvSpPr>
        <p:spPr>
          <a:xfrm>
            <a:off x="7380360" y="3429000"/>
            <a:ext cx="1332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re Blan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6"/>
          <p:cNvSpPr/>
          <p:nvPr/>
        </p:nvSpPr>
        <p:spPr>
          <a:xfrm>
            <a:off x="4284720" y="4581360"/>
            <a:ext cx="1332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eiling T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7"/>
          <p:cNvSpPr/>
          <p:nvPr/>
        </p:nvSpPr>
        <p:spPr>
          <a:xfrm>
            <a:off x="4284720" y="2205000"/>
            <a:ext cx="1332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f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8"/>
          <p:cNvSpPr/>
          <p:nvPr/>
        </p:nvSpPr>
        <p:spPr>
          <a:xfrm>
            <a:off x="1258920" y="1052640"/>
            <a:ext cx="187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ipe Ins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9"/>
          <p:cNvSpPr/>
          <p:nvPr/>
        </p:nvSpPr>
        <p:spPr>
          <a:xfrm>
            <a:off x="4067280" y="6524640"/>
            <a:ext cx="187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0"/>
          <p:cNvSpPr/>
          <p:nvPr/>
        </p:nvSpPr>
        <p:spPr>
          <a:xfrm>
            <a:off x="0" y="3573360"/>
            <a:ext cx="187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1"/>
          <p:cNvSpPr/>
          <p:nvPr/>
        </p:nvSpPr>
        <p:spPr>
          <a:xfrm>
            <a:off x="7270920" y="4292640"/>
            <a:ext cx="187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ement She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2" descr="File0022"/>
          <p:cNvPicPr/>
          <p:nvPr/>
        </p:nvPicPr>
        <p:blipFill>
          <a:blip r:embed="rId9"/>
          <a:stretch/>
        </p:blipFill>
        <p:spPr>
          <a:xfrm>
            <a:off x="0" y="4016520"/>
            <a:ext cx="3855960" cy="28414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3"/>
          <p:cNvSpPr/>
          <p:nvPr/>
        </p:nvSpPr>
        <p:spPr>
          <a:xfrm>
            <a:off x="1042920" y="4076640"/>
            <a:ext cx="1873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as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Uses of Asbes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620640"/>
          <a:ext cx="8229600" cy="5827680"/>
        </p:xfrm>
        <a:graphic>
          <a:graphicData uri="http://schemas.openxmlformats.org/drawingml/2006/table">
            <a:tbl>
              <a:tblPr/>
              <a:tblGrid>
                <a:gridCol w="4330800"/>
                <a:gridCol w="2232000"/>
                <a:gridCol w="1666800"/>
              </a:tblGrid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Asbestos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x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 (%)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ment Materials e.g. corrugated sheets, water tanks, pipes, prefabricated building compon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ysotile (occasionally incorporating Crocidolite or Amosite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- 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e-resistant Insulating 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site (occasionally incorporating chrysotile or crocidoli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- 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mal, insulation, lagging, incl. pipe and vessel insulation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site, chrysot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crocidoli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5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ayed coatings e.g. applied to structural beams and ceilings as fire protection/and/or acoustic and thermal insul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site, chrysot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crocidoli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- 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iles e.g. heat resistant gloves, fire-blankets, fire-protective clothing &amp; insulation mattress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ysotile (occasionally Crocidolite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- 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ings &amp; pack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g. gasket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ysotile (occasionally Crocidolite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- 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ction materials e.g. automotive brake &amp; clutch lining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ysoti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- 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or til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ysoti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- 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er &amp; Reinforcements e.g. in felts, millboards, papers, underseals, mastics, adhesiv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ysotile (occasionally Crocidolite for some application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nforced thermo-setting plastics &amp; battery cas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ysotile, crocidol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amosi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- 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Airborne Asbestos Fib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824360"/>
        </p:xfrm>
        <a:graphic>
          <a:graphicData uri="http://schemas.openxmlformats.org/drawingml/2006/table">
            <a:tbl>
              <a:tblPr/>
              <a:tblGrid>
                <a:gridCol w="6562800"/>
                <a:gridCol w="1666800"/>
              </a:tblGrid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ml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 removal of lagg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to 10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lling of asbestos insulation boar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to 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sawing of asbestos insulation boar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to 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lling of asbestos c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to 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sawing of asbestos c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to 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of a circular saw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to 2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Asbestos Regist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341280">
              <a:lnSpc>
                <a:spcPct val="15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rd the use/presence of all asbestos and asbestos-containing materials at work sit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5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rd the location of all asbestos materials on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5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that the condition of asbestos-containing materials are frequently inspected and any necessary remedial action is instig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5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that any work with asbestos or asbestos-containing materials is carried out in an approved man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5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mise the acquisition and use of materials or equipment, which may contain asbe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959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MEDIAL TREATMENT OF ASBESTOS</a:t>
            </a:r>
            <a:br>
              <a:rPr sz="3200"/>
            </a:b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REM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18608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maged and friable, i.e. in an easily crumbled condition, thereby having a potential for releasing airborne fi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cted to deteriorate in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it is likely that they will be disturbed during maintenance, construction or demol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File0001"/>
          <p:cNvPicPr/>
          <p:nvPr/>
        </p:nvPicPr>
        <p:blipFill>
          <a:blip r:embed="rId1"/>
          <a:stretch/>
        </p:blipFill>
        <p:spPr>
          <a:xfrm>
            <a:off x="5003640" y="1700280"/>
            <a:ext cx="3762360" cy="3860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592200" y="2060640"/>
            <a:ext cx="41241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bestos-containing materials should be removed if they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252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apping the outer surface with, for example, canvas or alumin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252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ling with an encapsulant that seals the fibres togeth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MEDIAL TREATMENT OF ASBESTOS</a:t>
            </a:r>
            <a:br>
              <a:rPr sz="900"/>
            </a:br>
            <a:r>
              <a:rPr b="1" lang="en-GB" sz="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EPAIR / ENCAPS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11 - ASBEST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sbe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Section 11 Fig 11-1"/>
          <p:cNvPicPr/>
          <p:nvPr/>
        </p:nvPicPr>
        <p:blipFill>
          <a:blip r:embed="rId1"/>
          <a:stretch/>
        </p:blipFill>
        <p:spPr>
          <a:xfrm>
            <a:off x="826920" y="1414440"/>
            <a:ext cx="3922920" cy="43196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4932360" y="2421000"/>
            <a:ext cx="3960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vil effects of asbestos dust” … “sharp, glass-like, jagged nature of the particles … effects have been found to be injuriou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hief Factory Inspectors Report UK (189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Types of Asbest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Section 11 Fig 11-2"/>
          <p:cNvPicPr/>
          <p:nvPr/>
        </p:nvPicPr>
        <p:blipFill>
          <a:blip r:embed="rId1"/>
          <a:stretch/>
        </p:blipFill>
        <p:spPr>
          <a:xfrm>
            <a:off x="2171880" y="1671480"/>
            <a:ext cx="48006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is Asbest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aturally occurring, mined, fibrous silicate mineral with various compositions &amp;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extensively as a heat insulator &amp; fire resistant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erous different forms. Present as sheet; board; rope; or mixed with pl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sbestos M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ak_mine2"/>
          <p:cNvPicPr/>
          <p:nvPr/>
        </p:nvPicPr>
        <p:blipFill>
          <a:blip r:embed="rId1"/>
          <a:stretch/>
        </p:blipFill>
        <p:spPr>
          <a:xfrm>
            <a:off x="468360" y="1557360"/>
            <a:ext cx="3816360" cy="2589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mine"/>
          <p:cNvPicPr/>
          <p:nvPr/>
        </p:nvPicPr>
        <p:blipFill>
          <a:blip r:embed="rId2"/>
          <a:stretch/>
        </p:blipFill>
        <p:spPr>
          <a:xfrm>
            <a:off x="4716360" y="3213000"/>
            <a:ext cx="38847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ined Asb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uesc_01_img0053"/>
          <p:cNvPicPr/>
          <p:nvPr/>
        </p:nvPicPr>
        <p:blipFill>
          <a:blip r:embed="rId1"/>
          <a:stretch/>
        </p:blipFill>
        <p:spPr>
          <a:xfrm>
            <a:off x="5796000" y="1600200"/>
            <a:ext cx="2879640" cy="2251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vermiculite_ore"/>
          <p:cNvPicPr/>
          <p:nvPr/>
        </p:nvPicPr>
        <p:blipFill>
          <a:blip r:embed="rId2"/>
          <a:stretch/>
        </p:blipFill>
        <p:spPr>
          <a:xfrm>
            <a:off x="5796000" y="3960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Asbestos2USGOV"/>
          <p:cNvPicPr/>
          <p:nvPr/>
        </p:nvPicPr>
        <p:blipFill>
          <a:blip r:embed="rId3"/>
          <a:stretch/>
        </p:blipFill>
        <p:spPr>
          <a:xfrm>
            <a:off x="720720" y="2544840"/>
            <a:ext cx="45720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are Fib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ng &amp; thin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ed by their aspect ratio [width: length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be man made, mineral, animal, ve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bestos is a fibre but not all fibres are asbestos [E.g.. Mineral wool, cotton, wool, carbon fibres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j0300253"/>
          <p:cNvPicPr/>
          <p:nvPr/>
        </p:nvPicPr>
        <p:blipFill>
          <a:blip r:embed="rId1"/>
          <a:stretch/>
        </p:blipFill>
        <p:spPr>
          <a:xfrm>
            <a:off x="6473880" y="4954680"/>
            <a:ext cx="1797120" cy="1484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j0345838"/>
          <p:cNvPicPr/>
          <p:nvPr/>
        </p:nvPicPr>
        <p:blipFill>
          <a:blip r:embed="rId2"/>
          <a:stretch/>
        </p:blipFill>
        <p:spPr>
          <a:xfrm>
            <a:off x="755640" y="4754520"/>
            <a:ext cx="1782720" cy="16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09600" y="515880"/>
            <a:ext cx="8296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WHO fi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741240" y="327168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741240" y="358920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741240" y="3905280"/>
            <a:ext cx="5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1774800" y="2416320"/>
            <a:ext cx="3819600" cy="1589040"/>
          </a:xfrm>
          <a:prstGeom prst="rect">
            <a:avLst/>
          </a:prstGeom>
          <a:ln w="0">
            <a:noFill/>
          </a:ln>
        </p:spPr>
      </p:pic>
      <p:sp>
        <p:nvSpPr>
          <p:cNvPr id="75" name="Line 7"/>
          <p:cNvSpPr/>
          <p:nvPr/>
        </p:nvSpPr>
        <p:spPr>
          <a:xfrm flipV="1">
            <a:off x="2178000" y="2841120"/>
            <a:ext cx="3430800" cy="12891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>
            <a:off x="5554800" y="2324160"/>
            <a:ext cx="179280" cy="3333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 rot="20527200">
            <a:off x="3583080" y="3338280"/>
            <a:ext cx="13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  &gt; 5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721480" y="2270160"/>
            <a:ext cx="15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 &lt; 3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5076720" y="4292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/D (aspect ratio) &gt; 3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514440" y="25146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O fibre as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571680" y="3619440"/>
            <a:ext cx="1080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2730600" y="361944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3683160" y="3619440"/>
            <a:ext cx="1080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4780080" y="361944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6305400" y="3619440"/>
            <a:ext cx="129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8620200" y="361944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785880" y="5081760"/>
            <a:ext cx="78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bres up to 100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 long have been found in the deep 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17:15Z</dcterms:created>
  <dc:creator> Dr. Adrian A. Hirst</dc:creator>
  <dc:description/>
  <dc:language>en-US</dc:language>
  <cp:lastModifiedBy>McDonald</cp:lastModifiedBy>
  <dcterms:modified xsi:type="dcterms:W3CDTF">2010-10-20T16:53:33Z</dcterms:modified>
  <cp:revision>20</cp:revision>
  <dc:subject/>
  <dc:title>BASIC PRINCIPLES IN OCCUPATIONAL HYGIE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4720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