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1F1-8049-413B-A489-D1B6268F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3F4-B9C6-47A7-BD79-D64D3975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8F09-E481-481C-AE99-0895E89A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8EC9-3515-47C9-9008-4661FE54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743-72A5-4307-B1CB-3F35EBEE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191-6266-4F00-8E02-07BE09E0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C7C-D020-444B-9FE6-40FEDFF9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7838-5522-49E8-91FB-86FA338A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478-8DEF-4F18-A9CC-D3325B1C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370-70D0-494C-806B-4D5E180F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07D-0C95-4F07-885D-8BAD1490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EBD-C15D-4254-B5D6-88BCCC17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5834-C8A5-4C6F-8A5A-331111C2A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ASIC PRINCIPLES IN OCCUPATIONAL 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9 - GENERAL APPROACHES TOP THE CONTROL OF HEALTH RI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ypes of Control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Section 9 Fig 9-1"/>
          <p:cNvPicPr/>
          <p:nvPr/>
        </p:nvPicPr>
        <p:blipFill>
          <a:blip r:embed="rId1"/>
          <a:stretch/>
        </p:blipFill>
        <p:spPr>
          <a:xfrm>
            <a:off x="2852640" y="2405160"/>
            <a:ext cx="34387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ENERAL APPROACHES TOP THE CONTROL OF HEALTH RI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limination/Substit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st effective form of prevention control is simply to either eliminate the use of the hazardous agent, or the actual process in which it is u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ENERAL APPROACHES TOP THE CONTROL OF HEALTH RI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ver possible processes or operations, which involve some risk(s) to health, should be completely enclosed, with the operator(s) outside the enclo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zardous processes or operations etc. can be segregated from lower risk ones by placing them, for example, at the far end of a workshop, in a separate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Glove box"/>
          <p:cNvPicPr/>
          <p:nvPr/>
        </p:nvPicPr>
        <p:blipFill>
          <a:blip r:embed="rId1"/>
          <a:stretch/>
        </p:blipFill>
        <p:spPr>
          <a:xfrm>
            <a:off x="5946840" y="2060640"/>
            <a:ext cx="28018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ENERAL APPROACHES TOP THE CONTROL OF HEALTH RI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ineering Controls – Vent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es capable of producing exposures to hazardous substances only, are commonly controlled by the provision of mechanical air handling 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cal Exhaust Ventilation (L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ral / Dilution Venti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ENERAL APPROACHES TOP THE CONTROL OF HEALTH RI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ministrative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nistrative controls relate to how the interaction between personnel and the process/operation are organ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ood housekeeping is particularly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formation, Instruction an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Education of employees on any health hazards in the workplace and the importance of correctly using all the control measures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PE is normally considered to be the last res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17:15Z</dcterms:created>
  <dc:creator> Dr. Adrian A. Hirst</dc:creator>
  <dc:description/>
  <dc:language>en-US</dc:language>
  <cp:lastModifiedBy>McDonald</cp:lastModifiedBy>
  <dcterms:modified xsi:type="dcterms:W3CDTF">2010-10-20T16:45:53Z</dcterms:modified>
  <cp:revision>16</cp:revision>
  <dc:subject/>
  <dc:title>BASIC PRINCIPLES IN OCCUPATIONAL HYGIE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4714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