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B85-62E3-44A7-B250-6CBE2E5A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5E2-6E99-41A1-B953-15AB6638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65B-CD37-46D7-85CD-382F7660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D82-3A64-4A61-B72B-ABCAE7AA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AB5-A51E-46B6-93C1-B1913E6C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E15-E22D-425B-95A6-14A36A95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C16-2673-41F7-ABF6-D28C6E30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752-0CE4-497F-B307-91C2FEB6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045-6162-437F-9F8C-C0E8CBA9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41A-9870-42C9-B2FA-C41805CC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7E1-C2FE-4739-B096-E3E541A1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080-96F9-41AF-AA08-FFB39DD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EE5E-E5E2-4A73-A6B0-8EE28CABC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SIC PRINCIPLES IN OCCUPATIONAL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 - BIOLOGICAL MONITORING AND HEALTH SURVEILLA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IOLOGICAL MONITORING AND HEALTH SURVEILLA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experience t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IOLOGICAL MONITORING AND HEALTH SURVEILLA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ealth Surveill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 generic term: any procedure undertaken to assess, review or monitor an individual’s health in order to identify or detect any significant change from normal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three reasons for health surveillance at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nsure adverse health effects related to the work are identified at an early stage; sometimes this is statutory, e.g. in relation to work with l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nsure continued medical fitness for specific tasks like diving or fire f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romote general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IOLOGICAL MONITORING AND HEALTH SURVEILLA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urveillance techniques should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ly sensi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 their ability to detect effects at an early and reversible st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ferably non-invasive and acceptable to the employ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is also a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 of health surveillance should lead to some action of benefit to the health of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IOLOGICAL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6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logical monitoring is an integral part of health surveillance and is the measurement of human tissues, fluids or behaviour in comparison with what is considered to be a normal range of val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520" indent="-2397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cal confidentiality app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520" indent="-2397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establish not only exposure but also its effect on an individual or group of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52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logical measurements can determin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520" indent="-2397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tent of a toxic material or its metabolite in blood, urine and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520" indent="-2397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s effects on enzyme systems or metabolic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520" indent="-2397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reversible tissu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520" indent="-2397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ological changes Immunological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ypes of Measure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 (exfoliate cytology) - bladder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 of toxin e.g. merc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 of metabolite eg TCA (tricarboxylic ac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ein (especially kidney da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le (jaun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ar (diabetes) - relevant to shift work, public service vehicle (PSV) dr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blood count and haemoglobin - lead, benzene, alcohol, work in the tr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um (deep frozen) - baseline antibody levels in pathogen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ver function tests - alcohol, hepatotoxic chemic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al function tests - kidney tox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xin levels - e.g.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abolite levels - e.g. 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ypes of Measure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ea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ck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hloromethane and carbon monoxide expo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uity tests e.g. lorry drivers, pilots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ur blindness tests e.g. civil aviation, railways, micros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ypes of Measure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st x-rays are useful for conditions such as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neumoconiosis chest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urological test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al func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rve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writing tests (detects early trem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di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owest intensity of he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ung func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ng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rways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McDonald</cp:lastModifiedBy>
  <dcterms:modified xsi:type="dcterms:W3CDTF">2010-10-19T21:32:17Z</dcterms:modified>
  <cp:revision>16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12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