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wmf" ContentType="image/x-wmf"/>
  <Override PartName="/ppt/media/image10.png" ContentType="image/pn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781C-0070-4FD0-A466-68F0A2756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0EA0-017B-4EC2-903C-E635D9918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9072-B933-4E08-87E9-705D15B6D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CF08-F6C3-499C-A9F7-3EF9CE4C7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2867-935B-4742-84F5-2CEBBB14E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1C6A-7BAF-4C12-AFCF-EB186E444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4E5B-EF98-49A9-A54F-D74CDFB62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3BD1-0CD4-4527-A21F-FAE9A5D27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3ACB-D0A1-4313-8B39-2E10A471E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F877-57B6-45F2-9B82-F14B8E16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28EE-0C79-4659-8940-573AA599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6D23-BD52-41BC-BBC8-64318A93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13C0A-BFC6-4185-BB05-C4270CDB3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ASIC PRINCIPLES IN OCCUPATIONAL HYGIE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y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Workplace Monito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80000"/>
              </a:lnSpc>
              <a:spcBef>
                <a:spcPts val="4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may be necessary to obtain some monitoring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im is to assist in ensuring the health protection of 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5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mpling strategy adopted should be appropriate to the reason for the type of survey to be conducted.</a:t>
            </a: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dentify 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4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re the assessment indicates a risk to health, it is necessary to specify the steps to be taken to achieve effective control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4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is an important, integral part of the assessment, which is NOT deemed to have been completed without this aspect being addres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Record The Assess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monstrates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lps with the assessment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lps drive the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lps the review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arry Out 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3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important to ensure that recommendations from any assessment are implemented proper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3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assessments fail to control exposure because the actions are not implemen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Review The Assess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47040" indent="-347040">
              <a:lnSpc>
                <a:spcPct val="105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initial assessment should not be regarded as being relevant forever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040" indent="-347040">
              <a:lnSpc>
                <a:spcPct val="105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iodic re-assessments should be undertaken regularly and in any event whenever it is suspected that the assessment is no longer vali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193320">
              <a:lnSpc>
                <a:spcPct val="105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gnificant change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165960"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substances/agents involved and/or their sourc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165960"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plant, e.g. modified engineering contro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165960"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process or method of w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165960"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volume or rate of produ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193320">
              <a:lnSpc>
                <a:spcPct val="105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verse results fro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165960"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ersonal exposure monitor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165960"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lth surveillance monitoring (e.g. eudiometry, biological monitoring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165960"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onitoring of process control (e.g. fugitive emission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193320">
              <a:lnSpc>
                <a:spcPct val="105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ses of occupational dise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193320">
              <a:lnSpc>
                <a:spcPct val="105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w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pert Systems and Control B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are a number of expert systems which have been developed to assist employers in undertaking health risk assessm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systems all use an approach called “Control Banding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rol banding involves the following ste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01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zard Classifi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01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ssment of exposure potenti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01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lection of control approa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ILO Toolkit – </a:t>
            </a:r>
            <a:br>
              <a:rPr sz="28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 example of control banding appro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ILO"/>
          <p:cNvPicPr/>
          <p:nvPr/>
        </p:nvPicPr>
        <p:blipFill>
          <a:blip r:embed="rId1"/>
          <a:stretch/>
        </p:blipFill>
        <p:spPr>
          <a:xfrm>
            <a:off x="179280" y="1700280"/>
            <a:ext cx="878544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6" descr="COSHH"/>
          <p:cNvPicPr/>
          <p:nvPr/>
        </p:nvPicPr>
        <p:blipFill>
          <a:blip r:embed="rId1"/>
          <a:stretch/>
        </p:blipFill>
        <p:spPr>
          <a:xfrm>
            <a:off x="396720" y="1436760"/>
            <a:ext cx="8496360" cy="516096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9"/>
          <p:cNvSpPr/>
          <p:nvPr/>
        </p:nvSpPr>
        <p:spPr>
          <a:xfrm>
            <a:off x="446040" y="260280"/>
            <a:ext cx="8229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ILO Toolkit – </a:t>
            </a:r>
            <a:br>
              <a:rPr sz="28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 example of control banding appro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5003640" y="1125360"/>
            <a:ext cx="396108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xample of COSHH Essentials Control Approach Shee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Object 5"/>
          <p:cNvGraphicFramePr/>
          <p:nvPr/>
        </p:nvGraphicFramePr>
        <p:xfrm>
          <a:off x="0" y="0"/>
          <a:ext cx="48466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8466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RISK ASSESS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5 - ASSESSMENT OF HEALTH RI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4"/>
          <p:cNvGrpSpPr/>
          <p:nvPr/>
        </p:nvGrpSpPr>
        <p:grpSpPr>
          <a:xfrm>
            <a:off x="539640" y="-674640"/>
            <a:ext cx="8172360" cy="6857640"/>
            <a:chOff x="539640" y="-674640"/>
            <a:chExt cx="8172360" cy="6857640"/>
          </a:xfrm>
        </p:grpSpPr>
        <p:sp>
          <p:nvSpPr>
            <p:cNvPr id="83" name="Text Box 5"/>
            <p:cNvSpPr/>
            <p:nvPr/>
          </p:nvSpPr>
          <p:spPr>
            <a:xfrm>
              <a:off x="647640" y="-674640"/>
              <a:ext cx="183960" cy="7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Picture 6" descr="0408044_41"/>
            <p:cNvPicPr/>
            <p:nvPr/>
          </p:nvPicPr>
          <p:blipFill>
            <a:blip r:embed="rId1"/>
            <a:stretch/>
          </p:blipFill>
          <p:spPr>
            <a:xfrm>
              <a:off x="539640" y="311760"/>
              <a:ext cx="8172360" cy="5871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Text Box 7"/>
          <p:cNvSpPr/>
          <p:nvPr/>
        </p:nvSpPr>
        <p:spPr>
          <a:xfrm>
            <a:off x="1258920" y="623736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int Spra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Farmer&amp;MartinDale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55944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0"/>
          <p:cNvSpPr/>
          <p:nvPr/>
        </p:nvSpPr>
        <p:spPr>
          <a:xfrm>
            <a:off x="1258920" y="623736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ain Sack Fi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Disc cutting jet"/>
          <p:cNvPicPr/>
          <p:nvPr/>
        </p:nvPicPr>
        <p:blipFill>
          <a:blip r:embed="rId1"/>
          <a:stretch/>
        </p:blipFill>
        <p:spPr>
          <a:xfrm>
            <a:off x="1476360" y="620640"/>
            <a:ext cx="6337440" cy="50068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7"/>
          <p:cNvSpPr/>
          <p:nvPr/>
        </p:nvSpPr>
        <p:spPr>
          <a:xfrm>
            <a:off x="1258920" y="623736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one Cu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067"/>
          <p:cNvPicPr/>
          <p:nvPr/>
        </p:nvPicPr>
        <p:blipFill>
          <a:blip r:embed="rId1"/>
          <a:stretch/>
        </p:blipFill>
        <p:spPr>
          <a:xfrm>
            <a:off x="2700360" y="333360"/>
            <a:ext cx="3892680" cy="59054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7"/>
          <p:cNvSpPr/>
          <p:nvPr/>
        </p:nvSpPr>
        <p:spPr>
          <a:xfrm>
            <a:off x="1258920" y="623736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ck Empt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KAC Alarm Company Limited 009"/>
          <p:cNvPicPr/>
          <p:nvPr/>
        </p:nvPicPr>
        <p:blipFill>
          <a:blip r:embed="rId1"/>
          <a:stretch/>
        </p:blipFill>
        <p:spPr>
          <a:xfrm>
            <a:off x="5003640" y="0"/>
            <a:ext cx="4140360" cy="5029200"/>
          </a:xfrm>
          <a:prstGeom prst="rect">
            <a:avLst/>
          </a:prstGeom>
          <a:ln w="0">
            <a:noFill/>
          </a:ln>
        </p:spPr>
      </p:pic>
      <p:pic>
        <p:nvPicPr>
          <p:cNvPr id="96" name="Point 2.avi" descr=""/>
          <p:cNvPicPr/>
          <p:nvPr/>
        </p:nvPicPr>
        <p:blipFill>
          <a:blip r:embed="rId2"/>
          <a:stretch/>
        </p:blipFill>
        <p:spPr>
          <a:xfrm>
            <a:off x="0" y="3132000"/>
            <a:ext cx="5003640" cy="3753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KAC Alarm Company Limited 001"/>
          <p:cNvPicPr/>
          <p:nvPr/>
        </p:nvPicPr>
        <p:blipFill>
          <a:blip r:embed="rId3"/>
          <a:stretch/>
        </p:blipFill>
        <p:spPr>
          <a:xfrm>
            <a:off x="0" y="0"/>
            <a:ext cx="5029200" cy="37720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5364000" y="5661000"/>
            <a:ext cx="37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ld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5800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Hazard and Ris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hazard is something that can cause harm if not controll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utcome is the harm that results from an uncontrolled hazar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isk is a combination of the probability that a particular outcome will occur and the severity of the harm involv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ASSESSMENT OF HEALTH RI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imary reason for conducting a workplace assessment is to assess the risk(s) to the health of employe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re a less than satisfactory situation is indicated there will be an additional require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specify steps to achieve adequate contr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identify any other action that is requ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5 - ASSESSMENT OF HEALTH RI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Section 5 Fig 5-1"/>
          <p:cNvPicPr/>
          <p:nvPr/>
        </p:nvPicPr>
        <p:blipFill>
          <a:blip r:embed="rId1"/>
          <a:stretch/>
        </p:blipFill>
        <p:spPr>
          <a:xfrm>
            <a:off x="2840040" y="1844640"/>
            <a:ext cx="35323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efine the Extent of the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fine the process or activity which is being asses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essment Un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1972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1972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1972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1972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b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1972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c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umber and Type of Haz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1972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zardous Sub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1972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1972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ib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1972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fe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Ga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ature of the process or operation, e.g. continuous or batch, indoor or outdo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ubstances used and produced (chemical, biological) plus other agents (noise, radiation) and factors (ergonomic) present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form of the substances (gases, vapours etc.) and other 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understanding of the effect(s) of the relevant agents/factors (chemical, physical, biological, ergonomic) on the 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knowledge of the types of job carried out (e.g. operator, maintenance, supervisory, labora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posure estim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types and extent of occupational exposu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Gather Inform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3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440" indent="-3434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k/shift patte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440" indent="-3434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recommended operating practices and precautionary measures (incl. engineering contro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440" indent="-3434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ker health experi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440" indent="-3434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xistence of inventories/registers of substances, non‑chemical agents (e.g. noise and radiation sour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440" indent="-3434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availability of relevant sources of information can also be of considerable advantage, e.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9040" indent="-19152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terial safety data sheets (MSD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9040" indent="-19152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nufacturers' labell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9040" indent="-19152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gulatory documen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9040" indent="-19152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ther published (e.g. national, company, trade association, technical) and unpublished sour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Assess the Health Risk(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04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essment = Subjective but informed decision on the level of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requi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0160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ll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0160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etent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essment is not the same as ‘measurement’ or ‘monitoring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asurements can contribute to an assess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0T12:17:15Z</dcterms:created>
  <dc:creator> Dr. Adrian A. Hirst</dc:creator>
  <dc:description/>
  <dc:language>en-US</dc:language>
  <cp:lastModifiedBy>McDonald</cp:lastModifiedBy>
  <dcterms:modified xsi:type="dcterms:W3CDTF">2010-10-19T17:05:06Z</dcterms:modified>
  <cp:revision>26</cp:revision>
  <dc:subject/>
  <dc:title>BASIC PRINCIPLES IN OCCUPATIONAL HYGIEN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rder">
    <vt:lpwstr>32470400.0000000</vt:lpwstr>
  </property>
  <property fmtid="{D5CDD505-2E9C-101B-9397-08002B2CF9AE}" pid="3" name="display_urn:schemas-microsoft-com:office:office#Author">
    <vt:lpwstr>Simon Festing</vt:lpwstr>
  </property>
  <property fmtid="{D5CDD505-2E9C-101B-9397-08002B2CF9AE}" pid="4" name="display_urn:schemas-microsoft-com:office:office#Editor">
    <vt:lpwstr>Simon Festing</vt:lpwstr>
  </property>
</Properties>
</file>