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35B-002F-479F-9535-4DCE78F5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0746-5387-4682-A6CF-A67CA280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7DCF-05B9-460F-AE15-CF9D0D0C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D908-2F27-49AD-8679-526C0E27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F1D7-9143-45D3-8CBB-0275156C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441-0E00-4364-AFD0-9D82F03F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C8B6-2D49-43BB-AD1A-60723B6F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556F-385D-41D3-B6AA-05BEFD27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0F85-ACA2-4B74-99D2-A7FCD2D7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B9C2-ED34-4142-895C-0EDE64E9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0AE5-1EF7-4E33-AD67-8F08DE7D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1AF-F858-4A85-9AEA-ECFE588D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54E6-B79C-4C4C-A485-8869FB032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0/SMAW_weld_area.svg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c/GTAW.svg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2/US_Navy_030311-N-4154B-507_Hull_Maintenance_Technician_2nd_Class_Israel_Colon_and_Hull_Maintenance_Technician_Fireman_John_Tuggle_sand_a_piece_of_wood_in_the_carpentry_shop_aboard_USS_Theodore_Roosevelt_%28CVN_71%29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upload.wikimedia.org/wikipedia/commons/7/73/Glue_couting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flickr.com/photos/flexpro/3498361115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8/Child_coal_miners_%281908%29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9/Delabole_slate_quarry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pload.wikimedia.org/wikipedia/commons/6/65/Quarry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upload.wikimedia.org/wikipedia/commons/8/80/Airwelding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upload.wikimedia.org/wikipedia/commons/9/94/SMAW.welding.af.ncs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4 - EXAMPLES OF HAZARDOUS SUBSTANCES/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NUAL METAL ARC WEL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File:SMAW weld are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84200" y="1600200"/>
            <a:ext cx="6373800" cy="4525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3419640" y="6308640"/>
            <a:ext cx="2592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urce: Wikimedia Comm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IG WEL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File:GTAW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95520" y="2195640"/>
            <a:ext cx="5952960" cy="33336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3419640" y="6308640"/>
            <a:ext cx="2592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urce: Wikimedia Comm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AMPLES OF HAZARDOUS SUBSTANCES/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0788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12618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socyanates can be liquids or solids at room temperature and are mainly used in the production of polyurethanes, foams, adhesives, varnishes and pai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y are irritating to the skin and mucous membranes. However, the most serious problems associated with exposure to isocyanates are those affecting the </a:t>
            </a:r>
            <a:r>
              <a:rPr b="1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respiratory system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Isocyanates are widely recognised as one of the commonest causes of </a:t>
            </a:r>
            <a:r>
              <a:rPr b="1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occupational asthma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After varying exposure to isocyanates workers may respond to extremely low concentrations and this is known as </a:t>
            </a:r>
            <a:r>
              <a:rPr b="1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sensitisation.</a:t>
            </a:r>
            <a:r>
              <a:rPr b="0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socyan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Kevin Spraying"/>
          <p:cNvPicPr/>
          <p:nvPr/>
        </p:nvPicPr>
        <p:blipFill>
          <a:blip r:embed="rId1"/>
          <a:stretch/>
        </p:blipFill>
        <p:spPr>
          <a:xfrm>
            <a:off x="1906560" y="1268280"/>
            <a:ext cx="5689800" cy="42674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971640" y="5589720"/>
            <a:ext cx="77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osure to Isocyanates as well as solvent vapours during paint spr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6156360" y="5157720"/>
            <a:ext cx="14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ource: H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OOD D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File:US Navy 030311-N-4154B-507 Hull Maintenance Technician 2nd Class Israel Colon and Hull Maintenance Technician Fireman John Tuggle sand a piece of wood in the carpentry shop aboard USS Theodore Roosevelt (CVN 71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1640" y="1917720"/>
            <a:ext cx="4248360" cy="3030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File:Glue coutin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56320" y="191628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108000" y="4941720"/>
            <a:ext cx="460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nding of wood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reat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4751280" y="4941720"/>
            <a:ext cx="421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Gluing of wood vene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4680000" y="4653000"/>
            <a:ext cx="2592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ource: Wikimedia Comm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358920" y="4653000"/>
            <a:ext cx="2592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urce: Wikimedia Comm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OOD D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od dust is produced whenever the machining or cutting of wood takes p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azards associated with wood dusts are mainly from inhalation and skin conta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s rise to many different symptoms, the nature of which depends on the quantity, and composition of the w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mat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junctival irr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rritation of the upper respiratory 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rn over the progression of the nasal irritation into nasal cancer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 compou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ly in the form of dusts but some liquids/sol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rgic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amin de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gal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lyce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quiliz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684360" y="5373720"/>
            <a:ext cx="413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der is fed through an open chute into a tablet pres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4859280" y="5373720"/>
            <a:ext cx="460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al feeding of powd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drum to open mixer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108000" y="1052640"/>
            <a:ext cx="5024160" cy="4320360"/>
            <a:chOff x="108000" y="1052640"/>
            <a:chExt cx="5024160" cy="4320360"/>
          </a:xfrm>
        </p:grpSpPr>
        <p:pic>
          <p:nvPicPr>
            <p:cNvPr id="104" name="Picture 6" descr="Tablet Press with Pharmaceutical Dust 2 by steve_baileyx2."/>
            <p:cNvPicPr/>
            <p:nvPr/>
          </p:nvPicPr>
          <p:blipFill>
            <a:blip r:embed="rId1"/>
            <a:stretch/>
          </p:blipFill>
          <p:spPr>
            <a:xfrm>
              <a:off x="477720" y="1052640"/>
              <a:ext cx="4654440" cy="428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13"/>
            <p:cNvSpPr/>
            <p:nvPr/>
          </p:nvSpPr>
          <p:spPr>
            <a:xfrm>
              <a:off x="108000" y="5054040"/>
              <a:ext cx="26604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Source: Steve Bail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5"/>
          <p:cNvGrpSpPr/>
          <p:nvPr/>
        </p:nvGrpSpPr>
        <p:grpSpPr>
          <a:xfrm>
            <a:off x="5435640" y="1052640"/>
            <a:ext cx="3096720" cy="4320720"/>
            <a:chOff x="5435640" y="1052640"/>
            <a:chExt cx="3096720" cy="4320720"/>
          </a:xfrm>
        </p:grpSpPr>
        <p:pic>
          <p:nvPicPr>
            <p:cNvPr id="107" name="Picture 9" descr="Feeding Mixer from Drum 1 by steve_baileyx2."/>
            <p:cNvPicPr/>
            <p:nvPr/>
          </p:nvPicPr>
          <p:blipFill>
            <a:blip r:embed="rId2"/>
            <a:stretch/>
          </p:blipFill>
          <p:spPr>
            <a:xfrm>
              <a:off x="5578200" y="1052640"/>
              <a:ext cx="2954160" cy="42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14"/>
            <p:cNvSpPr/>
            <p:nvPr/>
          </p:nvSpPr>
          <p:spPr>
            <a:xfrm>
              <a:off x="5435640" y="5091120"/>
              <a:ext cx="20678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Source: Steve Bail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Powdered Material being Charged by steve_baileyx2."/>
          <p:cNvPicPr/>
          <p:nvPr/>
        </p:nvPicPr>
        <p:blipFill>
          <a:blip r:embed="rId1"/>
          <a:stretch/>
        </p:blipFill>
        <p:spPr>
          <a:xfrm>
            <a:off x="1547640" y="1413000"/>
            <a:ext cx="5832720" cy="38271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395280" y="5589720"/>
            <a:ext cx="8532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lastic sack of powdered material about to be charged to a reactor through a hopper inserted in the port.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187280" y="4941720"/>
            <a:ext cx="25927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ource: Steve Bai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etroleum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ubricating Oil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rri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fatting of S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halation of oil mists and vapours may cause irritation of the eyes, nose and thro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st formulations contain chemical additives of variable composition with different hazardous prope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aso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kin irri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fatting of S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xic additives e.g. tetraethyl le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as oils, fuel o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kin irri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nz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fatting of Sk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rmatitis on repeated expo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rvous system de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eated exposure damages blo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longed exposure to high concentrations cause a type of leukaemia (cancer of the bloo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I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6040" indent="-446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ystalline silica or quartz (Si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is the most widely occurring of all minerals and it is found in most roc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d on be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halation can give rise to silicosis = Pulmonary fibr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-345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st concentration in the atmospher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-345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centage of free silica in the dust,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000" indent="-345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ation of expos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lica is encountered during many processes which use minerals e.g. quarrying and mining, brick, tile and refractory manufacture, pottery and ceramic, sandblasting, Glass manufa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etroleum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Dispensing Lubricants by steve_baileyx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268280"/>
            <a:ext cx="6192720" cy="42721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2195640" y="5454720"/>
            <a:ext cx="460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ubricating 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187280" y="5229360"/>
            <a:ext cx="259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ource: Steve Bai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etroleum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3496140561_87313538eb"/>
          <p:cNvPicPr/>
          <p:nvPr/>
        </p:nvPicPr>
        <p:blipFill>
          <a:blip r:embed="rId1"/>
          <a:stretch/>
        </p:blipFill>
        <p:spPr>
          <a:xfrm>
            <a:off x="971640" y="1125360"/>
            <a:ext cx="7127640" cy="4632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1"/>
          <p:cNvSpPr/>
          <p:nvPr/>
        </p:nvSpPr>
        <p:spPr>
          <a:xfrm>
            <a:off x="1979640" y="5589720"/>
            <a:ext cx="540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ker delivery of volatile sol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755640" y="5445000"/>
            <a:ext cx="2592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ource: Steve Bai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ining – Mineral &amp; Metal Ext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ng of coal, metal ores and other minerals is undertaken extensively around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ly mine workers have suffered higher incidences of ill health than workers in other heavy industry se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47400" indent="-452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eumocon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47400" indent="-452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ys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ining – Mineral &amp; Metal Ext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File:Child coal miners (1908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639800"/>
            <a:ext cx="4176720" cy="2979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File:Coal Miner.JPG"/>
          <p:cNvPicPr/>
          <p:nvPr/>
        </p:nvPicPr>
        <p:blipFill>
          <a:blip r:embed="rId3"/>
          <a:stretch/>
        </p:blipFill>
        <p:spPr>
          <a:xfrm>
            <a:off x="4468680" y="1628640"/>
            <a:ext cx="4496040" cy="29908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1"/>
          <p:cNvSpPr/>
          <p:nvPr/>
        </p:nvSpPr>
        <p:spPr>
          <a:xfrm>
            <a:off x="4714200" y="470772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l miner in Xingtai, China 200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541440" y="4691520"/>
            <a:ext cx="35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ld coal miners - drivers and mules USA 19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56196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ining – Mineral &amp; Metal Ex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Minerals Present Different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ining – Mineral &amp; Metal Ext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ile:Chino copper mine.jpg"/>
          <p:cNvPicPr/>
          <p:nvPr/>
        </p:nvPicPr>
        <p:blipFill>
          <a:blip r:embed="rId1"/>
          <a:stretch/>
        </p:blipFill>
        <p:spPr>
          <a:xfrm>
            <a:off x="250920" y="1628640"/>
            <a:ext cx="4319640" cy="32403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285840" y="4982040"/>
            <a:ext cx="431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-pit copper mine New Mex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4535640" y="5118480"/>
            <a:ext cx="43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ddington Gold Mine, Western Austral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File:Boddington Gold Mine 11.jpg"/>
          <p:cNvPicPr/>
          <p:nvPr/>
        </p:nvPicPr>
        <p:blipFill>
          <a:blip r:embed="rId2"/>
          <a:stretch/>
        </p:blipFill>
        <p:spPr>
          <a:xfrm>
            <a:off x="4678200" y="1628640"/>
            <a:ext cx="428472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tal Use and Ref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DSCN0843"/>
          <p:cNvPicPr/>
          <p:nvPr/>
        </p:nvPicPr>
        <p:blipFill>
          <a:blip r:embed="rId1"/>
          <a:stretch/>
        </p:blipFill>
        <p:spPr>
          <a:xfrm>
            <a:off x="1547640" y="119700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1187280" y="5589720"/>
            <a:ext cx="259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ource: Adrian H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68360" y="6093000"/>
            <a:ext cx="77756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3716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sting of Bronze containing Copper and 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tal Use and Ref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7280" y="907920"/>
            <a:ext cx="50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95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>
              <a:lnSpc>
                <a:spcPct val="105000"/>
              </a:lnSpc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gsten Carbide Tool containing Cob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>
              <a:lnSpc>
                <a:spcPct val="105000"/>
              </a:lnSpc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ols formed by Sintering Powdered m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>
              <a:lnSpc>
                <a:spcPct val="105000"/>
              </a:lnSpc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sure can occur during manufacture or sharpening of the t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File:Hinge35.jpg"/>
          <p:cNvPicPr/>
          <p:nvPr/>
        </p:nvPicPr>
        <p:blipFill>
          <a:blip r:embed="rId1"/>
          <a:stretch/>
        </p:blipFill>
        <p:spPr>
          <a:xfrm>
            <a:off x="539640" y="1557360"/>
            <a:ext cx="34052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hrom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6040" indent="-44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el-grey, hard metal element, which will take on a high lust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oying and Electropl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capable of having a number of valent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4680" indent="-371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zards dependant on compound it fo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4680" indent="-371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rmal irritation, ulceration and allergic dermatit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4680" indent="-371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lmonary irrita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4680" indent="-371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sal septum perfora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4680" indent="-371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hrom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5"/>
          <p:cNvGrpSpPr/>
          <p:nvPr/>
        </p:nvGrpSpPr>
        <p:grpSpPr>
          <a:xfrm>
            <a:off x="108000" y="1125360"/>
            <a:ext cx="5364000" cy="3598920"/>
            <a:chOff x="108000" y="1125360"/>
            <a:chExt cx="5364000" cy="3598920"/>
          </a:xfrm>
        </p:grpSpPr>
        <p:pic>
          <p:nvPicPr>
            <p:cNvPr id="148" name="Picture 6" descr="Electroplating Bath with Detergent Foam by steve_baileyx2."/>
            <p:cNvPicPr/>
            <p:nvPr/>
          </p:nvPicPr>
          <p:blipFill>
            <a:blip r:embed="rId1"/>
            <a:stretch/>
          </p:blipFill>
          <p:spPr>
            <a:xfrm>
              <a:off x="108000" y="1125360"/>
              <a:ext cx="5364000" cy="35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8"/>
            <p:cNvSpPr/>
            <p:nvPr/>
          </p:nvSpPr>
          <p:spPr>
            <a:xfrm>
              <a:off x="108000" y="4437000"/>
              <a:ext cx="2592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Source: Steve Bail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4"/>
          <p:cNvGrpSpPr/>
          <p:nvPr/>
        </p:nvGrpSpPr>
        <p:grpSpPr>
          <a:xfrm>
            <a:off x="3924360" y="3384720"/>
            <a:ext cx="5111640" cy="3357360"/>
            <a:chOff x="3924360" y="3384720"/>
            <a:chExt cx="5111640" cy="3357360"/>
          </a:xfrm>
        </p:grpSpPr>
        <p:pic>
          <p:nvPicPr>
            <p:cNvPr id="151" name="Picture 10" descr="Electroplating Tanks with Ventilation by steve_baileyx2."/>
            <p:cNvPicPr/>
            <p:nvPr/>
          </p:nvPicPr>
          <p:blipFill>
            <a:blip r:embed="rId2"/>
            <a:stretch/>
          </p:blipFill>
          <p:spPr>
            <a:xfrm>
              <a:off x="3924360" y="3384720"/>
              <a:ext cx="5111640" cy="33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Rectangle 12"/>
            <p:cNvSpPr/>
            <p:nvPr/>
          </p:nvSpPr>
          <p:spPr>
            <a:xfrm>
              <a:off x="3982680" y="6520680"/>
              <a:ext cx="2127600" cy="2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Source: Steve Bail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3"/>
          <p:cNvSpPr/>
          <p:nvPr/>
        </p:nvSpPr>
        <p:spPr>
          <a:xfrm>
            <a:off x="179280" y="4867920"/>
            <a:ext cx="37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plating T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I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755640" y="4807080"/>
            <a:ext cx="777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lica released during stone cutt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4643280" y="1782720"/>
            <a:ext cx="4105440" cy="3097080"/>
            <a:chOff x="4643280" y="1782720"/>
            <a:chExt cx="4105440" cy="3097080"/>
          </a:xfrm>
        </p:grpSpPr>
        <p:pic>
          <p:nvPicPr>
            <p:cNvPr id="48" name="Picture 5" descr="Novel use of LEV Receptor Hood    "/>
            <p:cNvPicPr/>
            <p:nvPr/>
          </p:nvPicPr>
          <p:blipFill>
            <a:blip r:embed="rId1"/>
            <a:stretch/>
          </p:blipFill>
          <p:spPr>
            <a:xfrm>
              <a:off x="4643280" y="1782720"/>
              <a:ext cx="410544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Rectangle 7"/>
            <p:cNvSpPr/>
            <p:nvPr/>
          </p:nvSpPr>
          <p:spPr>
            <a:xfrm>
              <a:off x="7284600" y="4624200"/>
              <a:ext cx="14637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ource: H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4" descr="Disc cutting photo"/>
          <p:cNvPicPr/>
          <p:nvPr/>
        </p:nvPicPr>
        <p:blipFill>
          <a:blip r:embed="rId2"/>
          <a:stretch/>
        </p:blipFill>
        <p:spPr>
          <a:xfrm>
            <a:off x="465120" y="1782720"/>
            <a:ext cx="4106880" cy="3097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324000" y="4568760"/>
            <a:ext cx="154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ource: H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ft malleable metal with good anticorrosive propert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d extensively in the construction industry as well as in the production of batteries, bullets and weigh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s various compounds are tox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7520" indent="-269280">
              <a:lnSpc>
                <a:spcPct val="12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ute effects are rare, as lead is mainly a cumulative chronic po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37520" indent="-269280">
              <a:lnSpc>
                <a:spcPct val="12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 organo lead compounds can be quickly absorbed through the skin and affect the brain causing death in some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37520" indent="-269280">
              <a:lnSpc>
                <a:spcPct val="12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ronic effects are observed with the slow accumulation of lead in the body often being deposited in the b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37520" indent="-269280">
              <a:lnSpc>
                <a:spcPct val="12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ronic effects range from stomach pains to lethargy and anaemia, ultimately causing dea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37520" indent="-269280">
              <a:lnSpc>
                <a:spcPct val="12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can give rise to brain damage especially to the young and unbo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609480" y="6020280"/>
            <a:ext cx="79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ycling lead in a lead-acid battery recovery fac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0"/>
          <p:cNvGrpSpPr/>
          <p:nvPr/>
        </p:nvGrpSpPr>
        <p:grpSpPr>
          <a:xfrm>
            <a:off x="826920" y="1344600"/>
            <a:ext cx="7273800" cy="4532040"/>
            <a:chOff x="826920" y="1344600"/>
            <a:chExt cx="7273800" cy="4532040"/>
          </a:xfrm>
        </p:grpSpPr>
        <p:pic>
          <p:nvPicPr>
            <p:cNvPr id="159" name="Picture 6" descr="File:Recycling lead in a lead-acid battery recovery facility.jpg"/>
            <p:cNvPicPr/>
            <p:nvPr/>
          </p:nvPicPr>
          <p:blipFill>
            <a:blip r:embed="rId1"/>
            <a:stretch/>
          </p:blipFill>
          <p:spPr>
            <a:xfrm>
              <a:off x="897840" y="1344600"/>
              <a:ext cx="7202880" cy="451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Rectangle 9"/>
            <p:cNvSpPr/>
            <p:nvPr/>
          </p:nvSpPr>
          <p:spPr>
            <a:xfrm>
              <a:off x="826920" y="5606640"/>
              <a:ext cx="25178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Source: Wikimedia Comm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AMPLES OF HAZARDOUS SUBSTANCES/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811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re are numerous substances that are Hazardous to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can be Used in a wide variety of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order to take any action with regards to Hazardous substances it is first necessary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74760" indent="-4716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derstand the Industri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74760" indent="-4716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derstand the hazards associated with the materials used/gene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I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File:Delabole slate quarr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9400" y="1644480"/>
            <a:ext cx="3394080" cy="4526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4500720" y="1422360"/>
            <a:ext cx="421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lica released during Quarry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File:Quarr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314172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755640" y="1628640"/>
            <a:ext cx="2592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urce: Wikimedia Comm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4643280" y="5877000"/>
            <a:ext cx="259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ource: Wikimedia Comm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ACHINE MADE MINERAL FIBRE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MMM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chine Made Mineral  Fibres (MMMF) inclu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amic fibers, special purpose fibers and continuous filament fib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terial is normally made from molten glass, rock or sla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terial exhibits good resistance to heat and chemicals and can be wov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use irritations of the skin and eyes, and that at excessively dusty conditions they lead to irritation of the upper respiratory tra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le most skin becomes resistant after a transitory period, some people need to take precautions to protect their skin and a small number need to move to other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ies in which non-asbestos mineral fibres were implanted into the chests of laboratory animals have shown that mesothelioma tumours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halation studies on animals have not led to clinically significant fibro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ACHINE MADE MINERAL FIBRE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MMM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539640" y="4724280"/>
            <a:ext cx="777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lica released during the relining of a Ki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Furnace Lining with MMMF 3 by steve_baileyx2."/>
          <p:cNvPicPr/>
          <p:nvPr/>
        </p:nvPicPr>
        <p:blipFill>
          <a:blip r:embed="rId1"/>
          <a:stretch/>
        </p:blipFill>
        <p:spPr>
          <a:xfrm>
            <a:off x="268200" y="1927080"/>
            <a:ext cx="4291200" cy="2735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6"/>
          <p:cNvSpPr/>
          <p:nvPr/>
        </p:nvSpPr>
        <p:spPr>
          <a:xfrm>
            <a:off x="-1440" y="4365720"/>
            <a:ext cx="2341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ource: Steve Bai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Furnace Lining with MMMF 1 by steve_baileyx2."/>
          <p:cNvPicPr/>
          <p:nvPr/>
        </p:nvPicPr>
        <p:blipFill>
          <a:blip r:embed="rId2"/>
          <a:stretch/>
        </p:blipFill>
        <p:spPr>
          <a:xfrm>
            <a:off x="4610160" y="1927080"/>
            <a:ext cx="4308480" cy="27370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7"/>
          <p:cNvSpPr/>
          <p:nvPr/>
        </p:nvSpPr>
        <p:spPr>
          <a:xfrm>
            <a:off x="4473720" y="4365720"/>
            <a:ext cx="2330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ource: Steve Bai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EL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US_Navy_040225-N-8213G-058_Hull_Technician_3rd_Class_Casey_Caudill%2C_of_Priest_River%2C_Idaho%2C_practices_different_welding_techniques_to_improve_his_skills_aboard_USS_Ronald_Reagan_%28CVN_76%29"/>
          <p:cNvPicPr/>
          <p:nvPr/>
        </p:nvPicPr>
        <p:blipFill>
          <a:blip r:embed="rId1"/>
          <a:stretch/>
        </p:blipFill>
        <p:spPr>
          <a:xfrm>
            <a:off x="4943520" y="2060640"/>
            <a:ext cx="4021200" cy="2952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4"/>
          <p:cNvSpPr/>
          <p:nvPr/>
        </p:nvSpPr>
        <p:spPr>
          <a:xfrm>
            <a:off x="4643280" y="4653000"/>
            <a:ext cx="2656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e: Wikimedia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File:Airwelding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68600" y="2060640"/>
            <a:ext cx="2290680" cy="2952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5"/>
          <p:cNvSpPr/>
          <p:nvPr/>
        </p:nvSpPr>
        <p:spPr>
          <a:xfrm>
            <a:off x="2627280" y="4653000"/>
            <a:ext cx="21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e: Wikimedia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File:SMAW.welding.af.nc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8000" y="2060640"/>
            <a:ext cx="2376360" cy="2952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6"/>
          <p:cNvSpPr/>
          <p:nvPr/>
        </p:nvSpPr>
        <p:spPr>
          <a:xfrm>
            <a:off x="250920" y="4653000"/>
            <a:ext cx="208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Source: Wikimedia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ELDING F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xtures of airborne gases and fine p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egree of risk will depend on: the composition of the fume, the quantity of fume in the air which is breathed, the duration of exp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ELDING F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ain health effect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itation of the Respiratory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al Fume F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ic Poi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Term or Chronic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17:15Z</dcterms:created>
  <dc:creator> Dr. Adrian A. Hirst</dc:creator>
  <dc:description/>
  <dc:language>en-US</dc:language>
  <cp:lastModifiedBy>McDonald</cp:lastModifiedBy>
  <dcterms:modified xsi:type="dcterms:W3CDTF">2010-10-19T17:03:35Z</dcterms:modified>
  <cp:revision>34</cp:revision>
  <dc:subject/>
  <dc:title>BASIC PRINCIPLES IN OCCUPATIONAL HYGIE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4702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