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97B-7321-4DA7-B66A-D87A359D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62B-99F3-49EE-87C3-98B4DCD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316-1EFD-471C-AE19-EA95D1DC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E41-410D-405C-AFCC-D0FFA9BE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1CD-1A1D-4F47-84EB-1ECB319F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F29-0C19-48CA-8105-BB50313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E0B-226A-405B-BE30-03C136E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294-BB11-4F97-8ABD-2F51620A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422-577C-46B0-AF30-CF6883A8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272-2FF1-4DBF-A81C-03948C0A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19D-D655-4184-AE23-CA67FA77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676-A059-427C-B993-32CC0583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8748-A76D-493A-9F03-9611D7103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 -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ubstances have entered the body they can distributed around the body through the blood supp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 concentrate differentially in the org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s which are distributed through the body then tend to be metaboli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site of metabolism is the liver, although the kidneys, lungs and skin can metabolise some chemic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 can convert a toxic substance to a non-toxic one and vice ve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akes place v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u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stric juic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st mil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kin (ir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re rapidly excretion takes place the less likely is a toxin to damage the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products are often used to monitor work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35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ch of the work involved in accessing workplace hazards can be carried out by accessing Materials Safety Data Sheets (MSDS), sometimes also called Safety Data Sheets (SDS). The MSDS is a standard way of communicating toxicology and other relevant information about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any countries it is a legal requirement or common practice that a company supplies an MSDS for each of the products that they s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88424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ition/Data on component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s gives details of the different chemicals contained within the material. It will often list the Chemical Abstracts Service (CAS) number for each chemical is contains. The CAS number is a unique number which is assigned to most of the  chemicals used in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ification of substanc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s includes the trade name, as well as manufacturer/supplier details. It may also give emergency information such as contact names and telephone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9640" y="1484280"/>
            <a:ext cx="828036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SDS will vary depending upon local legislative requirements but is likely to contain the following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604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zards identific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material will be classified under a number of categories and described with pic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st aid meas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dvice about how to deal with workers who have been exposed under different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re fighting meas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s and don’ts of fire extinguishing e.g. what type of fire extinguisher to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cidental release measur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procedures to be followed in case of accidental release of the chemical, including methods to be used to clean up sp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6040" indent="-268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ndling and storage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iving information on the precautions such as flammables cabinets and temperature limi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osure controls and personal protec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utlines requirements such as Personal Protective Equipment and venti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al and chemical properti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.g. the form (solid/liquid/gas), colour, odour, melting and boiling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bility and reactivit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perties such as thermal decomposition and conditions to b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xicological inform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tails such as acute and chromic effects on man and an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logical information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w the material might affect the environment if it is released beyond the work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5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posal consideration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y special requirements associated with disposal of the mate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terial Safety Data She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431640">
              <a:lnSpc>
                <a:spcPct val="125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port informa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nerally as a list of codes indicating the dangers associated with the chem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431640">
              <a:lnSpc>
                <a:spcPct val="125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ulatio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levant legislation for the country in which the material is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431640">
              <a:lnSpc>
                <a:spcPct val="125000"/>
              </a:lnSpc>
              <a:spcBef>
                <a:spcPts val="37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informatio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y information which is relev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14240" indent="-3553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xicology is the study of the adverse effects of substances on living organi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3553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storically toxicology was the art and science of poiso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14240" indent="-35532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oday a discipline which makes use of information developed by a wide range of chemical, physical, biological and medical sciences in order to predict the likely adverse effects on man of an ever‑increasing range of substances to which he is ex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0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oxic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innate ability of substances to injur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azard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prediction of the toxic effects that will be evident under defined conditions of expo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isk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e prediction of the probability that defined toxic effects will occur under defined conditions of exposure in a single person or a defined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 u="sng">
                <a:solidFill>
                  <a:srgbClr val="000000"/>
                </a:solidFill>
                <a:uFillTx/>
                <a:latin typeface="Arial"/>
              </a:rPr>
              <a:t>Substance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covers a wide range of materials including single chemical compounds or mixtures of these, simple or complex naturally occurring or synthetically produced substances and micro‑organism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ubstances may be chemically pure or contain additives or impurities and may be in the form of solids, liquids, gases, dusts, fibres, fumes or aerosol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ome (e.g. fumes, dusts and aerosols) may be difficult to identif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y may be materials used or which arise during maintenance or repair of plants or buildings or they may be formed or used during research, development or test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2" marL="358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"All substances are poisons, there is none which is not a poison. The right dose differentiates a poison and a remedy"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Paracelsus (152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5000"/>
              </a:lnSpc>
              <a:spcBef>
                <a:spcPts val="12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oxic effects of a substance depend up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physical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oute of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absorption, distribution, metabolism and ex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16000" y="1600200"/>
          <a:ext cx="7343640" cy="4579920"/>
        </p:xfrm>
        <a:graphic>
          <a:graphicData uri="http://schemas.openxmlformats.org/drawingml/2006/table">
            <a:tbl>
              <a:tblPr/>
              <a:tblGrid>
                <a:gridCol w="1943280"/>
                <a:gridCol w="54003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ground or crushed, dusts result and can be inhaled, ingested or contaminate the sk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qu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swallowed or contaminate the sk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swallowed or contaminate the sk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p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ros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3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se  =  Exposure  x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00000" y="1628640"/>
            <a:ext cx="763272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se is the product of concentration of the substance and duration of exposure to it. In simple terms it may be describ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00000" y="386064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 in industrial circumstances both the exposure and time can vary greatly. For example, a very high concentration for a short time may be lethal (e.g. alcohol) while prolonged exposure to smaller amounts does little harm. The dose is the same in both c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. FUNDAMENTALS OF TOXI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13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es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gestion is the least significant route of entry in industry while in environmental toxicology it is the m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lung there are no similar mechanisms for selective uptake. Particles less than 10 micron in diameter may reach the alveoli. If soluble, approximately 40% are then absorbed. Inhalation accounts for 90% or so of industrial poi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k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kin there is again no selective uptake. Fat-soluble compounds are absorbed readily as are organic sol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37560" y="1484280"/>
            <a:ext cx="4722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oute of entry /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17:15Z</dcterms:created>
  <dc:creator> Dr. Adrian A. Hirst</dc:creator>
  <dc:description/>
  <dc:language>en-US</dc:language>
  <cp:lastModifiedBy>McDonald</cp:lastModifiedBy>
  <dcterms:modified xsi:type="dcterms:W3CDTF">2010-10-19T17:01:58Z</dcterms:modified>
  <cp:revision>13</cp:revision>
  <dc:subject/>
  <dc:title>BASIC PRINCIPLES IN OCCUPATIONAL HYGIE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470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